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12E-34EB-49E4-AB4F-3DDE1EB7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3E9-5707-4BE0-9CAC-99966487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77B-143E-49EB-AC0B-EA712136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F2E-9B3E-43FD-B612-9C500464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2E4-A35E-4806-A512-E3112822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CCA-2881-4C31-B871-D3C8A5C5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3E1-A908-495B-9F24-4D306A1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556-D428-40F8-8233-89EADA9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E6D-5E74-4BDD-B8B7-3FA0D51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438-2558-4545-A31E-A4BFAA9E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127-E786-440E-BE31-AB2C89F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882-1B59-4D62-BE67-55DF525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0354-BCDE-42CB-9384-003AAC36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216480"/>
            <a:ext cx="2590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abre 2004 d’après Ortscheit, Fournet, 19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50080"/>
            <a:ext cx="50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yenne de 10 parcelles,  pH moyen : 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s : coefficient de percolation en milieu satu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948360" y="1989000"/>
            <a:ext cx="1881000" cy="782640"/>
            <a:chOff x="6948360" y="1989000"/>
            <a:chExt cx="1881000" cy="782640"/>
          </a:xfrm>
        </p:grpSpPr>
        <p:sp>
          <p:nvSpPr>
            <p:cNvPr id="44" name=""/>
            <p:cNvSpPr/>
            <p:nvPr/>
          </p:nvSpPr>
          <p:spPr>
            <a:xfrm>
              <a:off x="6948360" y="1989000"/>
              <a:ext cx="1881000" cy="782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40160" y="2212920"/>
              <a:ext cx="5032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27720" y="21574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0"/>
                  </a:moveTo>
                  <a:lnTo>
                    <a:pt x="70" y="35"/>
                  </a:lnTo>
                  <a:lnTo>
                    <a:pt x="35" y="70"/>
                  </a:lnTo>
                  <a:lnTo>
                    <a:pt x="0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9240" y="2044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40160" y="2603520"/>
              <a:ext cx="50328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7720" y="2547720"/>
              <a:ext cx="91800" cy="92160"/>
            </a:xfrm>
            <a:prstGeom prst="rect">
              <a:avLst/>
            </a:prstGeom>
            <a:solidFill>
              <a:srgbClr val="ff00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01040" y="2435040"/>
              <a:ext cx="1178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000 U.V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8320" y="1125360"/>
            <a:ext cx="7317720" cy="4399200"/>
            <a:chOff x="418320" y="1125360"/>
            <a:chExt cx="7317720" cy="4399200"/>
          </a:xfrm>
        </p:grpSpPr>
        <p:sp>
          <p:nvSpPr>
            <p:cNvPr id="52" name=""/>
            <p:cNvSpPr/>
            <p:nvPr/>
          </p:nvSpPr>
          <p:spPr>
            <a:xfrm>
              <a:off x="1504800" y="1816920"/>
              <a:ext cx="530856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04800" y="3720600"/>
              <a:ext cx="530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4800" y="3093120"/>
              <a:ext cx="53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33240" y="1828080"/>
              <a:ext cx="530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04800" y="1816920"/>
              <a:ext cx="1440" cy="31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25240" y="49968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25240" y="4369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25240" y="37206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25240" y="30931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5240" y="2444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25240" y="18169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504800" y="4996440"/>
              <a:ext cx="1440" cy="8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267360" y="4996440"/>
              <a:ext cx="1800" cy="8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050800" y="4996440"/>
              <a:ext cx="1440" cy="8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813720" y="4996440"/>
              <a:ext cx="1440" cy="8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96160" y="2855520"/>
              <a:ext cx="1762920" cy="973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59080" y="3829320"/>
              <a:ext cx="1762560" cy="647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6160" y="2119320"/>
              <a:ext cx="1762920" cy="9518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59080" y="3071520"/>
              <a:ext cx="1762560" cy="604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37120" y="2790720"/>
              <a:ext cx="117720" cy="129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0"/>
                  </a:moveTo>
                  <a:lnTo>
                    <a:pt x="70" y="35"/>
                  </a:lnTo>
                  <a:lnTo>
                    <a:pt x="35" y="70"/>
                  </a:lnTo>
                  <a:lnTo>
                    <a:pt x="0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00040" y="3763080"/>
              <a:ext cx="118080" cy="130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5" y="0"/>
                  </a:moveTo>
                  <a:lnTo>
                    <a:pt x="70" y="36"/>
                  </a:lnTo>
                  <a:lnTo>
                    <a:pt x="35" y="71"/>
                  </a:lnTo>
                  <a:lnTo>
                    <a:pt x="0" y="3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2960" y="4412160"/>
              <a:ext cx="118080" cy="13104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5" y="0"/>
                  </a:moveTo>
                  <a:lnTo>
                    <a:pt x="70" y="35"/>
                  </a:lnTo>
                  <a:lnTo>
                    <a:pt x="35" y="71"/>
                  </a:lnTo>
                  <a:lnTo>
                    <a:pt x="0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7120" y="2054880"/>
              <a:ext cx="97560" cy="108720"/>
            </a:xfrm>
            <a:prstGeom prst="rect">
              <a:avLst/>
            </a:prstGeom>
            <a:solidFill>
              <a:srgbClr val="ff00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0040" y="3006720"/>
              <a:ext cx="97920" cy="108720"/>
            </a:xfrm>
            <a:prstGeom prst="rect">
              <a:avLst/>
            </a:prstGeom>
            <a:solidFill>
              <a:srgbClr val="ff00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2960" y="3611880"/>
              <a:ext cx="97920" cy="108720"/>
            </a:xfrm>
            <a:prstGeom prst="rect">
              <a:avLst/>
            </a:prstGeom>
            <a:solidFill>
              <a:srgbClr val="ff00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7120" y="48236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9320" y="41961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67120" y="3547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49320" y="29199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67120" y="2270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9320" y="16434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,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0720" y="5234760"/>
              <a:ext cx="81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 heu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65520" y="5234760"/>
              <a:ext cx="93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 heu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28800" y="5234760"/>
              <a:ext cx="93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 heu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52400" y="4996800"/>
              <a:ext cx="683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uré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8320" y="1125360"/>
              <a:ext cx="1188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Ks cm</a:t>
              </a:r>
              <a:r>
                <a:rPr b="1" lang="fr-FR" sz="19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.h</a:t>
              </a:r>
              <a:r>
                <a:rPr b="1" lang="fr-FR" sz="19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33240" y="2412720"/>
              <a:ext cx="52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3240" y="4336920"/>
              <a:ext cx="52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33240" y="5006160"/>
              <a:ext cx="536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423080" y="3333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e la percolation après chau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2:58:35Z</dcterms:created>
  <dc:creator>_</dc:creator>
  <dc:description/>
  <dc:language>en-US</dc:language>
  <cp:lastModifiedBy>_</cp:lastModifiedBy>
  <dcterms:modified xsi:type="dcterms:W3CDTF">2006-03-13T09:28:36Z</dcterms:modified>
  <cp:revision>4</cp:revision>
  <dc:subject/>
  <dc:title>Diapositive 1</dc:title>
</cp:coreProperties>
</file>