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E7F-56C5-4AA5-8B8B-F7EEB4BE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FF4-5D2D-447A-94B6-06CF1589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777-BAA2-4E13-9F4D-EDA2FA10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19B-9163-4F13-A1AB-A7353C5A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7C1-605E-4159-9B58-C3A9F8A0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8CE-4BF7-4BC4-A8F9-11597BDD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E28-07A0-42E3-BFCE-2E0018EB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850F-6BCB-48CB-A99F-AE300095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AD6-AEA5-47DB-B9D1-114EC352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20C4-3131-464F-9D9F-51E9D1CC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EDF-9F60-426B-A388-D40FAF5E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A389-C68A-4BE5-B659-BA67D991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61CE-74ED-4033-908A-B1D9A89A5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02680" y="942840"/>
            <a:ext cx="8737560" cy="5904720"/>
            <a:chOff x="202680" y="942840"/>
            <a:chExt cx="8737560" cy="5904720"/>
          </a:xfrm>
        </p:grpSpPr>
        <p:sp>
          <p:nvSpPr>
            <p:cNvPr id="42" name=""/>
            <p:cNvSpPr/>
            <p:nvPr/>
          </p:nvSpPr>
          <p:spPr>
            <a:xfrm>
              <a:off x="417600" y="5638680"/>
              <a:ext cx="466560" cy="505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17600" y="5410080"/>
              <a:ext cx="466560" cy="257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17600" y="5334120"/>
              <a:ext cx="466560" cy="11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7600" y="5257800"/>
              <a:ext cx="466560" cy="74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7600" y="4114800"/>
              <a:ext cx="466560" cy="11732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1103400" y="2362320"/>
              <a:ext cx="418320" cy="3672720"/>
              <a:chOff x="1103400" y="2362320"/>
              <a:chExt cx="418320" cy="3672720"/>
            </a:xfrm>
          </p:grpSpPr>
          <p:sp>
            <p:nvSpPr>
              <p:cNvPr id="48" name=""/>
              <p:cNvSpPr/>
              <p:nvPr/>
            </p:nvSpPr>
            <p:spPr>
              <a:xfrm>
                <a:off x="1103400" y="2419560"/>
                <a:ext cx="104760" cy="104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265040" y="2362320"/>
                <a:ext cx="178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103400" y="3114720"/>
                <a:ext cx="104760" cy="10476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265400" y="30574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03400" y="3800520"/>
                <a:ext cx="104760" cy="106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65040" y="374328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03400" y="4497480"/>
                <a:ext cx="104760" cy="104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65400" y="44402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03400" y="5183280"/>
                <a:ext cx="104760" cy="104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65040" y="512604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03400" y="5878440"/>
                <a:ext cx="104760" cy="10476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265040" y="582156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1855800" y="2924280"/>
              <a:ext cx="384120" cy="3241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75200" y="1523880"/>
              <a:ext cx="579600" cy="1600200"/>
            </a:xfrm>
            <a:prstGeom prst="cube">
              <a:avLst>
                <a:gd name="adj" fmla="val 6406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55800" y="1197000"/>
              <a:ext cx="31932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7800" y="2924280"/>
              <a:ext cx="0" cy="32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043760" y="1676520"/>
              <a:ext cx="1197360" cy="28900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7475760" y="2233440"/>
              <a:ext cx="152280" cy="304920"/>
              <a:chOff x="7475760" y="2233440"/>
              <a:chExt cx="152280" cy="304920"/>
            </a:xfrm>
          </p:grpSpPr>
          <p:sp>
            <p:nvSpPr>
              <p:cNvPr id="66" name=""/>
              <p:cNvSpPr/>
              <p:nvPr/>
            </p:nvSpPr>
            <p:spPr>
              <a:xfrm>
                <a:off x="7475760" y="223344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28040" y="223344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475760" y="3048120"/>
              <a:ext cx="152280" cy="304560"/>
              <a:chOff x="7475760" y="3048120"/>
              <a:chExt cx="152280" cy="304560"/>
            </a:xfrm>
          </p:grpSpPr>
          <p:sp>
            <p:nvSpPr>
              <p:cNvPr id="69" name=""/>
              <p:cNvSpPr/>
              <p:nvPr/>
            </p:nvSpPr>
            <p:spPr>
              <a:xfrm>
                <a:off x="7475760" y="30481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28040" y="30481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7475760" y="3733920"/>
              <a:ext cx="152280" cy="304560"/>
              <a:chOff x="7475760" y="3733920"/>
              <a:chExt cx="152280" cy="304560"/>
            </a:xfrm>
          </p:grpSpPr>
          <p:sp>
            <p:nvSpPr>
              <p:cNvPr id="72" name=""/>
              <p:cNvSpPr/>
              <p:nvPr/>
            </p:nvSpPr>
            <p:spPr>
              <a:xfrm>
                <a:off x="7475760" y="37339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28040" y="37339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532400" y="1523880"/>
              <a:ext cx="2209680" cy="160020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Al)-silic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ir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argi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3472920" y="2397240"/>
              <a:ext cx="132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Oxyhydroxy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54160" y="94284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408880" y="1703520"/>
              <a:ext cx="322560" cy="40579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266320" y="4419720"/>
              <a:ext cx="60948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79920" y="1828800"/>
              <a:ext cx="7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3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92520" y="2592360"/>
              <a:ext cx="5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92520" y="3357720"/>
              <a:ext cx="7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92160" y="412272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02960" y="488808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02960" y="5653080"/>
              <a:ext cx="86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474640" y="2757600"/>
              <a:ext cx="304920" cy="152280"/>
              <a:chOff x="2474640" y="2757600"/>
              <a:chExt cx="304920" cy="15228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2474640" y="27576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474640" y="29098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474640" y="3535200"/>
              <a:ext cx="304920" cy="152280"/>
              <a:chOff x="2474640" y="3535200"/>
              <a:chExt cx="304920" cy="152280"/>
            </a:xfrm>
          </p:grpSpPr>
          <p:sp>
            <p:nvSpPr>
              <p:cNvPr id="89" name=""/>
              <p:cNvSpPr/>
              <p:nvPr/>
            </p:nvSpPr>
            <p:spPr>
              <a:xfrm flipH="1">
                <a:off x="2474640" y="35352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2474640" y="36874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474640" y="4311720"/>
              <a:ext cx="304920" cy="152280"/>
              <a:chOff x="2474640" y="4311720"/>
              <a:chExt cx="304920" cy="152280"/>
            </a:xfrm>
          </p:grpSpPr>
          <p:sp>
            <p:nvSpPr>
              <p:cNvPr id="92" name=""/>
              <p:cNvSpPr/>
              <p:nvPr/>
            </p:nvSpPr>
            <p:spPr>
              <a:xfrm flipH="1">
                <a:off x="2474640" y="431172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474640" y="44640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474640" y="5089680"/>
              <a:ext cx="304920" cy="152280"/>
              <a:chOff x="2474640" y="5089680"/>
              <a:chExt cx="304920" cy="152280"/>
            </a:xfrm>
          </p:grpSpPr>
          <p:sp>
            <p:nvSpPr>
              <p:cNvPr id="95" name=""/>
              <p:cNvSpPr/>
              <p:nvPr/>
            </p:nvSpPr>
            <p:spPr>
              <a:xfrm flipH="1">
                <a:off x="2474640" y="50896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2474640" y="52419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474640" y="5867280"/>
              <a:ext cx="304920" cy="152280"/>
              <a:chOff x="2474640" y="5867280"/>
              <a:chExt cx="304920" cy="15228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2474640" y="58672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2474640" y="60195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541320" y="1981080"/>
              <a:ext cx="304920" cy="152280"/>
              <a:chOff x="3541320" y="1981080"/>
              <a:chExt cx="304920" cy="152280"/>
            </a:xfrm>
          </p:grpSpPr>
          <p:sp>
            <p:nvSpPr>
              <p:cNvPr id="101" name=""/>
              <p:cNvSpPr/>
              <p:nvPr/>
            </p:nvSpPr>
            <p:spPr>
              <a:xfrm flipH="1">
                <a:off x="3541320" y="19810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3541320" y="2133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493440" y="3272760"/>
              <a:ext cx="1061280" cy="811080"/>
              <a:chOff x="3493440" y="3272760"/>
              <a:chExt cx="1061280" cy="811080"/>
            </a:xfrm>
          </p:grpSpPr>
          <p:sp>
            <p:nvSpPr>
              <p:cNvPr id="104" name=""/>
              <p:cNvSpPr/>
              <p:nvPr/>
            </p:nvSpPr>
            <p:spPr>
              <a:xfrm flipV="1">
                <a:off x="3608640" y="3443400"/>
                <a:ext cx="946080" cy="64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3493440" y="3272760"/>
                <a:ext cx="945720" cy="64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 flipH="1">
              <a:off x="7427520" y="3886200"/>
              <a:ext cx="381240" cy="5335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16760" y="3809880"/>
              <a:ext cx="826920" cy="82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99cc"/>
                  </a:solidFill>
                  <a:latin typeface="Arial"/>
                </a:rPr>
                <a:t>H</a:t>
              </a:r>
              <a:r>
                <a:rPr b="1" lang="en-US" sz="4800" spc="-1" strike="noStrike" baseline="30000">
                  <a:solidFill>
                    <a:srgbClr val="ff99cc"/>
                  </a:solidFill>
                  <a:latin typeface="Arial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94880" y="4572000"/>
              <a:ext cx="93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r>
                <a:rPr b="1" lang="fr-FR" sz="32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fr-FR" sz="3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97560" y="5105520"/>
              <a:ext cx="228600" cy="609480"/>
            </a:xfrm>
            <a:custGeom>
              <a:avLst/>
              <a:gdLst/>
              <a:ahLst/>
              <a:rect l="l" t="t" r="r" b="b"/>
              <a:pathLst>
                <a:path w="233" h="2267">
                  <a:moveTo>
                    <a:pt x="168" y="0"/>
                  </a:moveTo>
                  <a:cubicBezTo>
                    <a:pt x="109" y="41"/>
                    <a:pt x="64" y="97"/>
                    <a:pt x="24" y="156"/>
                  </a:cubicBezTo>
                  <a:cubicBezTo>
                    <a:pt x="0" y="246"/>
                    <a:pt x="22" y="344"/>
                    <a:pt x="68" y="422"/>
                  </a:cubicBezTo>
                  <a:cubicBezTo>
                    <a:pt x="80" y="442"/>
                    <a:pt x="96" y="460"/>
                    <a:pt x="112" y="478"/>
                  </a:cubicBezTo>
                  <a:cubicBezTo>
                    <a:pt x="129" y="498"/>
                    <a:pt x="168" y="534"/>
                    <a:pt x="168" y="534"/>
                  </a:cubicBezTo>
                  <a:cubicBezTo>
                    <a:pt x="184" y="583"/>
                    <a:pt x="206" y="629"/>
                    <a:pt x="224" y="678"/>
                  </a:cubicBezTo>
                  <a:cubicBezTo>
                    <a:pt x="219" y="760"/>
                    <a:pt x="233" y="847"/>
                    <a:pt x="201" y="922"/>
                  </a:cubicBezTo>
                  <a:cubicBezTo>
                    <a:pt x="197" y="932"/>
                    <a:pt x="185" y="936"/>
                    <a:pt x="179" y="945"/>
                  </a:cubicBezTo>
                  <a:cubicBezTo>
                    <a:pt x="134" y="1006"/>
                    <a:pt x="46" y="1111"/>
                    <a:pt x="24" y="1178"/>
                  </a:cubicBezTo>
                  <a:cubicBezTo>
                    <a:pt x="28" y="1256"/>
                    <a:pt x="22" y="1334"/>
                    <a:pt x="35" y="1411"/>
                  </a:cubicBezTo>
                  <a:cubicBezTo>
                    <a:pt x="38" y="1427"/>
                    <a:pt x="60" y="1431"/>
                    <a:pt x="68" y="1445"/>
                  </a:cubicBezTo>
                  <a:cubicBezTo>
                    <a:pt x="95" y="1493"/>
                    <a:pt x="84" y="1540"/>
                    <a:pt x="124" y="1578"/>
                  </a:cubicBezTo>
                  <a:cubicBezTo>
                    <a:pt x="128" y="1589"/>
                    <a:pt x="129" y="1601"/>
                    <a:pt x="135" y="1611"/>
                  </a:cubicBezTo>
                  <a:cubicBezTo>
                    <a:pt x="148" y="1634"/>
                    <a:pt x="179" y="1678"/>
                    <a:pt x="179" y="1678"/>
                  </a:cubicBezTo>
                  <a:cubicBezTo>
                    <a:pt x="185" y="1708"/>
                    <a:pt x="201" y="1736"/>
                    <a:pt x="201" y="1767"/>
                  </a:cubicBezTo>
                  <a:cubicBezTo>
                    <a:pt x="201" y="1846"/>
                    <a:pt x="175" y="1892"/>
                    <a:pt x="124" y="1945"/>
                  </a:cubicBezTo>
                  <a:cubicBezTo>
                    <a:pt x="79" y="2069"/>
                    <a:pt x="112" y="1966"/>
                    <a:pt x="112" y="2267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 rot="10968000">
              <a:off x="3699000" y="2971800"/>
              <a:ext cx="2287440" cy="1171440"/>
            </a:xfrm>
            <a:custGeom>
              <a:avLst/>
              <a:gdLst>
                <a:gd name="textAreaLeft" fmla="*/ 0 w 2287440"/>
                <a:gd name="textAreaRight" fmla="*/ 2287800 w 2287440"/>
                <a:gd name="textAreaTop" fmla="*/ 360 h 1171440"/>
                <a:gd name="textAreaBottom" fmla="*/ 117216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122" y="11583"/>
                  </a:moveTo>
                  <a:arcTo wR="-7718" hR="-7718" stAng="10450672" swAng="-12499215"/>
                  <a:lnTo>
                    <a:pt x="1861" y="16862"/>
                  </a:lnTo>
                  <a:arcTo wR="10800" hR="10800" stAng="8751457" swAng="12499215"/>
                  <a:lnTo>
                    <a:pt x="24230" y="9431"/>
                  </a:lnTo>
                  <a:lnTo>
                    <a:pt x="20441" y="14080"/>
                  </a:lnTo>
                  <a:lnTo>
                    <a:pt x="15792" y="10291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94320" y="5181480"/>
              <a:ext cx="228600" cy="609840"/>
            </a:xfrm>
            <a:custGeom>
              <a:avLst/>
              <a:gdLst/>
              <a:ahLst/>
              <a:rect l="l" t="t" r="r" b="b"/>
              <a:pathLst>
                <a:path w="233" h="2267">
                  <a:moveTo>
                    <a:pt x="168" y="0"/>
                  </a:moveTo>
                  <a:cubicBezTo>
                    <a:pt x="109" y="41"/>
                    <a:pt x="64" y="97"/>
                    <a:pt x="24" y="156"/>
                  </a:cubicBezTo>
                  <a:cubicBezTo>
                    <a:pt x="0" y="246"/>
                    <a:pt x="22" y="344"/>
                    <a:pt x="68" y="422"/>
                  </a:cubicBezTo>
                  <a:cubicBezTo>
                    <a:pt x="80" y="442"/>
                    <a:pt x="96" y="460"/>
                    <a:pt x="112" y="478"/>
                  </a:cubicBezTo>
                  <a:cubicBezTo>
                    <a:pt x="129" y="498"/>
                    <a:pt x="168" y="534"/>
                    <a:pt x="168" y="534"/>
                  </a:cubicBezTo>
                  <a:cubicBezTo>
                    <a:pt x="184" y="583"/>
                    <a:pt x="206" y="629"/>
                    <a:pt x="224" y="678"/>
                  </a:cubicBezTo>
                  <a:cubicBezTo>
                    <a:pt x="219" y="760"/>
                    <a:pt x="233" y="847"/>
                    <a:pt x="201" y="922"/>
                  </a:cubicBezTo>
                  <a:cubicBezTo>
                    <a:pt x="197" y="932"/>
                    <a:pt x="185" y="936"/>
                    <a:pt x="179" y="945"/>
                  </a:cubicBezTo>
                  <a:cubicBezTo>
                    <a:pt x="134" y="1006"/>
                    <a:pt x="46" y="1111"/>
                    <a:pt x="24" y="1178"/>
                  </a:cubicBezTo>
                  <a:cubicBezTo>
                    <a:pt x="28" y="1256"/>
                    <a:pt x="22" y="1334"/>
                    <a:pt x="35" y="1411"/>
                  </a:cubicBezTo>
                  <a:cubicBezTo>
                    <a:pt x="38" y="1427"/>
                    <a:pt x="60" y="1431"/>
                    <a:pt x="68" y="1445"/>
                  </a:cubicBezTo>
                  <a:cubicBezTo>
                    <a:pt x="95" y="1493"/>
                    <a:pt x="84" y="1540"/>
                    <a:pt x="124" y="1578"/>
                  </a:cubicBezTo>
                  <a:cubicBezTo>
                    <a:pt x="128" y="1589"/>
                    <a:pt x="129" y="1601"/>
                    <a:pt x="135" y="1611"/>
                  </a:cubicBezTo>
                  <a:cubicBezTo>
                    <a:pt x="148" y="1634"/>
                    <a:pt x="179" y="1678"/>
                    <a:pt x="179" y="1678"/>
                  </a:cubicBezTo>
                  <a:cubicBezTo>
                    <a:pt x="185" y="1708"/>
                    <a:pt x="201" y="1736"/>
                    <a:pt x="201" y="1767"/>
                  </a:cubicBezTo>
                  <a:cubicBezTo>
                    <a:pt x="201" y="1846"/>
                    <a:pt x="175" y="1892"/>
                    <a:pt x="124" y="1945"/>
                  </a:cubicBezTo>
                  <a:cubicBezTo>
                    <a:pt x="79" y="2069"/>
                    <a:pt x="112" y="1966"/>
                    <a:pt x="112" y="2267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94320" y="6019920"/>
              <a:ext cx="228600" cy="609480"/>
            </a:xfrm>
            <a:custGeom>
              <a:avLst/>
              <a:gdLst/>
              <a:ahLst/>
              <a:rect l="l" t="t" r="r" b="b"/>
              <a:pathLst>
                <a:path w="233" h="2267">
                  <a:moveTo>
                    <a:pt x="168" y="0"/>
                  </a:moveTo>
                  <a:cubicBezTo>
                    <a:pt x="109" y="41"/>
                    <a:pt x="64" y="97"/>
                    <a:pt x="24" y="156"/>
                  </a:cubicBezTo>
                  <a:cubicBezTo>
                    <a:pt x="0" y="246"/>
                    <a:pt x="22" y="344"/>
                    <a:pt x="68" y="422"/>
                  </a:cubicBezTo>
                  <a:cubicBezTo>
                    <a:pt x="80" y="442"/>
                    <a:pt x="96" y="460"/>
                    <a:pt x="112" y="478"/>
                  </a:cubicBezTo>
                  <a:cubicBezTo>
                    <a:pt x="129" y="498"/>
                    <a:pt x="168" y="534"/>
                    <a:pt x="168" y="534"/>
                  </a:cubicBezTo>
                  <a:cubicBezTo>
                    <a:pt x="184" y="583"/>
                    <a:pt x="206" y="629"/>
                    <a:pt x="224" y="678"/>
                  </a:cubicBezTo>
                  <a:cubicBezTo>
                    <a:pt x="219" y="760"/>
                    <a:pt x="233" y="847"/>
                    <a:pt x="201" y="922"/>
                  </a:cubicBezTo>
                  <a:cubicBezTo>
                    <a:pt x="197" y="932"/>
                    <a:pt x="185" y="936"/>
                    <a:pt x="179" y="945"/>
                  </a:cubicBezTo>
                  <a:cubicBezTo>
                    <a:pt x="134" y="1006"/>
                    <a:pt x="46" y="1111"/>
                    <a:pt x="24" y="1178"/>
                  </a:cubicBezTo>
                  <a:cubicBezTo>
                    <a:pt x="28" y="1256"/>
                    <a:pt x="22" y="1334"/>
                    <a:pt x="35" y="1411"/>
                  </a:cubicBezTo>
                  <a:cubicBezTo>
                    <a:pt x="38" y="1427"/>
                    <a:pt x="60" y="1431"/>
                    <a:pt x="68" y="1445"/>
                  </a:cubicBezTo>
                  <a:cubicBezTo>
                    <a:pt x="95" y="1493"/>
                    <a:pt x="84" y="1540"/>
                    <a:pt x="124" y="1578"/>
                  </a:cubicBezTo>
                  <a:cubicBezTo>
                    <a:pt x="128" y="1589"/>
                    <a:pt x="129" y="1601"/>
                    <a:pt x="135" y="1611"/>
                  </a:cubicBezTo>
                  <a:cubicBezTo>
                    <a:pt x="148" y="1634"/>
                    <a:pt x="179" y="1678"/>
                    <a:pt x="179" y="1678"/>
                  </a:cubicBezTo>
                  <a:cubicBezTo>
                    <a:pt x="185" y="1708"/>
                    <a:pt x="201" y="1736"/>
                    <a:pt x="201" y="1767"/>
                  </a:cubicBezTo>
                  <a:cubicBezTo>
                    <a:pt x="201" y="1846"/>
                    <a:pt x="175" y="1892"/>
                    <a:pt x="124" y="1945"/>
                  </a:cubicBezTo>
                  <a:cubicBezTo>
                    <a:pt x="79" y="2069"/>
                    <a:pt x="112" y="1966"/>
                    <a:pt x="112" y="2267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3600" y="3048120"/>
              <a:ext cx="533520" cy="228600"/>
            </a:xfrm>
            <a:prstGeom prst="leftArrow">
              <a:avLst>
                <a:gd name="adj1" fmla="val 50000"/>
                <a:gd name="adj2" fmla="val 58346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55880" y="5334120"/>
              <a:ext cx="533520" cy="228600"/>
            </a:xfrm>
            <a:prstGeom prst="leftArrow">
              <a:avLst>
                <a:gd name="adj1" fmla="val 50000"/>
                <a:gd name="adj2" fmla="val 58346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855880" y="6095880"/>
              <a:ext cx="533520" cy="228600"/>
            </a:xfrm>
            <a:prstGeom prst="leftArrow">
              <a:avLst>
                <a:gd name="adj1" fmla="val 50000"/>
                <a:gd name="adj2" fmla="val 58346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2474640" y="1981080"/>
              <a:ext cx="304920" cy="152280"/>
              <a:chOff x="2474640" y="1981080"/>
              <a:chExt cx="304920" cy="152280"/>
            </a:xfrm>
          </p:grpSpPr>
          <p:sp>
            <p:nvSpPr>
              <p:cNvPr id="117" name=""/>
              <p:cNvSpPr/>
              <p:nvPr/>
            </p:nvSpPr>
            <p:spPr>
              <a:xfrm flipH="1">
                <a:off x="2474640" y="19810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2474640" y="2133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 flipH="1">
              <a:off x="7427520" y="3276720"/>
              <a:ext cx="38124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03600" y="2209680"/>
              <a:ext cx="533520" cy="228600"/>
            </a:xfrm>
            <a:prstGeom prst="leftArrow">
              <a:avLst>
                <a:gd name="adj1" fmla="val 50000"/>
                <a:gd name="adj2" fmla="val 58346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00" y="1600200"/>
              <a:ext cx="466560" cy="129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7600" y="2895480"/>
              <a:ext cx="466560" cy="12193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1103400" y="1905120"/>
              <a:ext cx="537480" cy="198360"/>
              <a:chOff x="1103400" y="1905120"/>
              <a:chExt cx="537480" cy="198360"/>
            </a:xfrm>
          </p:grpSpPr>
          <p:sp>
            <p:nvSpPr>
              <p:cNvPr id="124" name=""/>
              <p:cNvSpPr/>
              <p:nvPr/>
            </p:nvSpPr>
            <p:spPr>
              <a:xfrm>
                <a:off x="1103400" y="1981080"/>
                <a:ext cx="104760" cy="9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256040" y="1905120"/>
                <a:ext cx="38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000000"/>
                    </a:solidFill>
                    <a:latin typeface="Arial"/>
                  </a:rPr>
                  <a:t>H 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5311800" y="6540480"/>
              <a:ext cx="306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 Fabre 2004, d’après Dufey 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2680" y="95400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% CE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78960" y="954000"/>
              <a:ext cx="93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39640" y="26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21360" y="26028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ification : Alumi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9:56:13Z</dcterms:created>
  <dc:creator>_</dc:creator>
  <dc:description/>
  <dc:language>en-US</dc:language>
  <cp:lastModifiedBy>_</cp:lastModifiedBy>
  <dcterms:modified xsi:type="dcterms:W3CDTF">2006-04-20T07:06:11Z</dcterms:modified>
  <cp:revision>5</cp:revision>
  <dc:subject/>
  <dc:title>Diapositive 1</dc:title>
</cp:coreProperties>
</file>