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5E9-6035-4F52-85A0-FB66D6AD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F52-6A33-4842-B35E-C2F58F2A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3ED-BD69-42CF-B0C9-6C35F3A7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395-5347-404A-9423-F9597E33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D94-DA27-47B6-BBDF-1A5F289B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7C4-7278-479D-A1CE-C4A73A0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8F0-472D-4159-B309-0889CABE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C21-2FD1-45F6-9844-D8ADABD8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899-4FB6-494F-926B-F89D8B95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38F-7E41-4F1C-8ED3-DE870CC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A3D-AE3E-4447-8260-E5227319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8FD-E68C-41A8-845B-4C9DA080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CF7-C19A-4EA3-95FA-A0AC08974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887400"/>
            <a:ext cx="9208440" cy="5961600"/>
            <a:chOff x="0" y="887400"/>
            <a:chExt cx="9208440" cy="5961600"/>
          </a:xfrm>
        </p:grpSpPr>
        <p:sp>
          <p:nvSpPr>
            <p:cNvPr id="42" name=""/>
            <p:cNvSpPr/>
            <p:nvPr/>
          </p:nvSpPr>
          <p:spPr>
            <a:xfrm>
              <a:off x="5280120" y="3541680"/>
              <a:ext cx="826920" cy="82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99cc"/>
                  </a:solidFill>
                  <a:latin typeface="Arial"/>
                </a:rPr>
                <a:t>H</a:t>
              </a:r>
              <a:r>
                <a:rPr b="1" lang="en-US" sz="4800" spc="-1" strike="noStrike" baseline="30000">
                  <a:solidFill>
                    <a:srgbClr val="ff99cc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0" y="1057320"/>
            <a:ext cx="2448000" cy="5310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057320"/>
                      <a:ext cx="2448000" cy="53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2050920" y="1395360"/>
              <a:ext cx="457200" cy="4630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3160" y="1482840"/>
              <a:ext cx="609840" cy="1544400"/>
            </a:xfrm>
            <a:prstGeom prst="cube">
              <a:avLst>
                <a:gd name="adj" fmla="val 640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48520" y="5011560"/>
              <a:ext cx="1752480" cy="1176480"/>
            </a:xfrm>
            <a:prstGeom prst="cube">
              <a:avLst>
                <a:gd name="adj" fmla="val 2125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360" y="1060560"/>
              <a:ext cx="31644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56000" y="1395360"/>
              <a:ext cx="0" cy="4630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263000" y="1630440"/>
              <a:ext cx="1294920" cy="31330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7743960" y="2166840"/>
              <a:ext cx="152280" cy="295200"/>
              <a:chOff x="7743960" y="2166840"/>
              <a:chExt cx="152280" cy="295200"/>
            </a:xfrm>
          </p:grpSpPr>
          <p:sp>
            <p:nvSpPr>
              <p:cNvPr id="52" name=""/>
              <p:cNvSpPr/>
              <p:nvPr/>
            </p:nvSpPr>
            <p:spPr>
              <a:xfrm>
                <a:off x="7743960" y="2166840"/>
                <a:ext cx="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96240" y="2166840"/>
                <a:ext cx="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743960" y="2901960"/>
              <a:ext cx="152280" cy="295200"/>
              <a:chOff x="7743960" y="2901960"/>
              <a:chExt cx="152280" cy="295200"/>
            </a:xfrm>
          </p:grpSpPr>
          <p:sp>
            <p:nvSpPr>
              <p:cNvPr id="55" name=""/>
              <p:cNvSpPr/>
              <p:nvPr/>
            </p:nvSpPr>
            <p:spPr>
              <a:xfrm>
                <a:off x="7743960" y="2901960"/>
                <a:ext cx="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96240" y="2901960"/>
                <a:ext cx="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743960" y="3711600"/>
              <a:ext cx="152280" cy="293760"/>
              <a:chOff x="7743960" y="3711600"/>
              <a:chExt cx="152280" cy="293760"/>
            </a:xfrm>
          </p:grpSpPr>
          <p:sp>
            <p:nvSpPr>
              <p:cNvPr id="58" name=""/>
              <p:cNvSpPr/>
              <p:nvPr/>
            </p:nvSpPr>
            <p:spPr>
              <a:xfrm>
                <a:off x="7743960" y="3711600"/>
                <a:ext cx="0" cy="29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896240" y="3711600"/>
                <a:ext cx="0" cy="29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4194000" y="5114880"/>
              <a:ext cx="96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Ca</a:t>
              </a:r>
              <a:r>
                <a:rPr b="1" lang="en-US" sz="3200" spc="-1" strike="noStrike" baseline="30000">
                  <a:solidFill>
                    <a:srgbClr val="333399"/>
                  </a:solidFill>
                  <a:latin typeface="Arial"/>
                </a:rPr>
                <a:t>2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7435440" y="4467960"/>
              <a:ext cx="402120" cy="468360"/>
              <a:chOff x="7435440" y="4467960"/>
              <a:chExt cx="402120" cy="468360"/>
            </a:xfrm>
          </p:grpSpPr>
          <p:sp>
            <p:nvSpPr>
              <p:cNvPr id="62" name=""/>
              <p:cNvSpPr/>
              <p:nvPr/>
            </p:nvSpPr>
            <p:spPr>
              <a:xfrm flipH="1">
                <a:off x="7435440" y="4467960"/>
                <a:ext cx="308520" cy="39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529040" y="4541040"/>
                <a:ext cx="308520" cy="39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81760" y="5490000"/>
              <a:ext cx="1010520" cy="489960"/>
              <a:chOff x="5081760" y="5490000"/>
              <a:chExt cx="1010520" cy="489960"/>
            </a:xfrm>
          </p:grpSpPr>
          <p:sp>
            <p:nvSpPr>
              <p:cNvPr id="65" name=""/>
              <p:cNvSpPr/>
              <p:nvPr/>
            </p:nvSpPr>
            <p:spPr>
              <a:xfrm>
                <a:off x="5081760" y="5711400"/>
                <a:ext cx="947880" cy="268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44400" y="5490000"/>
                <a:ext cx="947880" cy="268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4503600" y="5675400"/>
              <a:ext cx="228600" cy="806400"/>
            </a:xfrm>
            <a:custGeom>
              <a:avLst/>
              <a:gdLst/>
              <a:ahLst/>
              <a:rect l="l" t="t" r="r" b="b"/>
              <a:pathLst>
                <a:path w="233" h="2267">
                  <a:moveTo>
                    <a:pt x="168" y="0"/>
                  </a:moveTo>
                  <a:cubicBezTo>
                    <a:pt x="109" y="41"/>
                    <a:pt x="64" y="97"/>
                    <a:pt x="24" y="156"/>
                  </a:cubicBezTo>
                  <a:cubicBezTo>
                    <a:pt x="0" y="246"/>
                    <a:pt x="22" y="344"/>
                    <a:pt x="68" y="422"/>
                  </a:cubicBezTo>
                  <a:cubicBezTo>
                    <a:pt x="80" y="442"/>
                    <a:pt x="96" y="460"/>
                    <a:pt x="112" y="478"/>
                  </a:cubicBezTo>
                  <a:cubicBezTo>
                    <a:pt x="129" y="498"/>
                    <a:pt x="168" y="534"/>
                    <a:pt x="168" y="534"/>
                  </a:cubicBezTo>
                  <a:cubicBezTo>
                    <a:pt x="184" y="583"/>
                    <a:pt x="206" y="629"/>
                    <a:pt x="224" y="678"/>
                  </a:cubicBezTo>
                  <a:cubicBezTo>
                    <a:pt x="219" y="760"/>
                    <a:pt x="233" y="847"/>
                    <a:pt x="201" y="922"/>
                  </a:cubicBezTo>
                  <a:cubicBezTo>
                    <a:pt x="197" y="932"/>
                    <a:pt x="185" y="936"/>
                    <a:pt x="179" y="945"/>
                  </a:cubicBezTo>
                  <a:cubicBezTo>
                    <a:pt x="134" y="1006"/>
                    <a:pt x="46" y="1111"/>
                    <a:pt x="24" y="1178"/>
                  </a:cubicBezTo>
                  <a:cubicBezTo>
                    <a:pt x="28" y="1256"/>
                    <a:pt x="22" y="1334"/>
                    <a:pt x="35" y="1411"/>
                  </a:cubicBezTo>
                  <a:cubicBezTo>
                    <a:pt x="38" y="1427"/>
                    <a:pt x="60" y="1431"/>
                    <a:pt x="68" y="1445"/>
                  </a:cubicBezTo>
                  <a:cubicBezTo>
                    <a:pt x="95" y="1493"/>
                    <a:pt x="84" y="1540"/>
                    <a:pt x="124" y="1578"/>
                  </a:cubicBezTo>
                  <a:cubicBezTo>
                    <a:pt x="128" y="1589"/>
                    <a:pt x="129" y="1601"/>
                    <a:pt x="135" y="1611"/>
                  </a:cubicBezTo>
                  <a:cubicBezTo>
                    <a:pt x="148" y="1634"/>
                    <a:pt x="179" y="1678"/>
                    <a:pt x="179" y="1678"/>
                  </a:cubicBezTo>
                  <a:cubicBezTo>
                    <a:pt x="185" y="1708"/>
                    <a:pt x="201" y="1736"/>
                    <a:pt x="201" y="1767"/>
                  </a:cubicBezTo>
                  <a:cubicBezTo>
                    <a:pt x="201" y="1846"/>
                    <a:pt x="175" y="1892"/>
                    <a:pt x="124" y="1945"/>
                  </a:cubicBezTo>
                  <a:cubicBezTo>
                    <a:pt x="79" y="2069"/>
                    <a:pt x="112" y="1966"/>
                    <a:pt x="112" y="226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58160" y="3541680"/>
              <a:ext cx="93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r>
                <a:rPr b="1" lang="fr-FR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94400" y="1482840"/>
              <a:ext cx="2315880" cy="15444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Al)-sil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ir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arg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6096600">
              <a:off x="5507640" y="4528080"/>
              <a:ext cx="587520" cy="123984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07" y="13034"/>
                  </a:moveTo>
                  <a:arcTo wR="-7341" hR="-7341" stAng="9736996" swAng="-9637037"/>
                  <a:lnTo>
                    <a:pt x="5" y="10486"/>
                  </a:lnTo>
                  <a:arcTo wR="10800" hR="10800" stAng="-10700041" swAng="9637037"/>
                  <a:lnTo>
                    <a:pt x="23660" y="6692"/>
                  </a:lnTo>
                  <a:lnTo>
                    <a:pt x="20788" y="12259"/>
                  </a:lnTo>
                  <a:lnTo>
                    <a:pt x="15221" y="9388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48320" y="4056120"/>
              <a:ext cx="228600" cy="587160"/>
            </a:xfrm>
            <a:custGeom>
              <a:avLst/>
              <a:gdLst/>
              <a:ahLst/>
              <a:rect l="l" t="t" r="r" b="b"/>
              <a:pathLst>
                <a:path w="233" h="2267">
                  <a:moveTo>
                    <a:pt x="168" y="0"/>
                  </a:moveTo>
                  <a:cubicBezTo>
                    <a:pt x="109" y="41"/>
                    <a:pt x="64" y="97"/>
                    <a:pt x="24" y="156"/>
                  </a:cubicBezTo>
                  <a:cubicBezTo>
                    <a:pt x="0" y="246"/>
                    <a:pt x="22" y="344"/>
                    <a:pt x="68" y="422"/>
                  </a:cubicBezTo>
                  <a:cubicBezTo>
                    <a:pt x="80" y="442"/>
                    <a:pt x="96" y="460"/>
                    <a:pt x="112" y="478"/>
                  </a:cubicBezTo>
                  <a:cubicBezTo>
                    <a:pt x="129" y="498"/>
                    <a:pt x="168" y="534"/>
                    <a:pt x="168" y="534"/>
                  </a:cubicBezTo>
                  <a:cubicBezTo>
                    <a:pt x="184" y="583"/>
                    <a:pt x="206" y="629"/>
                    <a:pt x="224" y="678"/>
                  </a:cubicBezTo>
                  <a:cubicBezTo>
                    <a:pt x="219" y="760"/>
                    <a:pt x="233" y="847"/>
                    <a:pt x="201" y="922"/>
                  </a:cubicBezTo>
                  <a:cubicBezTo>
                    <a:pt x="197" y="932"/>
                    <a:pt x="185" y="936"/>
                    <a:pt x="179" y="945"/>
                  </a:cubicBezTo>
                  <a:cubicBezTo>
                    <a:pt x="134" y="1006"/>
                    <a:pt x="46" y="1111"/>
                    <a:pt x="24" y="1178"/>
                  </a:cubicBezTo>
                  <a:cubicBezTo>
                    <a:pt x="28" y="1256"/>
                    <a:pt x="22" y="1334"/>
                    <a:pt x="35" y="1411"/>
                  </a:cubicBezTo>
                  <a:cubicBezTo>
                    <a:pt x="38" y="1427"/>
                    <a:pt x="60" y="1431"/>
                    <a:pt x="68" y="1445"/>
                  </a:cubicBezTo>
                  <a:cubicBezTo>
                    <a:pt x="95" y="1493"/>
                    <a:pt x="84" y="1540"/>
                    <a:pt x="124" y="1578"/>
                  </a:cubicBezTo>
                  <a:cubicBezTo>
                    <a:pt x="128" y="1589"/>
                    <a:pt x="129" y="1601"/>
                    <a:pt x="135" y="1611"/>
                  </a:cubicBezTo>
                  <a:cubicBezTo>
                    <a:pt x="148" y="1634"/>
                    <a:pt x="179" y="1678"/>
                    <a:pt x="179" y="1678"/>
                  </a:cubicBezTo>
                  <a:cubicBezTo>
                    <a:pt x="185" y="1708"/>
                    <a:pt x="201" y="1736"/>
                    <a:pt x="201" y="1767"/>
                  </a:cubicBezTo>
                  <a:cubicBezTo>
                    <a:pt x="201" y="1846"/>
                    <a:pt x="175" y="1892"/>
                    <a:pt x="124" y="1945"/>
                  </a:cubicBezTo>
                  <a:cubicBezTo>
                    <a:pt x="79" y="2069"/>
                    <a:pt x="112" y="1966"/>
                    <a:pt x="112" y="226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632600">
              <a:off x="5484240" y="3389040"/>
              <a:ext cx="1752480" cy="1765080"/>
            </a:xfrm>
            <a:custGeom>
              <a:avLst/>
              <a:gdLst>
                <a:gd name="textAreaLeft" fmla="*/ 360 w 1752480"/>
                <a:gd name="textAreaRight" fmla="*/ 1753200 w 1752480"/>
                <a:gd name="textAreaTop" fmla="*/ 0 h 1765080"/>
                <a:gd name="textAreaBottom" fmla="*/ 1765440 h 17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9" y="10796"/>
                  </a:moveTo>
                  <a:arcTo wR="-8721" hR="-8721" stAng="-10798423" swAng="-10801577"/>
                  <a:lnTo>
                    <a:pt x="0" y="10800"/>
                  </a:lnTo>
                  <a:arcTo wR="10800" hR="10800" stAng="10800000" swAng="10801577"/>
                  <a:lnTo>
                    <a:pt x="24300" y="10806"/>
                  </a:lnTo>
                  <a:lnTo>
                    <a:pt x="20559" y="14544"/>
                  </a:lnTo>
                  <a:lnTo>
                    <a:pt x="16821" y="10803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3741120" y="2296080"/>
              <a:ext cx="13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Oxyhydroxy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22360" y="92088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77080" y="1655640"/>
              <a:ext cx="322560" cy="40579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1776240"/>
              <a:ext cx="7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60720" y="251316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60720" y="325116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60360" y="398952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71160" y="472752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71160" y="5465880"/>
              <a:ext cx="8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742840" y="2673360"/>
              <a:ext cx="304920" cy="146160"/>
              <a:chOff x="2742840" y="2673360"/>
              <a:chExt cx="304920" cy="146160"/>
            </a:xfrm>
          </p:grpSpPr>
          <p:sp>
            <p:nvSpPr>
              <p:cNvPr id="83" name=""/>
              <p:cNvSpPr/>
              <p:nvPr/>
            </p:nvSpPr>
            <p:spPr>
              <a:xfrm flipH="1">
                <a:off x="2742840" y="2673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742840" y="28195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742840" y="3422520"/>
              <a:ext cx="304920" cy="147600"/>
              <a:chOff x="2742840" y="3422520"/>
              <a:chExt cx="304920" cy="14760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742840" y="34225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742840" y="35701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742840" y="4172040"/>
              <a:ext cx="304920" cy="147600"/>
              <a:chOff x="2742840" y="4172040"/>
              <a:chExt cx="304920" cy="147600"/>
            </a:xfrm>
          </p:grpSpPr>
          <p:sp>
            <p:nvSpPr>
              <p:cNvPr id="89" name=""/>
              <p:cNvSpPr/>
              <p:nvPr/>
            </p:nvSpPr>
            <p:spPr>
              <a:xfrm flipH="1">
                <a:off x="2742840" y="41720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2742840" y="43196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742840" y="4923000"/>
              <a:ext cx="304920" cy="147600"/>
              <a:chOff x="2742840" y="4923000"/>
              <a:chExt cx="304920" cy="14760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2742840" y="49230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742840" y="50706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742840" y="5673600"/>
              <a:ext cx="304920" cy="146160"/>
              <a:chOff x="2742840" y="5673600"/>
              <a:chExt cx="304920" cy="146160"/>
            </a:xfrm>
          </p:grpSpPr>
          <p:sp>
            <p:nvSpPr>
              <p:cNvPr id="95" name=""/>
              <p:cNvSpPr/>
              <p:nvPr/>
            </p:nvSpPr>
            <p:spPr>
              <a:xfrm flipH="1">
                <a:off x="2742840" y="56736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742840" y="58197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809520" y="1924200"/>
              <a:ext cx="304920" cy="147600"/>
              <a:chOff x="3809520" y="1924200"/>
              <a:chExt cx="304920" cy="14760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3809520" y="19242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809520" y="20718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H="1">
              <a:off x="3123720" y="1776240"/>
              <a:ext cx="381240" cy="516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048120" y="2511360"/>
              <a:ext cx="380880" cy="51588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763800" y="3159360"/>
              <a:ext cx="1056600" cy="804240"/>
              <a:chOff x="3763800" y="3159360"/>
              <a:chExt cx="1056600" cy="80424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3874680" y="3323520"/>
                <a:ext cx="945720" cy="64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3763800" y="3159360"/>
                <a:ext cx="945720" cy="64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8528040" y="2217600"/>
              <a:ext cx="609480" cy="66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62520" y="4349880"/>
              <a:ext cx="228600" cy="661680"/>
            </a:xfrm>
            <a:custGeom>
              <a:avLst/>
              <a:gdLst/>
              <a:ahLst/>
              <a:rect l="l" t="t" r="r" b="b"/>
              <a:pathLst>
                <a:path w="233" h="2267">
                  <a:moveTo>
                    <a:pt x="168" y="0"/>
                  </a:moveTo>
                  <a:cubicBezTo>
                    <a:pt x="109" y="41"/>
                    <a:pt x="64" y="97"/>
                    <a:pt x="24" y="156"/>
                  </a:cubicBezTo>
                  <a:cubicBezTo>
                    <a:pt x="0" y="246"/>
                    <a:pt x="22" y="344"/>
                    <a:pt x="68" y="422"/>
                  </a:cubicBezTo>
                  <a:cubicBezTo>
                    <a:pt x="80" y="442"/>
                    <a:pt x="96" y="460"/>
                    <a:pt x="112" y="478"/>
                  </a:cubicBezTo>
                  <a:cubicBezTo>
                    <a:pt x="129" y="498"/>
                    <a:pt x="168" y="534"/>
                    <a:pt x="168" y="534"/>
                  </a:cubicBezTo>
                  <a:cubicBezTo>
                    <a:pt x="184" y="583"/>
                    <a:pt x="206" y="629"/>
                    <a:pt x="224" y="678"/>
                  </a:cubicBezTo>
                  <a:cubicBezTo>
                    <a:pt x="219" y="760"/>
                    <a:pt x="233" y="847"/>
                    <a:pt x="201" y="922"/>
                  </a:cubicBezTo>
                  <a:cubicBezTo>
                    <a:pt x="197" y="932"/>
                    <a:pt x="185" y="936"/>
                    <a:pt x="179" y="945"/>
                  </a:cubicBezTo>
                  <a:cubicBezTo>
                    <a:pt x="134" y="1006"/>
                    <a:pt x="46" y="1111"/>
                    <a:pt x="24" y="1178"/>
                  </a:cubicBezTo>
                  <a:cubicBezTo>
                    <a:pt x="28" y="1256"/>
                    <a:pt x="22" y="1334"/>
                    <a:pt x="35" y="1411"/>
                  </a:cubicBezTo>
                  <a:cubicBezTo>
                    <a:pt x="38" y="1427"/>
                    <a:pt x="60" y="1431"/>
                    <a:pt x="68" y="1445"/>
                  </a:cubicBezTo>
                  <a:cubicBezTo>
                    <a:pt x="95" y="1493"/>
                    <a:pt x="84" y="1540"/>
                    <a:pt x="124" y="1578"/>
                  </a:cubicBezTo>
                  <a:cubicBezTo>
                    <a:pt x="128" y="1589"/>
                    <a:pt x="129" y="1601"/>
                    <a:pt x="135" y="1611"/>
                  </a:cubicBezTo>
                  <a:cubicBezTo>
                    <a:pt x="148" y="1634"/>
                    <a:pt x="179" y="1678"/>
                    <a:pt x="179" y="1678"/>
                  </a:cubicBezTo>
                  <a:cubicBezTo>
                    <a:pt x="185" y="1708"/>
                    <a:pt x="201" y="1736"/>
                    <a:pt x="201" y="1767"/>
                  </a:cubicBezTo>
                  <a:cubicBezTo>
                    <a:pt x="201" y="1846"/>
                    <a:pt x="175" y="1892"/>
                    <a:pt x="124" y="1945"/>
                  </a:cubicBezTo>
                  <a:cubicBezTo>
                    <a:pt x="79" y="2069"/>
                    <a:pt x="112" y="1966"/>
                    <a:pt x="112" y="2267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4480" y="6541920"/>
              <a:ext cx="20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D’aprèsJ. Dufey (200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0880" y="88740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% C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19880" y="887400"/>
              <a:ext cx="93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279240" y="2602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carbo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0:00:40Z</dcterms:created>
  <dc:creator>_</dc:creator>
  <dc:description/>
  <dc:language>en-US</dc:language>
  <cp:lastModifiedBy>_</cp:lastModifiedBy>
  <dcterms:modified xsi:type="dcterms:W3CDTF">2006-04-20T07:02:47Z</dcterms:modified>
  <cp:revision>4</cp:revision>
  <dc:subject/>
  <dc:title>Diapositive 1</dc:title>
</cp:coreProperties>
</file>