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E86F-468F-4CBC-9D25-75915E682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3754-0C34-4EFE-93C7-E5E563BB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6577-F5C9-4AB3-8791-9D57853C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2642-C53D-4B97-95DD-FAD26DA93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18AD-B457-4EE5-8E2A-B275DC78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9196-821B-4A83-A362-9C5B3957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8FE0-0624-4183-A340-F4B9F702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6C0F-E5D4-4026-A6BF-4DD10CD3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7BB9-98E7-4681-8401-0A30C5B7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B090-B20E-4872-88B3-A4949236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9D26-FDC4-4E0A-BB82-79DC70FB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2461-598A-4C90-BBBD-88DDEA86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6527-4C33-4105-82DD-09AF9D60C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49280" y="944640"/>
          <a:ext cx="8244000" cy="591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280" y="944640"/>
                    <a:ext cx="824400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447840" y="135000"/>
            <a:ext cx="78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ilité verticale du pH selon la fertilisation azotée et le chaulage sous b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17640" y="6381720"/>
            <a:ext cx="54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ulage en 1991, mesure en 1994, fertilisation depuis 27 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17480" y="6381720"/>
            <a:ext cx="195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’après Malhi et al.,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16:25:48Z</dcterms:created>
  <dc:creator>_</dc:creator>
  <dc:description/>
  <dc:language>en-US</dc:language>
  <cp:lastModifiedBy>_</cp:lastModifiedBy>
  <dcterms:modified xsi:type="dcterms:W3CDTF">2006-02-28T16:42:55Z</dcterms:modified>
  <cp:revision>3</cp:revision>
  <dc:subject/>
  <dc:title>Diapositive 1</dc:title>
</cp:coreProperties>
</file>