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E8F-4F49-4E3B-B063-1B860184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416-4C69-4FA7-8429-1CDE4390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DB4-92A6-4121-BF47-A0E81765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C4D-A9AD-4BDA-9D80-97F987B8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550-0C2D-4032-B873-0A5EED3A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EEB-0869-4B1A-A806-77129EBD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569-6167-4102-9435-55195CD4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A3E-4BCE-4F0D-A9CA-20367AC1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062-684A-4D27-8FBB-B19C4916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E119-7876-4A55-BE6A-6C2E8123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0E2-CBED-4293-A741-D9C906E7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AD41-8735-4E32-9414-EF20DAEE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158D-BACB-4041-9B21-44D2931D6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4000" y="1066680"/>
            <a:ext cx="8534160" cy="4953240"/>
            <a:chOff x="324000" y="1066680"/>
            <a:chExt cx="8534160" cy="4953240"/>
          </a:xfrm>
        </p:grpSpPr>
        <p:grpSp>
          <p:nvGrpSpPr>
            <p:cNvPr id="42" name=""/>
            <p:cNvGrpSpPr/>
            <p:nvPr/>
          </p:nvGrpSpPr>
          <p:grpSpPr>
            <a:xfrm>
              <a:off x="475560" y="1066680"/>
              <a:ext cx="8111520" cy="4687920"/>
              <a:chOff x="475560" y="1066680"/>
              <a:chExt cx="8111520" cy="468792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475560" y="1198440"/>
                <a:ext cx="3901320" cy="3646080"/>
                <a:chOff x="475560" y="1198440"/>
                <a:chExt cx="3901320" cy="364608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1074600" y="1963800"/>
                  <a:ext cx="2873520" cy="2751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1074600" y="4714920"/>
                  <a:ext cx="287352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1074600" y="4156200"/>
                  <a:ext cx="287352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074600" y="3611520"/>
                  <a:ext cx="287352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1074600" y="3052800"/>
                  <a:ext cx="2873520" cy="144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1074600" y="2522520"/>
                  <a:ext cx="287352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1074600" y="1963800"/>
                  <a:ext cx="2873520" cy="2751120"/>
                </a:xfrm>
                <a:prstGeom prst="rect">
                  <a:avLst/>
                </a:prstGeom>
                <a:noFill/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046160" y="1963800"/>
                  <a:ext cx="2901960" cy="1440"/>
                </a:xfrm>
                <a:custGeom>
                  <a:avLst/>
                  <a:gdLst/>
                  <a:ahLst/>
                  <a:rect l="l" t="t" r="r" b="b"/>
                  <a:pathLst>
                    <a:path w="1828" h="0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28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760480" y="1279440"/>
                  <a:ext cx="621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Arial"/>
                    </a:rPr>
                    <a:t>CAS N°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416040" y="12128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2798280" y="1405080"/>
                  <a:ext cx="770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" name=""/>
                <p:cNvGrpSpPr/>
                <p:nvPr/>
              </p:nvGrpSpPr>
              <p:grpSpPr>
                <a:xfrm>
                  <a:off x="1516320" y="1963800"/>
                  <a:ext cx="2432880" cy="2565720"/>
                  <a:chOff x="1516320" y="1963800"/>
                  <a:chExt cx="2432880" cy="256572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 flipV="1">
                    <a:off x="1782720" y="1963800"/>
                    <a:ext cx="1080" cy="302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 flipV="1">
                    <a:off x="2517480" y="1963800"/>
                    <a:ext cx="1440" cy="302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flipV="1">
                    <a:off x="3225600" y="1963800"/>
                    <a:ext cx="1080" cy="302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V="1">
                    <a:off x="3947760" y="1963800"/>
                    <a:ext cx="1440" cy="302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974680" y="2243160"/>
                    <a:ext cx="323640" cy="54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343">
                        <a:moveTo>
                          <a:pt x="0" y="0"/>
                        </a:moveTo>
                        <a:lnTo>
                          <a:pt x="56" y="84"/>
                        </a:lnTo>
                        <a:lnTo>
                          <a:pt x="111" y="167"/>
                        </a:lnTo>
                        <a:lnTo>
                          <a:pt x="167" y="250"/>
                        </a:lnTo>
                        <a:lnTo>
                          <a:pt x="204" y="343"/>
                        </a:lnTo>
                      </a:path>
                    </a:pathLst>
                  </a:custGeom>
                  <a:noFill/>
                  <a:ln w="3024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3298680" y="2787840"/>
                    <a:ext cx="74160" cy="5443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43">
                        <a:moveTo>
                          <a:pt x="0" y="0"/>
                        </a:moveTo>
                        <a:lnTo>
                          <a:pt x="19" y="83"/>
                        </a:lnTo>
                        <a:lnTo>
                          <a:pt x="37" y="167"/>
                        </a:lnTo>
                        <a:lnTo>
                          <a:pt x="47" y="259"/>
                        </a:lnTo>
                        <a:lnTo>
                          <a:pt x="47" y="343"/>
                        </a:lnTo>
                      </a:path>
                    </a:pathLst>
                  </a:custGeom>
                  <a:noFill/>
                  <a:ln w="3024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3284280" y="3332160"/>
                    <a:ext cx="88560" cy="55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52">
                        <a:moveTo>
                          <a:pt x="56" y="0"/>
                        </a:moveTo>
                        <a:lnTo>
                          <a:pt x="56" y="46"/>
                        </a:lnTo>
                        <a:lnTo>
                          <a:pt x="37" y="93"/>
                        </a:lnTo>
                        <a:lnTo>
                          <a:pt x="19" y="176"/>
                        </a:lnTo>
                        <a:lnTo>
                          <a:pt x="0" y="222"/>
                        </a:lnTo>
                        <a:lnTo>
                          <a:pt x="0" y="269"/>
                        </a:lnTo>
                        <a:lnTo>
                          <a:pt x="0" y="306"/>
                        </a:lnTo>
                        <a:lnTo>
                          <a:pt x="9" y="352"/>
                        </a:lnTo>
                      </a:path>
                    </a:pathLst>
                  </a:custGeom>
                  <a:noFill/>
                  <a:ln w="3024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3298680" y="3891240"/>
                    <a:ext cx="456840" cy="54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43">
                        <a:moveTo>
                          <a:pt x="0" y="0"/>
                        </a:moveTo>
                        <a:lnTo>
                          <a:pt x="19" y="46"/>
                        </a:lnTo>
                        <a:lnTo>
                          <a:pt x="47" y="83"/>
                        </a:lnTo>
                        <a:lnTo>
                          <a:pt x="84" y="130"/>
                        </a:lnTo>
                        <a:lnTo>
                          <a:pt x="121" y="176"/>
                        </a:lnTo>
                        <a:lnTo>
                          <a:pt x="214" y="250"/>
                        </a:lnTo>
                        <a:lnTo>
                          <a:pt x="288" y="343"/>
                        </a:lnTo>
                      </a:path>
                    </a:pathLst>
                  </a:custGeom>
                  <a:noFill/>
                  <a:ln w="3024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1766520" y="2243160"/>
                    <a:ext cx="177480" cy="54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343">
                        <a:moveTo>
                          <a:pt x="112" y="0"/>
                        </a:moveTo>
                        <a:lnTo>
                          <a:pt x="93" y="37"/>
                        </a:lnTo>
                        <a:lnTo>
                          <a:pt x="75" y="84"/>
                        </a:lnTo>
                        <a:lnTo>
                          <a:pt x="28" y="167"/>
                        </a:lnTo>
                        <a:lnTo>
                          <a:pt x="10" y="204"/>
                        </a:lnTo>
                        <a:lnTo>
                          <a:pt x="0" y="250"/>
                        </a:lnTo>
                        <a:lnTo>
                          <a:pt x="0" y="297"/>
                        </a:lnTo>
                        <a:lnTo>
                          <a:pt x="10" y="343"/>
                        </a:lnTo>
                      </a:path>
                    </a:pathLst>
                  </a:custGeom>
                  <a:noFill/>
                  <a:ln w="302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782720" y="2787840"/>
                    <a:ext cx="691560" cy="544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343">
                        <a:moveTo>
                          <a:pt x="0" y="0"/>
                        </a:moveTo>
                        <a:lnTo>
                          <a:pt x="27" y="37"/>
                        </a:lnTo>
                        <a:lnTo>
                          <a:pt x="74" y="83"/>
                        </a:lnTo>
                        <a:lnTo>
                          <a:pt x="129" y="130"/>
                        </a:lnTo>
                        <a:lnTo>
                          <a:pt x="194" y="167"/>
                        </a:lnTo>
                        <a:lnTo>
                          <a:pt x="324" y="259"/>
                        </a:lnTo>
                        <a:lnTo>
                          <a:pt x="380" y="306"/>
                        </a:lnTo>
                        <a:lnTo>
                          <a:pt x="436" y="343"/>
                        </a:lnTo>
                      </a:path>
                    </a:pathLst>
                  </a:custGeom>
                  <a:noFill/>
                  <a:ln w="302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2474640" y="3332160"/>
                    <a:ext cx="499680" cy="55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352">
                        <a:moveTo>
                          <a:pt x="0" y="0"/>
                        </a:moveTo>
                        <a:lnTo>
                          <a:pt x="92" y="93"/>
                        </a:lnTo>
                        <a:lnTo>
                          <a:pt x="185" y="176"/>
                        </a:lnTo>
                        <a:lnTo>
                          <a:pt x="222" y="222"/>
                        </a:lnTo>
                        <a:lnTo>
                          <a:pt x="259" y="269"/>
                        </a:lnTo>
                        <a:lnTo>
                          <a:pt x="297" y="306"/>
                        </a:lnTo>
                        <a:lnTo>
                          <a:pt x="315" y="352"/>
                        </a:lnTo>
                      </a:path>
                    </a:pathLst>
                  </a:custGeom>
                  <a:noFill/>
                  <a:ln w="302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2974680" y="3891240"/>
                    <a:ext cx="29880" cy="54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43">
                        <a:moveTo>
                          <a:pt x="0" y="0"/>
                        </a:moveTo>
                        <a:lnTo>
                          <a:pt x="19" y="46"/>
                        </a:lnTo>
                        <a:lnTo>
                          <a:pt x="19" y="83"/>
                        </a:lnTo>
                        <a:lnTo>
                          <a:pt x="19" y="130"/>
                        </a:lnTo>
                        <a:lnTo>
                          <a:pt x="19" y="176"/>
                        </a:lnTo>
                        <a:lnTo>
                          <a:pt x="9" y="250"/>
                        </a:lnTo>
                        <a:lnTo>
                          <a:pt x="0" y="343"/>
                        </a:lnTo>
                      </a:path>
                    </a:pathLst>
                  </a:custGeom>
                  <a:noFill/>
                  <a:ln w="302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2930400" y="2198880"/>
                    <a:ext cx="88560" cy="8892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2930400" y="2198880"/>
                    <a:ext cx="88560" cy="88920"/>
                  </a:xfrm>
                  <a:prstGeom prst="rect">
                    <a:avLst/>
                  </a:prstGeom>
                  <a:noFill/>
                  <a:ln w="144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3254040" y="2743200"/>
                    <a:ext cx="88560" cy="8892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3254040" y="2743200"/>
                    <a:ext cx="88560" cy="88920"/>
                  </a:xfrm>
                  <a:prstGeom prst="rect">
                    <a:avLst/>
                  </a:prstGeom>
                  <a:noFill/>
                  <a:ln w="144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3328920" y="3287880"/>
                    <a:ext cx="86760" cy="8892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3328920" y="3287880"/>
                    <a:ext cx="86760" cy="88920"/>
                  </a:xfrm>
                  <a:prstGeom prst="rect">
                    <a:avLst/>
                  </a:prstGeom>
                  <a:noFill/>
                  <a:ln w="144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3254040" y="3846600"/>
                    <a:ext cx="88560" cy="8892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3254040" y="3846600"/>
                    <a:ext cx="88560" cy="88920"/>
                  </a:xfrm>
                  <a:prstGeom prst="rect">
                    <a:avLst/>
                  </a:prstGeom>
                  <a:noFill/>
                  <a:ln w="144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3711240" y="4391280"/>
                    <a:ext cx="88560" cy="8892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3711240" y="4391280"/>
                    <a:ext cx="88560" cy="88920"/>
                  </a:xfrm>
                  <a:prstGeom prst="rect">
                    <a:avLst/>
                  </a:prstGeom>
                  <a:noFill/>
                  <a:ln w="144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885680" y="2198880"/>
                    <a:ext cx="1011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6">
                        <a:moveTo>
                          <a:pt x="37" y="0"/>
                        </a:moveTo>
                        <a:lnTo>
                          <a:pt x="64" y="56"/>
                        </a:lnTo>
                        <a:lnTo>
                          <a:pt x="0" y="56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885680" y="2198880"/>
                    <a:ext cx="1011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6">
                        <a:moveTo>
                          <a:pt x="37" y="0"/>
                        </a:moveTo>
                        <a:lnTo>
                          <a:pt x="64" y="56"/>
                        </a:lnTo>
                        <a:lnTo>
                          <a:pt x="0" y="56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noFill/>
                  <a:ln w="144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738080" y="2743200"/>
                    <a:ext cx="871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6">
                        <a:moveTo>
                          <a:pt x="28" y="0"/>
                        </a:moveTo>
                        <a:lnTo>
                          <a:pt x="55" y="56"/>
                        </a:lnTo>
                        <a:lnTo>
                          <a:pt x="0" y="56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738080" y="2743200"/>
                    <a:ext cx="871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6">
                        <a:moveTo>
                          <a:pt x="28" y="0"/>
                        </a:moveTo>
                        <a:lnTo>
                          <a:pt x="55" y="56"/>
                        </a:lnTo>
                        <a:lnTo>
                          <a:pt x="0" y="56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noFill/>
                  <a:ln w="144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2415960" y="3287880"/>
                    <a:ext cx="1011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6">
                        <a:moveTo>
                          <a:pt x="37" y="0"/>
                        </a:moveTo>
                        <a:lnTo>
                          <a:pt x="64" y="56"/>
                        </a:lnTo>
                        <a:lnTo>
                          <a:pt x="0" y="56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2415960" y="3287880"/>
                    <a:ext cx="1011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6">
                        <a:moveTo>
                          <a:pt x="37" y="0"/>
                        </a:moveTo>
                        <a:lnTo>
                          <a:pt x="64" y="56"/>
                        </a:lnTo>
                        <a:lnTo>
                          <a:pt x="0" y="56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noFill/>
                  <a:ln w="144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2930400" y="3846600"/>
                    <a:ext cx="885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28" y="0"/>
                        </a:moveTo>
                        <a:lnTo>
                          <a:pt x="56" y="56"/>
                        </a:lnTo>
                        <a:lnTo>
                          <a:pt x="0" y="56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2930400" y="3846600"/>
                    <a:ext cx="885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28" y="0"/>
                        </a:moveTo>
                        <a:lnTo>
                          <a:pt x="56" y="56"/>
                        </a:lnTo>
                        <a:lnTo>
                          <a:pt x="0" y="56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noFill/>
                  <a:ln w="144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2930400" y="4391280"/>
                    <a:ext cx="885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28" y="0"/>
                        </a:moveTo>
                        <a:lnTo>
                          <a:pt x="56" y="56"/>
                        </a:lnTo>
                        <a:lnTo>
                          <a:pt x="0" y="56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2930400" y="4391280"/>
                    <a:ext cx="885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28" y="0"/>
                        </a:moveTo>
                        <a:lnTo>
                          <a:pt x="56" y="56"/>
                        </a:lnTo>
                        <a:lnTo>
                          <a:pt x="0" y="56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noFill/>
                  <a:ln w="144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2707920" y="2156040"/>
                    <a:ext cx="2142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6,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2871000" y="200844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031920" y="2700360"/>
                    <a:ext cx="2142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7,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3195000" y="255276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3090600" y="3243240"/>
                    <a:ext cx="2142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7,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3253680" y="309564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3031920" y="3802320"/>
                    <a:ext cx="2142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7,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3195000" y="365436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3489120" y="4346640"/>
                    <a:ext cx="2142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7,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3652200" y="419904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661760" y="2156040"/>
                    <a:ext cx="2142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,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1824840" y="200844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516320" y="2700360"/>
                    <a:ext cx="2142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,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679040" y="255276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2192040" y="3243240"/>
                    <a:ext cx="2142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6,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355120" y="309564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707920" y="3802320"/>
                    <a:ext cx="2142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6,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2871000" y="365436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2707920" y="4346640"/>
                    <a:ext cx="2142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6,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2871000" y="419904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"/>
                <p:cNvSpPr/>
                <p:nvPr/>
              </p:nvSpPr>
              <p:spPr>
                <a:xfrm>
                  <a:off x="956880" y="4478400"/>
                  <a:ext cx="770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956880" y="3919680"/>
                  <a:ext cx="770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956880" y="3375000"/>
                  <a:ext cx="770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956880" y="2816280"/>
                  <a:ext cx="770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71280" y="2287440"/>
                  <a:ext cx="770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795240" y="1876320"/>
                  <a:ext cx="280800" cy="2932200"/>
                  <a:chOff x="795240" y="1876320"/>
                  <a:chExt cx="280800" cy="2932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1074600" y="1963440"/>
                    <a:ext cx="1440" cy="275112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045800" y="4714560"/>
                    <a:ext cx="2880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045800" y="4155840"/>
                    <a:ext cx="2880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045800" y="3611160"/>
                    <a:ext cx="2880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1045800" y="3052440"/>
                    <a:ext cx="28800" cy="144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045800" y="2522160"/>
                    <a:ext cx="2880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V="1">
                    <a:off x="1074600" y="1963440"/>
                    <a:ext cx="1440" cy="302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95240" y="4625640"/>
                    <a:ext cx="511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-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838080" y="4625640"/>
                    <a:ext cx="1713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2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95240" y="4066920"/>
                    <a:ext cx="511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-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838080" y="4066920"/>
                    <a:ext cx="1713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2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95240" y="3522240"/>
                    <a:ext cx="511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-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838080" y="3522240"/>
                    <a:ext cx="1713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1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95240" y="2963520"/>
                    <a:ext cx="511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-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838080" y="2963520"/>
                    <a:ext cx="1713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1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868320" y="2435040"/>
                    <a:ext cx="511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-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911880" y="243504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911880" y="187632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971280" y="1728720"/>
                  <a:ext cx="770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104480" y="1522440"/>
                  <a:ext cx="770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11160" y="1522440"/>
                  <a:ext cx="770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547720" y="1522440"/>
                  <a:ext cx="770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254040" y="1522440"/>
                  <a:ext cx="770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7" name=""/>
                <p:cNvGrpSpPr/>
                <p:nvPr/>
              </p:nvGrpSpPr>
              <p:grpSpPr>
                <a:xfrm>
                  <a:off x="1045440" y="1670040"/>
                  <a:ext cx="2957760" cy="182880"/>
                  <a:chOff x="1045440" y="1670040"/>
                  <a:chExt cx="2957760" cy="18288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1045440" y="167004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751760" y="167004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2488680" y="167004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3195000" y="167004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3917160" y="167004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" name=""/>
                <p:cNvSpPr/>
                <p:nvPr/>
              </p:nvSpPr>
              <p:spPr>
                <a:xfrm>
                  <a:off x="3976200" y="1522440"/>
                  <a:ext cx="770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173480" y="1538280"/>
                  <a:ext cx="203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75560" y="1341360"/>
                  <a:ext cx="13068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fondeur en 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752120" y="1198440"/>
                  <a:ext cx="770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519360" y="5181480"/>
                <a:ext cx="1838520" cy="573120"/>
                <a:chOff x="3519360" y="5181480"/>
                <a:chExt cx="1838520" cy="5731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519360" y="5313240"/>
                  <a:ext cx="1501920" cy="441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529080" y="5310360"/>
                  <a:ext cx="1828800" cy="441000"/>
                </a:xfrm>
                <a:prstGeom prst="rect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564000" y="5416560"/>
                  <a:ext cx="309600" cy="1440"/>
                </a:xfrm>
                <a:prstGeom prst="line">
                  <a:avLst/>
                </a:prstGeom>
                <a:ln w="302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81360" y="5388120"/>
                  <a:ext cx="73080" cy="727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681360" y="5388120"/>
                  <a:ext cx="73080" cy="72720"/>
                </a:xfrm>
                <a:prstGeom prst="rect">
                  <a:avLst/>
                </a:prstGeom>
                <a:noFill/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911040" y="5329080"/>
                  <a:ext cx="11923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H en zone sai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858920" y="5181480"/>
                  <a:ext cx="38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564000" y="5637240"/>
                  <a:ext cx="309600" cy="1440"/>
                </a:xfrm>
                <a:prstGeom prst="line">
                  <a:avLst/>
                </a:prstGeom>
                <a:ln w="30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681360" y="5608800"/>
                  <a:ext cx="73080" cy="7272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28" y="0"/>
                      </a:moveTo>
                      <a:lnTo>
                        <a:pt x="46" y="46"/>
                      </a:lnTo>
                      <a:lnTo>
                        <a:pt x="0" y="46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681360" y="5608800"/>
                  <a:ext cx="73080" cy="7272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28" y="0"/>
                      </a:moveTo>
                      <a:lnTo>
                        <a:pt x="46" y="46"/>
                      </a:lnTo>
                      <a:lnTo>
                        <a:pt x="0" y="46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910680" y="5549760"/>
                  <a:ext cx="1328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H en zone malad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962240" y="5402160"/>
                  <a:ext cx="38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4742640" y="1295280"/>
                <a:ext cx="3844440" cy="3514680"/>
                <a:chOff x="4742640" y="1295280"/>
                <a:chExt cx="3844440" cy="35146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178600" y="2013120"/>
                  <a:ext cx="2882880" cy="2697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178600" y="4176720"/>
                  <a:ext cx="28828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178600" y="3641760"/>
                  <a:ext cx="28828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178600" y="3081240"/>
                  <a:ext cx="288288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178600" y="2546280"/>
                  <a:ext cx="288288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178600" y="2013120"/>
                  <a:ext cx="2882880" cy="269712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132520" y="2013120"/>
                  <a:ext cx="2928960" cy="1440"/>
                </a:xfrm>
                <a:custGeom>
                  <a:avLst/>
                  <a:gdLst/>
                  <a:ahLst/>
                  <a:rect l="l" t="t" r="r" b="b"/>
                  <a:pathLst>
                    <a:path w="1552" h="0">
                      <a:moveTo>
                        <a:pt x="0" y="0"/>
                      </a:moveTo>
                      <a:lnTo>
                        <a:pt x="24" y="0"/>
                      </a:lnTo>
                      <a:lnTo>
                        <a:pt x="1552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978600" y="1295280"/>
                  <a:ext cx="621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Arial"/>
                    </a:rPr>
                    <a:t>CAS N°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5899320" y="2012760"/>
                  <a:ext cx="2164680" cy="2529000"/>
                  <a:chOff x="5899320" y="2012760"/>
                  <a:chExt cx="2164680" cy="25290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flipV="1">
                    <a:off x="5899320" y="2012760"/>
                    <a:ext cx="108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V="1">
                    <a:off x="6619680" y="2012760"/>
                    <a:ext cx="108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V="1">
                    <a:off x="7340400" y="2012760"/>
                    <a:ext cx="288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V="1">
                    <a:off x="8061120" y="2012760"/>
                    <a:ext cx="288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7145280" y="2280600"/>
                    <a:ext cx="90000" cy="53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01">
                        <a:moveTo>
                          <a:pt x="48" y="0"/>
                        </a:moveTo>
                        <a:lnTo>
                          <a:pt x="32" y="71"/>
                        </a:lnTo>
                        <a:lnTo>
                          <a:pt x="16" y="150"/>
                        </a:lnTo>
                        <a:lnTo>
                          <a:pt x="0" y="190"/>
                        </a:lnTo>
                        <a:lnTo>
                          <a:pt x="0" y="229"/>
                        </a:lnTo>
                        <a:lnTo>
                          <a:pt x="0" y="261"/>
                        </a:lnTo>
                        <a:lnTo>
                          <a:pt x="8" y="301"/>
                        </a:lnTo>
                      </a:path>
                    </a:pathLst>
                  </a:custGeom>
                  <a:noFill/>
                  <a:ln w="255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7159320" y="2814840"/>
                    <a:ext cx="390240" cy="54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309">
                        <a:moveTo>
                          <a:pt x="0" y="0"/>
                        </a:moveTo>
                        <a:lnTo>
                          <a:pt x="16" y="39"/>
                        </a:lnTo>
                        <a:lnTo>
                          <a:pt x="40" y="79"/>
                        </a:lnTo>
                        <a:lnTo>
                          <a:pt x="64" y="119"/>
                        </a:lnTo>
                        <a:lnTo>
                          <a:pt x="96" y="150"/>
                        </a:lnTo>
                        <a:lnTo>
                          <a:pt x="160" y="237"/>
                        </a:lnTo>
                        <a:lnTo>
                          <a:pt x="191" y="277"/>
                        </a:lnTo>
                        <a:lnTo>
                          <a:pt x="207" y="309"/>
                        </a:lnTo>
                      </a:path>
                    </a:pathLst>
                  </a:custGeom>
                  <a:noFill/>
                  <a:ln w="255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549920" y="3361320"/>
                    <a:ext cx="150480" cy="5486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09">
                        <a:moveTo>
                          <a:pt x="0" y="0"/>
                        </a:moveTo>
                        <a:lnTo>
                          <a:pt x="40" y="79"/>
                        </a:lnTo>
                        <a:lnTo>
                          <a:pt x="56" y="158"/>
                        </a:lnTo>
                        <a:lnTo>
                          <a:pt x="72" y="229"/>
                        </a:lnTo>
                        <a:lnTo>
                          <a:pt x="80" y="309"/>
                        </a:lnTo>
                      </a:path>
                    </a:pathLst>
                  </a:custGeom>
                  <a:noFill/>
                  <a:ln w="255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700760" y="3910320"/>
                    <a:ext cx="15480" cy="5335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01">
                        <a:moveTo>
                          <a:pt x="0" y="0"/>
                        </a:moveTo>
                        <a:lnTo>
                          <a:pt x="8" y="71"/>
                        </a:lnTo>
                        <a:lnTo>
                          <a:pt x="8" y="150"/>
                        </a:lnTo>
                        <a:lnTo>
                          <a:pt x="0" y="301"/>
                        </a:lnTo>
                      </a:path>
                    </a:pathLst>
                  </a:custGeom>
                  <a:noFill/>
                  <a:ln w="255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6422760" y="2280600"/>
                    <a:ext cx="272880" cy="53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301">
                        <a:moveTo>
                          <a:pt x="0" y="0"/>
                        </a:moveTo>
                        <a:lnTo>
                          <a:pt x="40" y="71"/>
                        </a:lnTo>
                        <a:lnTo>
                          <a:pt x="80" y="150"/>
                        </a:lnTo>
                        <a:lnTo>
                          <a:pt x="120" y="229"/>
                        </a:lnTo>
                        <a:lnTo>
                          <a:pt x="144" y="301"/>
                        </a:lnTo>
                      </a:path>
                    </a:pathLst>
                  </a:custGeom>
                  <a:noFill/>
                  <a:ln w="2556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6696000" y="2814840"/>
                    <a:ext cx="72360" cy="54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9">
                        <a:moveTo>
                          <a:pt x="0" y="0"/>
                        </a:moveTo>
                        <a:lnTo>
                          <a:pt x="16" y="79"/>
                        </a:lnTo>
                        <a:lnTo>
                          <a:pt x="24" y="150"/>
                        </a:lnTo>
                        <a:lnTo>
                          <a:pt x="24" y="237"/>
                        </a:lnTo>
                        <a:lnTo>
                          <a:pt x="39" y="309"/>
                        </a:lnTo>
                      </a:path>
                    </a:pathLst>
                  </a:custGeom>
                  <a:noFill/>
                  <a:ln w="2556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768720" y="3361320"/>
                    <a:ext cx="136440" cy="5486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09">
                        <a:moveTo>
                          <a:pt x="0" y="0"/>
                        </a:moveTo>
                        <a:lnTo>
                          <a:pt x="16" y="79"/>
                        </a:lnTo>
                        <a:lnTo>
                          <a:pt x="40" y="158"/>
                        </a:lnTo>
                        <a:lnTo>
                          <a:pt x="64" y="229"/>
                        </a:lnTo>
                        <a:lnTo>
                          <a:pt x="72" y="309"/>
                        </a:lnTo>
                      </a:path>
                    </a:pathLst>
                  </a:custGeom>
                  <a:noFill/>
                  <a:ln w="2556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905520" y="3910320"/>
                    <a:ext cx="13680" cy="5335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01">
                        <a:moveTo>
                          <a:pt x="0" y="0"/>
                        </a:moveTo>
                        <a:lnTo>
                          <a:pt x="8" y="71"/>
                        </a:lnTo>
                        <a:lnTo>
                          <a:pt x="8" y="150"/>
                        </a:lnTo>
                        <a:lnTo>
                          <a:pt x="0" y="301"/>
                        </a:lnTo>
                      </a:path>
                    </a:pathLst>
                  </a:custGeom>
                  <a:noFill/>
                  <a:ln w="2556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7189560" y="2237400"/>
                    <a:ext cx="90000" cy="8352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7189560" y="2237400"/>
                    <a:ext cx="90000" cy="83520"/>
                  </a:xfrm>
                  <a:prstGeom prst="rect">
                    <a:avLst/>
                  </a:prstGeom>
                  <a:noFill/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7115040" y="2771640"/>
                    <a:ext cx="90000" cy="8316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7115040" y="2771640"/>
                    <a:ext cx="90000" cy="83160"/>
                  </a:xfrm>
                  <a:prstGeom prst="rect">
                    <a:avLst/>
                  </a:prstGeom>
                  <a:noFill/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7505640" y="3319920"/>
                    <a:ext cx="104400" cy="9756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7505640" y="3319920"/>
                    <a:ext cx="104400" cy="97560"/>
                  </a:xfrm>
                  <a:prstGeom prst="rect">
                    <a:avLst/>
                  </a:prstGeom>
                  <a:noFill/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7656480" y="3868560"/>
                    <a:ext cx="90000" cy="8316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7656480" y="3868560"/>
                    <a:ext cx="90000" cy="83160"/>
                  </a:xfrm>
                  <a:prstGeom prst="rect">
                    <a:avLst/>
                  </a:prstGeom>
                  <a:noFill/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7656480" y="4402440"/>
                    <a:ext cx="90000" cy="8352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7656480" y="4402440"/>
                    <a:ext cx="90000" cy="83520"/>
                  </a:xfrm>
                  <a:prstGeom prst="rect">
                    <a:avLst/>
                  </a:prstGeom>
                  <a:noFill/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379920" y="2237400"/>
                    <a:ext cx="10440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47">
                        <a:moveTo>
                          <a:pt x="23" y="0"/>
                        </a:moveTo>
                        <a:lnTo>
                          <a:pt x="55" y="47"/>
                        </a:lnTo>
                        <a:lnTo>
                          <a:pt x="0" y="47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379920" y="2237400"/>
                    <a:ext cx="10440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47">
                        <a:moveTo>
                          <a:pt x="23" y="0"/>
                        </a:moveTo>
                        <a:lnTo>
                          <a:pt x="55" y="47"/>
                        </a:lnTo>
                        <a:lnTo>
                          <a:pt x="0" y="47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6649920" y="2771640"/>
                    <a:ext cx="9000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7">
                        <a:moveTo>
                          <a:pt x="24" y="0"/>
                        </a:moveTo>
                        <a:lnTo>
                          <a:pt x="48" y="47"/>
                        </a:lnTo>
                        <a:lnTo>
                          <a:pt x="0" y="47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6649920" y="2771640"/>
                    <a:ext cx="9000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7">
                        <a:moveTo>
                          <a:pt x="24" y="0"/>
                        </a:moveTo>
                        <a:lnTo>
                          <a:pt x="48" y="47"/>
                        </a:lnTo>
                        <a:lnTo>
                          <a:pt x="0" y="47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725880" y="3319920"/>
                    <a:ext cx="8856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5">
                        <a:moveTo>
                          <a:pt x="23" y="0"/>
                        </a:moveTo>
                        <a:lnTo>
                          <a:pt x="47" y="55"/>
                        </a:lnTo>
                        <a:lnTo>
                          <a:pt x="0" y="55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725880" y="3319920"/>
                    <a:ext cx="8856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5">
                        <a:moveTo>
                          <a:pt x="23" y="0"/>
                        </a:moveTo>
                        <a:lnTo>
                          <a:pt x="47" y="55"/>
                        </a:lnTo>
                        <a:lnTo>
                          <a:pt x="0" y="55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859440" y="3868560"/>
                    <a:ext cx="10584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7">
                        <a:moveTo>
                          <a:pt x="24" y="0"/>
                        </a:moveTo>
                        <a:lnTo>
                          <a:pt x="56" y="47"/>
                        </a:lnTo>
                        <a:lnTo>
                          <a:pt x="0" y="47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859440" y="3868560"/>
                    <a:ext cx="10584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7">
                        <a:moveTo>
                          <a:pt x="24" y="0"/>
                        </a:moveTo>
                        <a:lnTo>
                          <a:pt x="56" y="47"/>
                        </a:lnTo>
                        <a:lnTo>
                          <a:pt x="0" y="47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859440" y="4402440"/>
                    <a:ext cx="10584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7">
                        <a:moveTo>
                          <a:pt x="24" y="0"/>
                        </a:moveTo>
                        <a:lnTo>
                          <a:pt x="56" y="47"/>
                        </a:lnTo>
                        <a:lnTo>
                          <a:pt x="0" y="47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859440" y="4402440"/>
                    <a:ext cx="10584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7">
                        <a:moveTo>
                          <a:pt x="24" y="0"/>
                        </a:moveTo>
                        <a:lnTo>
                          <a:pt x="56" y="47"/>
                        </a:lnTo>
                        <a:lnTo>
                          <a:pt x="0" y="47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948360" y="2197440"/>
                    <a:ext cx="2142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6,9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114680" y="205488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873480" y="2731320"/>
                    <a:ext cx="2142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6,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7039800" y="258876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278480" y="3276720"/>
                    <a:ext cx="2142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7,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7446240" y="313560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414920" y="3823200"/>
                    <a:ext cx="2142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7,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7579800" y="368388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414920" y="4358880"/>
                    <a:ext cx="2142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7,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579800" y="421776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151320" y="2197440"/>
                    <a:ext cx="2142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,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319080" y="205488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406920" y="2731320"/>
                    <a:ext cx="2142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6,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574680" y="258876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483240" y="3276720"/>
                    <a:ext cx="2142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6,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649560" y="313560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634080" y="3823200"/>
                    <a:ext cx="2142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6,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6798600" y="368388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634080" y="4358880"/>
                    <a:ext cx="2142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6,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798600" y="421776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5057280" y="4486320"/>
                  <a:ext cx="6768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4892760" y="1785960"/>
                  <a:ext cx="287280" cy="3024000"/>
                  <a:chOff x="4892760" y="1785960"/>
                  <a:chExt cx="287280" cy="302400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5178600" y="2012040"/>
                    <a:ext cx="1440" cy="2698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32520" y="4710600"/>
                    <a:ext cx="4608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5132520" y="4176360"/>
                    <a:ext cx="4608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5132520" y="3641760"/>
                    <a:ext cx="4608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132520" y="3080520"/>
                    <a:ext cx="4608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132520" y="2546280"/>
                    <a:ext cx="4608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V="1">
                    <a:off x="5178600" y="2011680"/>
                    <a:ext cx="144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892760" y="4627080"/>
                    <a:ext cx="511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-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937400" y="4627080"/>
                    <a:ext cx="1713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2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892760" y="4092840"/>
                    <a:ext cx="511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-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937400" y="4092840"/>
                    <a:ext cx="1713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2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057640" y="395136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892760" y="3544200"/>
                    <a:ext cx="511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-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937400" y="3544200"/>
                    <a:ext cx="1713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1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057640" y="340308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4892760" y="2997000"/>
                    <a:ext cx="511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-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4937400" y="2997000"/>
                    <a:ext cx="1713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1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5057640" y="285444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4967280" y="2461320"/>
                    <a:ext cx="511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-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5011200" y="246132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5071680" y="232020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5011200" y="192888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5071680" y="178596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5208120" y="1589040"/>
                  <a:ext cx="6768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928840" y="1589040"/>
                  <a:ext cx="6768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649560" y="1589040"/>
                  <a:ext cx="6768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70280" y="1589040"/>
                  <a:ext cx="6768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" name=""/>
                <p:cNvGrpSpPr/>
                <p:nvPr/>
              </p:nvGrpSpPr>
              <p:grpSpPr>
                <a:xfrm>
                  <a:off x="5147640" y="1731960"/>
                  <a:ext cx="2968920" cy="182880"/>
                  <a:chOff x="5147640" y="1731960"/>
                  <a:chExt cx="2968920" cy="18288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5147640" y="173196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868360" y="173196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6589080" y="173196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309800" y="173196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8030520" y="173196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>
                  <a:off x="8092800" y="1589040"/>
                  <a:ext cx="6768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383680" y="1744560"/>
                  <a:ext cx="203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092800" y="1309680"/>
                  <a:ext cx="6768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742640" y="1339920"/>
                  <a:ext cx="13068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fondeur en 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913000" y="1322280"/>
                  <a:ext cx="6768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4438800" y="1066680"/>
                <a:ext cx="0" cy="403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324000" y="1066680"/>
              <a:ext cx="8534160" cy="495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26440" y="333360"/>
            <a:ext cx="68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tion du pH en profondeur  sur deux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01480" y="623736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’après B. Collomb,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5:00:39Z</dcterms:created>
  <dc:creator>Bernard</dc:creator>
  <dc:description/>
  <dc:language>en-US</dc:language>
  <cp:lastModifiedBy>_</cp:lastModifiedBy>
  <dcterms:modified xsi:type="dcterms:W3CDTF">2006-03-13T09:29:28Z</dcterms:modified>
  <cp:revision>4</cp:revision>
  <dc:subject/>
  <dc:title>Présentation PowerPoint</dc:title>
</cp:coreProperties>
</file>