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97C-D302-473C-9F97-914F3BF2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E7D-8AD7-443B-977C-C360B5F0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D5B-F58A-45A1-8D10-C5D6D114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AF4-8DA6-4CE8-A2E7-B3040298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E5F-8562-4E66-AD72-7D3046BB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491-4DFF-47CA-A6F7-0E348E4A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555-F1E1-4E99-AB34-5D256EC0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BBA-4AAC-4740-9C68-FDD6E8F3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FFA-7D6A-44D6-A616-830A7D23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C05-31C8-49F9-8BFA-52CB480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3AF-E4A5-423A-843D-D06DCD46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A65-D41D-41F0-A224-FB8FB9B1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D556-20C6-4CB1-9D70-400DA2169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6680" y="1044720"/>
            <a:ext cx="8745480" cy="5813280"/>
            <a:chOff x="166680" y="1044720"/>
            <a:chExt cx="8745480" cy="5813280"/>
          </a:xfrm>
        </p:grpSpPr>
        <p:sp>
          <p:nvSpPr>
            <p:cNvPr id="42" name=""/>
            <p:cNvSpPr/>
            <p:nvPr/>
          </p:nvSpPr>
          <p:spPr>
            <a:xfrm>
              <a:off x="3959280" y="1523880"/>
              <a:ext cx="457200" cy="1600200"/>
            </a:xfrm>
            <a:prstGeom prst="cube">
              <a:avLst>
                <a:gd name="adj" fmla="val 8645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39760" y="2075040"/>
              <a:ext cx="104760" cy="104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91680" y="198108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39760" y="2770200"/>
              <a:ext cx="104760" cy="1047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01760" y="271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39760" y="3456000"/>
              <a:ext cx="104760" cy="106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01400" y="3398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39760" y="4152960"/>
              <a:ext cx="104760" cy="104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01760" y="409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39760" y="4838760"/>
              <a:ext cx="104760" cy="104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01400" y="47815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39760" y="5533920"/>
              <a:ext cx="104760" cy="1047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01400" y="54770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19440" y="2205000"/>
              <a:ext cx="457200" cy="403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81320" y="1523880"/>
              <a:ext cx="609840" cy="1600200"/>
            </a:xfrm>
            <a:prstGeom prst="cube">
              <a:avLst>
                <a:gd name="adj" fmla="val 640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92160" y="1197000"/>
              <a:ext cx="31932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24160" y="2205000"/>
              <a:ext cx="0" cy="403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9960" y="1676520"/>
              <a:ext cx="1055520" cy="28900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7512120" y="2233440"/>
              <a:ext cx="152280" cy="304920"/>
              <a:chOff x="7512120" y="2233440"/>
              <a:chExt cx="152280" cy="304920"/>
            </a:xfrm>
          </p:grpSpPr>
          <p:sp>
            <p:nvSpPr>
              <p:cNvPr id="61" name=""/>
              <p:cNvSpPr/>
              <p:nvPr/>
            </p:nvSpPr>
            <p:spPr>
              <a:xfrm>
                <a:off x="7512120" y="22334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4400" y="22334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7512120" y="3048120"/>
              <a:ext cx="152280" cy="304560"/>
              <a:chOff x="7512120" y="3048120"/>
              <a:chExt cx="152280" cy="304560"/>
            </a:xfrm>
          </p:grpSpPr>
          <p:sp>
            <p:nvSpPr>
              <p:cNvPr id="64" name=""/>
              <p:cNvSpPr/>
              <p:nvPr/>
            </p:nvSpPr>
            <p:spPr>
              <a:xfrm>
                <a:off x="7512120" y="30481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64400" y="30481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7512120" y="3733920"/>
              <a:ext cx="152280" cy="304560"/>
              <a:chOff x="7512120" y="3733920"/>
              <a:chExt cx="152280" cy="304560"/>
            </a:xfrm>
          </p:grpSpPr>
          <p:sp>
            <p:nvSpPr>
              <p:cNvPr id="67" name=""/>
              <p:cNvSpPr/>
              <p:nvPr/>
            </p:nvSpPr>
            <p:spPr>
              <a:xfrm>
                <a:off x="7512120" y="37339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64400" y="37339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568760" y="1523880"/>
              <a:ext cx="2210040" cy="16002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Al)-silic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ir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arg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3509640" y="2397240"/>
              <a:ext cx="13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Oxyhydroxy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45240" y="1703520"/>
              <a:ext cx="322560" cy="40579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02680" y="3429000"/>
              <a:ext cx="60948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6280" y="1828800"/>
              <a:ext cx="7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28880" y="259236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28880" y="335772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28520" y="412272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39320" y="488808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39320" y="5653080"/>
              <a:ext cx="8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511000" y="2757600"/>
              <a:ext cx="304920" cy="152280"/>
              <a:chOff x="2511000" y="2757600"/>
              <a:chExt cx="304920" cy="15228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2511000" y="27576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511000" y="2909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511000" y="3535200"/>
              <a:ext cx="304920" cy="152280"/>
              <a:chOff x="2511000" y="3535200"/>
              <a:chExt cx="304920" cy="152280"/>
            </a:xfrm>
          </p:grpSpPr>
          <p:sp>
            <p:nvSpPr>
              <p:cNvPr id="83" name=""/>
              <p:cNvSpPr/>
              <p:nvPr/>
            </p:nvSpPr>
            <p:spPr>
              <a:xfrm flipH="1">
                <a:off x="2511000" y="35352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511000" y="36874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511000" y="4311720"/>
              <a:ext cx="304920" cy="152280"/>
              <a:chOff x="2511000" y="4311720"/>
              <a:chExt cx="304920" cy="15228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511000" y="43117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511000" y="44640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511000" y="5089680"/>
              <a:ext cx="304920" cy="152280"/>
              <a:chOff x="2511000" y="5089680"/>
              <a:chExt cx="304920" cy="152280"/>
            </a:xfrm>
          </p:grpSpPr>
          <p:sp>
            <p:nvSpPr>
              <p:cNvPr id="89" name=""/>
              <p:cNvSpPr/>
              <p:nvPr/>
            </p:nvSpPr>
            <p:spPr>
              <a:xfrm flipH="1">
                <a:off x="2511000" y="50896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2511000" y="52419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511000" y="5867280"/>
              <a:ext cx="304920" cy="152280"/>
              <a:chOff x="2511000" y="5867280"/>
              <a:chExt cx="304920" cy="15228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2511000" y="5867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511000" y="60195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578400" y="1981080"/>
              <a:ext cx="304560" cy="152280"/>
              <a:chOff x="3578400" y="1981080"/>
              <a:chExt cx="304560" cy="152280"/>
            </a:xfrm>
          </p:grpSpPr>
          <p:sp>
            <p:nvSpPr>
              <p:cNvPr id="95" name=""/>
              <p:cNvSpPr/>
              <p:nvPr/>
            </p:nvSpPr>
            <p:spPr>
              <a:xfrm flipH="1">
                <a:off x="3578400" y="19810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578400" y="213336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530160" y="3272760"/>
              <a:ext cx="1061280" cy="811080"/>
              <a:chOff x="3530160" y="3272760"/>
              <a:chExt cx="1061280" cy="81108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3645360" y="3443400"/>
                <a:ext cx="946080" cy="64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530160" y="3272760"/>
                <a:ext cx="945720" cy="64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flipH="1">
              <a:off x="7464600" y="3886200"/>
              <a:ext cx="380880" cy="53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72120" y="4449600"/>
              <a:ext cx="171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a(OH)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529000">
              <a:off x="3104640" y="3524040"/>
              <a:ext cx="2240280" cy="309240"/>
            </a:xfrm>
            <a:prstGeom prst="rightArrow">
              <a:avLst>
                <a:gd name="adj1" fmla="val 50000"/>
                <a:gd name="adj2" fmla="val 18111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9083600">
              <a:off x="3578400" y="5257440"/>
              <a:ext cx="1218960" cy="304920"/>
            </a:xfrm>
            <a:prstGeom prst="leftArrow">
              <a:avLst>
                <a:gd name="adj1" fmla="val 50000"/>
                <a:gd name="adj2" fmla="val 99941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16280" y="304812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2600" y="6095880"/>
              <a:ext cx="533160" cy="228600"/>
            </a:xfrm>
            <a:prstGeom prst="leftArrow">
              <a:avLst>
                <a:gd name="adj1" fmla="val 50000"/>
                <a:gd name="adj2" fmla="val 5830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92600" y="1828800"/>
              <a:ext cx="380880" cy="53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545200">
              <a:off x="5635440" y="51814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66000" y="5592600"/>
              <a:ext cx="94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53960" y="1600200"/>
              <a:ext cx="466920" cy="4602240"/>
              <a:chOff x="453960" y="1600200"/>
              <a:chExt cx="466920" cy="4602240"/>
            </a:xfrm>
          </p:grpSpPr>
          <p:sp>
            <p:nvSpPr>
              <p:cNvPr id="110" name=""/>
              <p:cNvSpPr/>
              <p:nvPr/>
            </p:nvSpPr>
            <p:spPr>
              <a:xfrm>
                <a:off x="463680" y="3276720"/>
                <a:ext cx="457200" cy="29257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3680" y="3048120"/>
                <a:ext cx="457200" cy="26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3680" y="2819520"/>
                <a:ext cx="4572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3960" y="2836800"/>
                <a:ext cx="466920" cy="25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3680" y="2209680"/>
                <a:ext cx="457200" cy="6858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3680" y="1600200"/>
                <a:ext cx="45720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66680" y="1044720"/>
              <a:ext cx="8651160" cy="906120"/>
              <a:chOff x="166680" y="1044720"/>
              <a:chExt cx="8651160" cy="906120"/>
            </a:xfrm>
          </p:grpSpPr>
          <p:sp>
            <p:nvSpPr>
              <p:cNvPr id="117" name=""/>
              <p:cNvSpPr/>
              <p:nvPr/>
            </p:nvSpPr>
            <p:spPr>
              <a:xfrm>
                <a:off x="8231760" y="1066680"/>
                <a:ext cx="58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1139760" y="1752480"/>
                <a:ext cx="537480" cy="198360"/>
                <a:chOff x="1139760" y="1752480"/>
                <a:chExt cx="537480" cy="1983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139760" y="1828440"/>
                  <a:ext cx="104760" cy="92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292400" y="1752480"/>
                  <a:ext cx="384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300" spc="-1" strike="noStrike">
                      <a:solidFill>
                        <a:srgbClr val="000000"/>
                      </a:solidFill>
                      <a:latin typeface="Arial"/>
                    </a:rPr>
                    <a:t>H Co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66680" y="1044720"/>
                <a:ext cx="109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%CE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31320" y="1044720"/>
                <a:ext cx="93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EC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853240" y="6453360"/>
              <a:ext cx="30589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&lt;footer&gt;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 Fabre 2004 d’après Dufey 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15880" y="20808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t du chaulage : Élévation du pH et Recal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0:25:35Z</dcterms:created>
  <dc:creator>_</dc:creator>
  <dc:description/>
  <dc:language>en-US</dc:language>
  <cp:lastModifiedBy>_</cp:lastModifiedBy>
  <dcterms:modified xsi:type="dcterms:W3CDTF">2006-04-20T07:09:56Z</dcterms:modified>
  <cp:revision>4</cp:revision>
  <dc:subject/>
  <dc:title>Diapositive 1</dc:title>
</cp:coreProperties>
</file>