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0F3-BD0B-4F82-A454-5B0A506D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155-54B2-46B2-8128-1433E56D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CC5-803B-4ABD-949A-4131F418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40E-55E8-4E3E-82D1-7744D568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1FD-0345-4DE9-829A-D48F7367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AF4-AC62-458F-9C69-26EE22E0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78B-3D94-4B4D-B912-79C551F1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CE0-149C-41C3-91B0-066F0ED5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5A5-11A6-432E-860E-3544BB32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376-9A9A-4D08-9613-E601694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FA3-F525-42E0-96C8-0EA9FE66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907-619A-421B-AD9F-CEF27077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8AEB-43C9-49A6-A6B4-C1D900D0C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5440" cy="5848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94920" y="623736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outhier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01320" y="189000"/>
            <a:ext cx="67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ts du chaulage sur l’état du profil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3:03:48Z</dcterms:created>
  <dc:creator>_</dc:creator>
  <dc:description/>
  <dc:language>en-US</dc:language>
  <cp:lastModifiedBy>_</cp:lastModifiedBy>
  <dcterms:modified xsi:type="dcterms:W3CDTF">2006-03-13T09:28:14Z</dcterms:modified>
  <cp:revision>3</cp:revision>
  <dc:subject/>
  <dc:title>Diapositive 1</dc:title>
</cp:coreProperties>
</file>