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74D-99CD-419C-87D6-31E03AC5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852-3A6C-499C-B27C-03981B1C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798-9444-4867-A08D-2C98DC60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869-3AC7-4800-8375-A1E7E0F8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BC6-F20C-404D-AC1C-241A9C58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AD2-F57C-4012-A42C-5F8B6C83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EAF-1C97-411F-9CBB-557B5EA8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ABC-1512-4E12-8433-663F3557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6B19-F171-41B3-A6B0-8D67687D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57F-F988-4428-9080-10C9EDE5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D8F-C6DC-430F-B968-2FE92F9A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A1B-0FCA-4023-A1F6-BA642848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5F40-A497-4D44-8DA4-C4B1F9763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240" y="1066680"/>
            <a:ext cx="8725680" cy="5410440"/>
            <a:chOff x="228240" y="1066680"/>
            <a:chExt cx="8725680" cy="5410440"/>
          </a:xfrm>
        </p:grpSpPr>
        <p:grpSp>
          <p:nvGrpSpPr>
            <p:cNvPr id="42" name=""/>
            <p:cNvGrpSpPr/>
            <p:nvPr/>
          </p:nvGrpSpPr>
          <p:grpSpPr>
            <a:xfrm>
              <a:off x="3720960" y="2743200"/>
              <a:ext cx="1320840" cy="1701720"/>
              <a:chOff x="3720960" y="2743200"/>
              <a:chExt cx="1320840" cy="1701720"/>
            </a:xfrm>
          </p:grpSpPr>
          <p:sp>
            <p:nvSpPr>
              <p:cNvPr id="43" name=""/>
              <p:cNvSpPr/>
              <p:nvPr/>
            </p:nvSpPr>
            <p:spPr>
              <a:xfrm>
                <a:off x="3873600" y="3086280"/>
                <a:ext cx="495360" cy="1307880"/>
              </a:xfrm>
              <a:custGeom>
                <a:avLst/>
                <a:gdLst/>
                <a:ahLst/>
                <a:rect l="l" t="t" r="r" b="b"/>
                <a:pathLst>
                  <a:path w="312" h="824">
                    <a:moveTo>
                      <a:pt x="296" y="696"/>
                    </a:moveTo>
                    <a:cubicBezTo>
                      <a:pt x="288" y="632"/>
                      <a:pt x="280" y="496"/>
                      <a:pt x="248" y="408"/>
                    </a:cubicBezTo>
                    <a:cubicBezTo>
                      <a:pt x="216" y="320"/>
                      <a:pt x="144" y="232"/>
                      <a:pt x="104" y="168"/>
                    </a:cubicBezTo>
                    <a:cubicBezTo>
                      <a:pt x="64" y="104"/>
                      <a:pt x="0" y="0"/>
                      <a:pt x="8" y="24"/>
                    </a:cubicBezTo>
                    <a:cubicBezTo>
                      <a:pt x="16" y="48"/>
                      <a:pt x="120" y="240"/>
                      <a:pt x="152" y="312"/>
                    </a:cubicBezTo>
                    <a:cubicBezTo>
                      <a:pt x="184" y="384"/>
                      <a:pt x="176" y="376"/>
                      <a:pt x="200" y="456"/>
                    </a:cubicBezTo>
                    <a:cubicBezTo>
                      <a:pt x="224" y="536"/>
                      <a:pt x="280" y="760"/>
                      <a:pt x="296" y="792"/>
                    </a:cubicBezTo>
                    <a:cubicBezTo>
                      <a:pt x="312" y="824"/>
                      <a:pt x="304" y="760"/>
                      <a:pt x="296" y="696"/>
                    </a:cubicBez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3720960" y="3632040"/>
                <a:ext cx="622440" cy="736920"/>
              </a:xfrm>
              <a:custGeom>
                <a:avLst/>
                <a:gdLst/>
                <a:ahLst/>
                <a:rect l="l" t="t" r="r" b="b"/>
                <a:pathLst>
                  <a:path w="392" h="464">
                    <a:moveTo>
                      <a:pt x="392" y="448"/>
                    </a:moveTo>
                    <a:cubicBezTo>
                      <a:pt x="392" y="432"/>
                      <a:pt x="336" y="272"/>
                      <a:pt x="296" y="208"/>
                    </a:cubicBezTo>
                    <a:cubicBezTo>
                      <a:pt x="256" y="144"/>
                      <a:pt x="200" y="96"/>
                      <a:pt x="152" y="64"/>
                    </a:cubicBezTo>
                    <a:cubicBezTo>
                      <a:pt x="104" y="32"/>
                      <a:pt x="0" y="0"/>
                      <a:pt x="8" y="16"/>
                    </a:cubicBezTo>
                    <a:cubicBezTo>
                      <a:pt x="16" y="32"/>
                      <a:pt x="152" y="112"/>
                      <a:pt x="200" y="160"/>
                    </a:cubicBezTo>
                    <a:cubicBezTo>
                      <a:pt x="248" y="208"/>
                      <a:pt x="264" y="256"/>
                      <a:pt x="296" y="304"/>
                    </a:cubicBezTo>
                    <a:cubicBezTo>
                      <a:pt x="328" y="352"/>
                      <a:pt x="392" y="464"/>
                      <a:pt x="392" y="448"/>
                    </a:cubicBez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343400" y="2743200"/>
                <a:ext cx="698400" cy="1434960"/>
              </a:xfrm>
              <a:custGeom>
                <a:avLst/>
                <a:gdLst/>
                <a:ahLst/>
                <a:rect l="l" t="t" r="r" b="b"/>
                <a:pathLst>
                  <a:path w="440" h="904">
                    <a:moveTo>
                      <a:pt x="0" y="864"/>
                    </a:moveTo>
                    <a:cubicBezTo>
                      <a:pt x="0" y="824"/>
                      <a:pt x="8" y="424"/>
                      <a:pt x="48" y="288"/>
                    </a:cubicBezTo>
                    <a:cubicBezTo>
                      <a:pt x="88" y="152"/>
                      <a:pt x="176" y="96"/>
                      <a:pt x="240" y="48"/>
                    </a:cubicBezTo>
                    <a:cubicBezTo>
                      <a:pt x="304" y="0"/>
                      <a:pt x="424" y="0"/>
                      <a:pt x="432" y="0"/>
                    </a:cubicBezTo>
                    <a:cubicBezTo>
                      <a:pt x="440" y="0"/>
                      <a:pt x="328" y="24"/>
                      <a:pt x="288" y="48"/>
                    </a:cubicBezTo>
                    <a:cubicBezTo>
                      <a:pt x="248" y="72"/>
                      <a:pt x="224" y="104"/>
                      <a:pt x="192" y="144"/>
                    </a:cubicBezTo>
                    <a:cubicBezTo>
                      <a:pt x="160" y="184"/>
                      <a:pt x="120" y="224"/>
                      <a:pt x="96" y="288"/>
                    </a:cubicBezTo>
                    <a:cubicBezTo>
                      <a:pt x="72" y="352"/>
                      <a:pt x="64" y="432"/>
                      <a:pt x="48" y="528"/>
                    </a:cubicBezTo>
                    <a:cubicBezTo>
                      <a:pt x="32" y="624"/>
                      <a:pt x="0" y="904"/>
                      <a:pt x="0" y="864"/>
                    </a:cubicBez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330800" y="3429000"/>
                <a:ext cx="558720" cy="1015920"/>
              </a:xfrm>
              <a:custGeom>
                <a:avLst/>
                <a:gdLst/>
                <a:ahLst/>
                <a:rect l="l" t="t" r="r" b="b"/>
                <a:pathLst>
                  <a:path w="352" h="640">
                    <a:moveTo>
                      <a:pt x="8" y="576"/>
                    </a:moveTo>
                    <a:cubicBezTo>
                      <a:pt x="16" y="512"/>
                      <a:pt x="48" y="192"/>
                      <a:pt x="104" y="96"/>
                    </a:cubicBezTo>
                    <a:cubicBezTo>
                      <a:pt x="160" y="0"/>
                      <a:pt x="336" y="0"/>
                      <a:pt x="344" y="0"/>
                    </a:cubicBezTo>
                    <a:cubicBezTo>
                      <a:pt x="352" y="0"/>
                      <a:pt x="192" y="56"/>
                      <a:pt x="152" y="96"/>
                    </a:cubicBezTo>
                    <a:cubicBezTo>
                      <a:pt x="112" y="136"/>
                      <a:pt x="120" y="176"/>
                      <a:pt x="104" y="240"/>
                    </a:cubicBezTo>
                    <a:cubicBezTo>
                      <a:pt x="88" y="304"/>
                      <a:pt x="72" y="432"/>
                      <a:pt x="56" y="480"/>
                    </a:cubicBezTo>
                    <a:cubicBezTo>
                      <a:pt x="40" y="528"/>
                      <a:pt x="0" y="640"/>
                      <a:pt x="8" y="576"/>
                    </a:cubicBez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330800" y="3784680"/>
                <a:ext cx="558720" cy="507960"/>
              </a:xfrm>
              <a:custGeom>
                <a:avLst/>
                <a:gdLst/>
                <a:ahLst/>
                <a:rect l="l" t="t" r="r" b="b"/>
                <a:pathLst>
                  <a:path w="352" h="320">
                    <a:moveTo>
                      <a:pt x="8" y="304"/>
                    </a:moveTo>
                    <a:cubicBezTo>
                      <a:pt x="16" y="288"/>
                      <a:pt x="144" y="112"/>
                      <a:pt x="200" y="64"/>
                    </a:cubicBezTo>
                    <a:cubicBezTo>
                      <a:pt x="256" y="16"/>
                      <a:pt x="352" y="0"/>
                      <a:pt x="344" y="16"/>
                    </a:cubicBezTo>
                    <a:cubicBezTo>
                      <a:pt x="336" y="32"/>
                      <a:pt x="208" y="104"/>
                      <a:pt x="152" y="160"/>
                    </a:cubicBezTo>
                    <a:cubicBezTo>
                      <a:pt x="96" y="216"/>
                      <a:pt x="0" y="320"/>
                      <a:pt x="8" y="304"/>
                    </a:cubicBez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3263760" y="4330800"/>
              <a:ext cx="5178600" cy="1401840"/>
            </a:xfrm>
            <a:custGeom>
              <a:avLst/>
              <a:gdLst/>
              <a:ahLst/>
              <a:rect l="l" t="t" r="r" b="b"/>
              <a:pathLst>
                <a:path w="3262" h="883">
                  <a:moveTo>
                    <a:pt x="104" y="56"/>
                  </a:moveTo>
                  <a:cubicBezTo>
                    <a:pt x="120" y="24"/>
                    <a:pt x="160" y="16"/>
                    <a:pt x="200" y="8"/>
                  </a:cubicBezTo>
                  <a:cubicBezTo>
                    <a:pt x="240" y="0"/>
                    <a:pt x="288" y="0"/>
                    <a:pt x="344" y="8"/>
                  </a:cubicBezTo>
                  <a:cubicBezTo>
                    <a:pt x="400" y="16"/>
                    <a:pt x="496" y="56"/>
                    <a:pt x="536" y="56"/>
                  </a:cubicBezTo>
                  <a:cubicBezTo>
                    <a:pt x="576" y="56"/>
                    <a:pt x="560" y="16"/>
                    <a:pt x="584" y="8"/>
                  </a:cubicBezTo>
                  <a:cubicBezTo>
                    <a:pt x="608" y="0"/>
                    <a:pt x="624" y="8"/>
                    <a:pt x="680" y="8"/>
                  </a:cubicBezTo>
                  <a:cubicBezTo>
                    <a:pt x="736" y="8"/>
                    <a:pt x="848" y="0"/>
                    <a:pt x="920" y="8"/>
                  </a:cubicBezTo>
                  <a:cubicBezTo>
                    <a:pt x="992" y="16"/>
                    <a:pt x="978" y="49"/>
                    <a:pt x="1112" y="56"/>
                  </a:cubicBezTo>
                  <a:cubicBezTo>
                    <a:pt x="1246" y="63"/>
                    <a:pt x="1398" y="34"/>
                    <a:pt x="1722" y="50"/>
                  </a:cubicBezTo>
                  <a:cubicBezTo>
                    <a:pt x="2046" y="66"/>
                    <a:pt x="2850" y="91"/>
                    <a:pt x="3056" y="150"/>
                  </a:cubicBezTo>
                  <a:cubicBezTo>
                    <a:pt x="3262" y="209"/>
                    <a:pt x="2958" y="298"/>
                    <a:pt x="2956" y="405"/>
                  </a:cubicBezTo>
                  <a:cubicBezTo>
                    <a:pt x="2954" y="512"/>
                    <a:pt x="3251" y="722"/>
                    <a:pt x="3045" y="794"/>
                  </a:cubicBezTo>
                  <a:cubicBezTo>
                    <a:pt x="2839" y="866"/>
                    <a:pt x="2044" y="832"/>
                    <a:pt x="1722" y="838"/>
                  </a:cubicBezTo>
                  <a:cubicBezTo>
                    <a:pt x="1400" y="844"/>
                    <a:pt x="1276" y="820"/>
                    <a:pt x="1111" y="827"/>
                  </a:cubicBezTo>
                  <a:cubicBezTo>
                    <a:pt x="946" y="834"/>
                    <a:pt x="845" y="883"/>
                    <a:pt x="733" y="883"/>
                  </a:cubicBezTo>
                  <a:cubicBezTo>
                    <a:pt x="621" y="883"/>
                    <a:pt x="521" y="850"/>
                    <a:pt x="440" y="824"/>
                  </a:cubicBezTo>
                  <a:cubicBezTo>
                    <a:pt x="359" y="798"/>
                    <a:pt x="296" y="744"/>
                    <a:pt x="248" y="728"/>
                  </a:cubicBezTo>
                  <a:cubicBezTo>
                    <a:pt x="200" y="712"/>
                    <a:pt x="192" y="792"/>
                    <a:pt x="152" y="728"/>
                  </a:cubicBezTo>
                  <a:cubicBezTo>
                    <a:pt x="112" y="664"/>
                    <a:pt x="16" y="432"/>
                    <a:pt x="8" y="344"/>
                  </a:cubicBezTo>
                  <a:cubicBezTo>
                    <a:pt x="0" y="256"/>
                    <a:pt x="88" y="248"/>
                    <a:pt x="104" y="200"/>
                  </a:cubicBezTo>
                  <a:cubicBezTo>
                    <a:pt x="120" y="152"/>
                    <a:pt x="88" y="88"/>
                    <a:pt x="104" y="56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46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340160" y="4338720"/>
              <a:ext cx="319320" cy="846000"/>
            </a:xfrm>
            <a:custGeom>
              <a:avLst/>
              <a:gdLst/>
              <a:ahLst/>
              <a:rect l="l" t="t" r="r" b="b"/>
              <a:pathLst>
                <a:path w="201" h="533">
                  <a:moveTo>
                    <a:pt x="0" y="0"/>
                  </a:moveTo>
                  <a:cubicBezTo>
                    <a:pt x="31" y="46"/>
                    <a:pt x="57" y="72"/>
                    <a:pt x="111" y="89"/>
                  </a:cubicBezTo>
                  <a:cubicBezTo>
                    <a:pt x="133" y="104"/>
                    <a:pt x="155" y="118"/>
                    <a:pt x="177" y="133"/>
                  </a:cubicBezTo>
                  <a:cubicBezTo>
                    <a:pt x="197" y="146"/>
                    <a:pt x="200" y="200"/>
                    <a:pt x="200" y="200"/>
                  </a:cubicBezTo>
                  <a:cubicBezTo>
                    <a:pt x="186" y="331"/>
                    <a:pt x="201" y="262"/>
                    <a:pt x="177" y="333"/>
                  </a:cubicBezTo>
                  <a:cubicBezTo>
                    <a:pt x="169" y="355"/>
                    <a:pt x="155" y="400"/>
                    <a:pt x="155" y="400"/>
                  </a:cubicBezTo>
                  <a:cubicBezTo>
                    <a:pt x="166" y="526"/>
                    <a:pt x="166" y="481"/>
                    <a:pt x="166" y="5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57680" y="4638600"/>
              <a:ext cx="352440" cy="687600"/>
            </a:xfrm>
            <a:custGeom>
              <a:avLst/>
              <a:gdLst/>
              <a:ahLst/>
              <a:rect l="l" t="t" r="r" b="b"/>
              <a:pathLst>
                <a:path w="222" h="433">
                  <a:moveTo>
                    <a:pt x="0" y="0"/>
                  </a:moveTo>
                  <a:cubicBezTo>
                    <a:pt x="11" y="7"/>
                    <a:pt x="26" y="11"/>
                    <a:pt x="33" y="22"/>
                  </a:cubicBezTo>
                  <a:cubicBezTo>
                    <a:pt x="33" y="22"/>
                    <a:pt x="49" y="95"/>
                    <a:pt x="55" y="100"/>
                  </a:cubicBezTo>
                  <a:cubicBezTo>
                    <a:pt x="64" y="108"/>
                    <a:pt x="78" y="107"/>
                    <a:pt x="89" y="111"/>
                  </a:cubicBezTo>
                  <a:cubicBezTo>
                    <a:pt x="111" y="177"/>
                    <a:pt x="122" y="123"/>
                    <a:pt x="144" y="189"/>
                  </a:cubicBezTo>
                  <a:cubicBezTo>
                    <a:pt x="148" y="215"/>
                    <a:pt x="147" y="242"/>
                    <a:pt x="155" y="267"/>
                  </a:cubicBezTo>
                  <a:cubicBezTo>
                    <a:pt x="158" y="277"/>
                    <a:pt x="174" y="279"/>
                    <a:pt x="178" y="289"/>
                  </a:cubicBezTo>
                  <a:cubicBezTo>
                    <a:pt x="199" y="340"/>
                    <a:pt x="198" y="385"/>
                    <a:pt x="222" y="4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251240" y="4390920"/>
              <a:ext cx="141480" cy="723960"/>
            </a:xfrm>
            <a:custGeom>
              <a:avLst/>
              <a:gdLst/>
              <a:ahLst/>
              <a:rect l="l" t="t" r="r" b="b"/>
              <a:pathLst>
                <a:path w="89" h="456">
                  <a:moveTo>
                    <a:pt x="78" y="0"/>
                  </a:moveTo>
                  <a:cubicBezTo>
                    <a:pt x="67" y="4"/>
                    <a:pt x="47" y="0"/>
                    <a:pt x="45" y="12"/>
                  </a:cubicBezTo>
                  <a:cubicBezTo>
                    <a:pt x="32" y="86"/>
                    <a:pt x="72" y="163"/>
                    <a:pt x="89" y="234"/>
                  </a:cubicBezTo>
                  <a:cubicBezTo>
                    <a:pt x="81" y="291"/>
                    <a:pt x="78" y="351"/>
                    <a:pt x="45" y="400"/>
                  </a:cubicBezTo>
                  <a:cubicBezTo>
                    <a:pt x="39" y="409"/>
                    <a:pt x="29" y="415"/>
                    <a:pt x="22" y="423"/>
                  </a:cubicBezTo>
                  <a:cubicBezTo>
                    <a:pt x="14" y="433"/>
                    <a:pt x="0" y="456"/>
                    <a:pt x="0" y="4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67040" y="4462560"/>
              <a:ext cx="574920" cy="793800"/>
            </a:xfrm>
            <a:custGeom>
              <a:avLst/>
              <a:gdLst/>
              <a:ahLst/>
              <a:rect l="l" t="t" r="r" b="b"/>
              <a:pathLst>
                <a:path w="362" h="500">
                  <a:moveTo>
                    <a:pt x="350" y="0"/>
                  </a:moveTo>
                  <a:cubicBezTo>
                    <a:pt x="339" y="4"/>
                    <a:pt x="325" y="3"/>
                    <a:pt x="316" y="11"/>
                  </a:cubicBezTo>
                  <a:cubicBezTo>
                    <a:pt x="255" y="70"/>
                    <a:pt x="362" y="25"/>
                    <a:pt x="272" y="55"/>
                  </a:cubicBezTo>
                  <a:cubicBezTo>
                    <a:pt x="232" y="82"/>
                    <a:pt x="197" y="99"/>
                    <a:pt x="150" y="111"/>
                  </a:cubicBezTo>
                  <a:cubicBezTo>
                    <a:pt x="120" y="140"/>
                    <a:pt x="113" y="173"/>
                    <a:pt x="94" y="211"/>
                  </a:cubicBezTo>
                  <a:cubicBezTo>
                    <a:pt x="85" y="263"/>
                    <a:pt x="83" y="316"/>
                    <a:pt x="72" y="367"/>
                  </a:cubicBezTo>
                  <a:cubicBezTo>
                    <a:pt x="67" y="390"/>
                    <a:pt x="66" y="417"/>
                    <a:pt x="50" y="433"/>
                  </a:cubicBezTo>
                  <a:cubicBezTo>
                    <a:pt x="0" y="483"/>
                    <a:pt x="5" y="457"/>
                    <a:pt x="5" y="5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16440" y="4832280"/>
              <a:ext cx="247680" cy="424080"/>
            </a:xfrm>
            <a:custGeom>
              <a:avLst/>
              <a:gdLst/>
              <a:ahLst/>
              <a:rect l="l" t="t" r="r" b="b"/>
              <a:pathLst>
                <a:path w="156" h="267">
                  <a:moveTo>
                    <a:pt x="0" y="0"/>
                  </a:moveTo>
                  <a:cubicBezTo>
                    <a:pt x="7" y="11"/>
                    <a:pt x="12" y="25"/>
                    <a:pt x="22" y="34"/>
                  </a:cubicBezTo>
                  <a:cubicBezTo>
                    <a:pt x="42" y="52"/>
                    <a:pt x="89" y="78"/>
                    <a:pt x="89" y="78"/>
                  </a:cubicBezTo>
                  <a:cubicBezTo>
                    <a:pt x="119" y="123"/>
                    <a:pt x="116" y="112"/>
                    <a:pt x="133" y="178"/>
                  </a:cubicBezTo>
                  <a:cubicBezTo>
                    <a:pt x="141" y="208"/>
                    <a:pt x="156" y="267"/>
                    <a:pt x="156" y="2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400" y="4952880"/>
              <a:ext cx="130320" cy="317520"/>
            </a:xfrm>
            <a:custGeom>
              <a:avLst/>
              <a:gdLst/>
              <a:ahLst/>
              <a:rect l="l" t="t" r="r" b="b"/>
              <a:pathLst>
                <a:path w="82" h="200">
                  <a:moveTo>
                    <a:pt x="15" y="0"/>
                  </a:moveTo>
                  <a:cubicBezTo>
                    <a:pt x="0" y="60"/>
                    <a:pt x="5" y="111"/>
                    <a:pt x="48" y="156"/>
                  </a:cubicBezTo>
                  <a:cubicBezTo>
                    <a:pt x="62" y="197"/>
                    <a:pt x="49" y="184"/>
                    <a:pt x="82" y="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0120" y="4637160"/>
              <a:ext cx="176040" cy="142920"/>
            </a:xfrm>
            <a:custGeom>
              <a:avLst/>
              <a:gdLst/>
              <a:ahLst/>
              <a:rect l="l" t="t" r="r" b="b"/>
              <a:pathLst>
                <a:path w="111" h="90">
                  <a:moveTo>
                    <a:pt x="0" y="1"/>
                  </a:moveTo>
                  <a:cubicBezTo>
                    <a:pt x="83" y="15"/>
                    <a:pt x="111" y="0"/>
                    <a:pt x="111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56080" y="4532400"/>
              <a:ext cx="95400" cy="299880"/>
            </a:xfrm>
            <a:custGeom>
              <a:avLst/>
              <a:gdLst/>
              <a:ahLst/>
              <a:rect l="l" t="t" r="r" b="b"/>
              <a:pathLst>
                <a:path w="60" h="189">
                  <a:moveTo>
                    <a:pt x="60" y="0"/>
                  </a:moveTo>
                  <a:cubicBezTo>
                    <a:pt x="0" y="63"/>
                    <a:pt x="38" y="12"/>
                    <a:pt x="38" y="18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03680" y="5025960"/>
              <a:ext cx="220680" cy="195480"/>
            </a:xfrm>
            <a:custGeom>
              <a:avLst/>
              <a:gdLst/>
              <a:ahLst/>
              <a:rect l="l" t="t" r="r" b="b"/>
              <a:pathLst>
                <a:path w="139" h="123">
                  <a:moveTo>
                    <a:pt x="0" y="0"/>
                  </a:moveTo>
                  <a:cubicBezTo>
                    <a:pt x="40" y="11"/>
                    <a:pt x="86" y="5"/>
                    <a:pt x="123" y="23"/>
                  </a:cubicBezTo>
                  <a:cubicBezTo>
                    <a:pt x="139" y="31"/>
                    <a:pt x="134" y="97"/>
                    <a:pt x="134" y="1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118400" y="4518360"/>
              <a:ext cx="1421640" cy="1192680"/>
              <a:chOff x="4118400" y="4518360"/>
              <a:chExt cx="1421640" cy="1192680"/>
            </a:xfrm>
          </p:grpSpPr>
          <p:sp>
            <p:nvSpPr>
              <p:cNvPr id="59" name=""/>
              <p:cNvSpPr/>
              <p:nvPr/>
            </p:nvSpPr>
            <p:spPr>
              <a:xfrm rot="14134200">
                <a:off x="4267080" y="4799880"/>
                <a:ext cx="762120" cy="762120"/>
              </a:xfrm>
              <a:custGeom>
                <a:avLst/>
                <a:gdLst>
                  <a:gd name="textAreaLeft" fmla="*/ 0 w 762120"/>
                  <a:gd name="textAreaRight" fmla="*/ 762480 w 76212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3810000">
                <a:off x="4648320" y="4647960"/>
                <a:ext cx="761760" cy="76176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134800" y="5791320"/>
              <a:ext cx="30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s cycles C, N et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2590920" y="1066680"/>
              <a:ext cx="2933640" cy="2209680"/>
              <a:chOff x="2590920" y="1066680"/>
              <a:chExt cx="2933640" cy="2209680"/>
            </a:xfrm>
          </p:grpSpPr>
          <p:sp>
            <p:nvSpPr>
              <p:cNvPr id="63" name=""/>
              <p:cNvSpPr/>
              <p:nvPr/>
            </p:nvSpPr>
            <p:spPr>
              <a:xfrm>
                <a:off x="2590920" y="1066680"/>
                <a:ext cx="2933640" cy="1244520"/>
              </a:xfrm>
              <a:custGeom>
                <a:avLst/>
                <a:gdLst/>
                <a:ahLst/>
                <a:rect l="l" t="t" r="r" b="b"/>
                <a:pathLst>
                  <a:path w="1848" h="784">
                    <a:moveTo>
                      <a:pt x="296" y="768"/>
                    </a:moveTo>
                    <a:cubicBezTo>
                      <a:pt x="528" y="776"/>
                      <a:pt x="1360" y="768"/>
                      <a:pt x="1592" y="768"/>
                    </a:cubicBezTo>
                    <a:cubicBezTo>
                      <a:pt x="1824" y="768"/>
                      <a:pt x="1648" y="784"/>
                      <a:pt x="1688" y="768"/>
                    </a:cubicBezTo>
                    <a:cubicBezTo>
                      <a:pt x="1728" y="752"/>
                      <a:pt x="1816" y="728"/>
                      <a:pt x="1832" y="672"/>
                    </a:cubicBezTo>
                    <a:cubicBezTo>
                      <a:pt x="1848" y="616"/>
                      <a:pt x="1832" y="472"/>
                      <a:pt x="1784" y="432"/>
                    </a:cubicBezTo>
                    <a:cubicBezTo>
                      <a:pt x="1736" y="392"/>
                      <a:pt x="1592" y="416"/>
                      <a:pt x="1544" y="432"/>
                    </a:cubicBezTo>
                    <a:cubicBezTo>
                      <a:pt x="1496" y="448"/>
                      <a:pt x="1488" y="544"/>
                      <a:pt x="1496" y="528"/>
                    </a:cubicBezTo>
                    <a:cubicBezTo>
                      <a:pt x="1504" y="512"/>
                      <a:pt x="1592" y="392"/>
                      <a:pt x="1592" y="336"/>
                    </a:cubicBezTo>
                    <a:cubicBezTo>
                      <a:pt x="1592" y="280"/>
                      <a:pt x="1552" y="216"/>
                      <a:pt x="1496" y="192"/>
                    </a:cubicBezTo>
                    <a:cubicBezTo>
                      <a:pt x="1440" y="168"/>
                      <a:pt x="1328" y="168"/>
                      <a:pt x="1256" y="192"/>
                    </a:cubicBezTo>
                    <a:cubicBezTo>
                      <a:pt x="1184" y="216"/>
                      <a:pt x="1080" y="328"/>
                      <a:pt x="1064" y="336"/>
                    </a:cubicBezTo>
                    <a:cubicBezTo>
                      <a:pt x="1048" y="344"/>
                      <a:pt x="1152" y="272"/>
                      <a:pt x="1160" y="240"/>
                    </a:cubicBezTo>
                    <a:cubicBezTo>
                      <a:pt x="1168" y="208"/>
                      <a:pt x="1144" y="160"/>
                      <a:pt x="1112" y="144"/>
                    </a:cubicBezTo>
                    <a:cubicBezTo>
                      <a:pt x="1080" y="128"/>
                      <a:pt x="1000" y="120"/>
                      <a:pt x="968" y="144"/>
                    </a:cubicBezTo>
                    <a:cubicBezTo>
                      <a:pt x="936" y="168"/>
                      <a:pt x="920" y="288"/>
                      <a:pt x="920" y="288"/>
                    </a:cubicBezTo>
                    <a:cubicBezTo>
                      <a:pt x="920" y="288"/>
                      <a:pt x="968" y="184"/>
                      <a:pt x="968" y="144"/>
                    </a:cubicBezTo>
                    <a:cubicBezTo>
                      <a:pt x="968" y="104"/>
                      <a:pt x="960" y="72"/>
                      <a:pt x="920" y="48"/>
                    </a:cubicBezTo>
                    <a:cubicBezTo>
                      <a:pt x="880" y="24"/>
                      <a:pt x="800" y="0"/>
                      <a:pt x="728" y="0"/>
                    </a:cubicBezTo>
                    <a:cubicBezTo>
                      <a:pt x="656" y="0"/>
                      <a:pt x="544" y="8"/>
                      <a:pt x="488" y="48"/>
                    </a:cubicBezTo>
                    <a:cubicBezTo>
                      <a:pt x="432" y="88"/>
                      <a:pt x="408" y="184"/>
                      <a:pt x="392" y="240"/>
                    </a:cubicBezTo>
                    <a:cubicBezTo>
                      <a:pt x="376" y="296"/>
                      <a:pt x="384" y="344"/>
                      <a:pt x="392" y="384"/>
                    </a:cubicBezTo>
                    <a:cubicBezTo>
                      <a:pt x="400" y="424"/>
                      <a:pt x="440" y="480"/>
                      <a:pt x="440" y="480"/>
                    </a:cubicBezTo>
                    <a:cubicBezTo>
                      <a:pt x="440" y="480"/>
                      <a:pt x="424" y="408"/>
                      <a:pt x="392" y="384"/>
                    </a:cubicBezTo>
                    <a:cubicBezTo>
                      <a:pt x="360" y="360"/>
                      <a:pt x="304" y="336"/>
                      <a:pt x="248" y="336"/>
                    </a:cubicBezTo>
                    <a:cubicBezTo>
                      <a:pt x="192" y="336"/>
                      <a:pt x="96" y="344"/>
                      <a:pt x="56" y="384"/>
                    </a:cubicBezTo>
                    <a:cubicBezTo>
                      <a:pt x="16" y="424"/>
                      <a:pt x="0" y="528"/>
                      <a:pt x="8" y="576"/>
                    </a:cubicBezTo>
                    <a:cubicBezTo>
                      <a:pt x="16" y="624"/>
                      <a:pt x="72" y="648"/>
                      <a:pt x="104" y="672"/>
                    </a:cubicBezTo>
                    <a:cubicBezTo>
                      <a:pt x="136" y="696"/>
                      <a:pt x="168" y="704"/>
                      <a:pt x="200" y="720"/>
                    </a:cubicBezTo>
                    <a:cubicBezTo>
                      <a:pt x="232" y="736"/>
                      <a:pt x="64" y="760"/>
                      <a:pt x="296" y="768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285640"/>
                <a:ext cx="45720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200400" y="2285640"/>
                <a:ext cx="53352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657600" y="2285640"/>
                <a:ext cx="45720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886200" y="2285640"/>
                <a:ext cx="38088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114800" y="2285640"/>
                <a:ext cx="38088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67080" y="2285640"/>
                <a:ext cx="3049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495680" y="2285640"/>
                <a:ext cx="30492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48320" y="2285640"/>
                <a:ext cx="30456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876920" y="2285640"/>
                <a:ext cx="30456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29200" y="2285640"/>
                <a:ext cx="30492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181480" y="2285640"/>
                <a:ext cx="30492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971800" y="2285640"/>
                <a:ext cx="53352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638680" y="1828800"/>
              <a:ext cx="17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s plu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54640" y="3581280"/>
              <a:ext cx="195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s récol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24480" y="5257800"/>
              <a:ext cx="381240" cy="1219320"/>
            </a:xfrm>
            <a:prstGeom prst="downArrow">
              <a:avLst>
                <a:gd name="adj1" fmla="val 50000"/>
                <a:gd name="adj2" fmla="val 7995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83120" y="5791320"/>
              <a:ext cx="18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 drain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03800" y="4076640"/>
              <a:ext cx="776160" cy="297000"/>
            </a:xfrm>
            <a:custGeom>
              <a:avLst/>
              <a:gdLst/>
              <a:ahLst/>
              <a:rect l="l" t="t" r="r" b="b"/>
              <a:pathLst>
                <a:path w="489" h="187">
                  <a:moveTo>
                    <a:pt x="489" y="32"/>
                  </a:moveTo>
                  <a:cubicBezTo>
                    <a:pt x="390" y="0"/>
                    <a:pt x="445" y="7"/>
                    <a:pt x="322" y="21"/>
                  </a:cubicBezTo>
                  <a:cubicBezTo>
                    <a:pt x="248" y="46"/>
                    <a:pt x="212" y="55"/>
                    <a:pt x="134" y="65"/>
                  </a:cubicBezTo>
                  <a:cubicBezTo>
                    <a:pt x="112" y="72"/>
                    <a:pt x="83" y="78"/>
                    <a:pt x="67" y="98"/>
                  </a:cubicBezTo>
                  <a:cubicBezTo>
                    <a:pt x="8" y="173"/>
                    <a:pt x="116" y="93"/>
                    <a:pt x="22" y="154"/>
                  </a:cubicBezTo>
                  <a:cubicBezTo>
                    <a:pt x="15" y="165"/>
                    <a:pt x="0" y="187"/>
                    <a:pt x="0" y="1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6800" y="2819520"/>
              <a:ext cx="224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s pratiques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s engra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045040" y="3471120"/>
              <a:ext cx="2270160" cy="1024560"/>
              <a:chOff x="5045040" y="3471120"/>
              <a:chExt cx="2270160" cy="1024560"/>
            </a:xfrm>
          </p:grpSpPr>
          <p:sp>
            <p:nvSpPr>
              <p:cNvPr id="83" name=""/>
              <p:cNvSpPr/>
              <p:nvPr/>
            </p:nvSpPr>
            <p:spPr>
              <a:xfrm>
                <a:off x="5310360" y="4179960"/>
                <a:ext cx="722160" cy="193680"/>
              </a:xfrm>
              <a:custGeom>
                <a:avLst/>
                <a:gdLst/>
                <a:ahLst/>
                <a:rect l="l" t="t" r="r" b="b"/>
                <a:pathLst>
                  <a:path w="455" h="122">
                    <a:moveTo>
                      <a:pt x="455" y="0"/>
                    </a:moveTo>
                    <a:cubicBezTo>
                      <a:pt x="337" y="9"/>
                      <a:pt x="228" y="32"/>
                      <a:pt x="111" y="45"/>
                    </a:cubicBezTo>
                    <a:cubicBezTo>
                      <a:pt x="89" y="52"/>
                      <a:pt x="51" y="45"/>
                      <a:pt x="44" y="67"/>
                    </a:cubicBezTo>
                    <a:cubicBezTo>
                      <a:pt x="40" y="78"/>
                      <a:pt x="40" y="91"/>
                      <a:pt x="33" y="100"/>
                    </a:cubicBezTo>
                    <a:cubicBezTo>
                      <a:pt x="25" y="110"/>
                      <a:pt x="0" y="122"/>
                      <a:pt x="0" y="1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45040" y="4021200"/>
                <a:ext cx="934920" cy="304560"/>
              </a:xfrm>
              <a:custGeom>
                <a:avLst/>
                <a:gdLst/>
                <a:ahLst/>
                <a:rect l="l" t="t" r="r" b="b"/>
                <a:pathLst>
                  <a:path w="589" h="192">
                    <a:moveTo>
                      <a:pt x="589" y="67"/>
                    </a:moveTo>
                    <a:cubicBezTo>
                      <a:pt x="533" y="53"/>
                      <a:pt x="489" y="18"/>
                      <a:pt x="434" y="0"/>
                    </a:cubicBezTo>
                    <a:cubicBezTo>
                      <a:pt x="344" y="6"/>
                      <a:pt x="271" y="6"/>
                      <a:pt x="189" y="33"/>
                    </a:cubicBezTo>
                    <a:cubicBezTo>
                      <a:pt x="153" y="70"/>
                      <a:pt x="100" y="71"/>
                      <a:pt x="56" y="100"/>
                    </a:cubicBezTo>
                    <a:cubicBezTo>
                      <a:pt x="26" y="191"/>
                      <a:pt x="68" y="80"/>
                      <a:pt x="22" y="156"/>
                    </a:cubicBezTo>
                    <a:cubicBezTo>
                      <a:pt x="0" y="192"/>
                      <a:pt x="26" y="189"/>
                      <a:pt x="0" y="18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68760" y="4197240"/>
                <a:ext cx="582840" cy="176400"/>
              </a:xfrm>
              <a:custGeom>
                <a:avLst/>
                <a:gdLst/>
                <a:ahLst/>
                <a:rect l="l" t="t" r="r" b="b"/>
                <a:pathLst>
                  <a:path w="367" h="111">
                    <a:moveTo>
                      <a:pt x="367" y="0"/>
                    </a:moveTo>
                    <a:cubicBezTo>
                      <a:pt x="281" y="28"/>
                      <a:pt x="226" y="46"/>
                      <a:pt x="133" y="56"/>
                    </a:cubicBezTo>
                    <a:cubicBezTo>
                      <a:pt x="111" y="63"/>
                      <a:pt x="89" y="71"/>
                      <a:pt x="67" y="78"/>
                    </a:cubicBezTo>
                    <a:cubicBezTo>
                      <a:pt x="56" y="82"/>
                      <a:pt x="33" y="89"/>
                      <a:pt x="33" y="89"/>
                    </a:cubicBezTo>
                    <a:cubicBezTo>
                      <a:pt x="22" y="96"/>
                      <a:pt x="0" y="111"/>
                      <a:pt x="0" y="1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133960" y="3997440"/>
                <a:ext cx="665280" cy="341280"/>
              </a:xfrm>
              <a:custGeom>
                <a:avLst/>
                <a:gdLst/>
                <a:ahLst/>
                <a:rect l="l" t="t" r="r" b="b"/>
                <a:pathLst>
                  <a:path w="419" h="215">
                    <a:moveTo>
                      <a:pt x="411" y="26"/>
                    </a:moveTo>
                    <a:cubicBezTo>
                      <a:pt x="332" y="0"/>
                      <a:pt x="419" y="18"/>
                      <a:pt x="355" y="37"/>
                    </a:cubicBezTo>
                    <a:cubicBezTo>
                      <a:pt x="326" y="45"/>
                      <a:pt x="296" y="44"/>
                      <a:pt x="266" y="48"/>
                    </a:cubicBezTo>
                    <a:cubicBezTo>
                      <a:pt x="194" y="74"/>
                      <a:pt x="214" y="80"/>
                      <a:pt x="122" y="93"/>
                    </a:cubicBezTo>
                    <a:cubicBezTo>
                      <a:pt x="82" y="120"/>
                      <a:pt x="51" y="155"/>
                      <a:pt x="11" y="182"/>
                    </a:cubicBezTo>
                    <a:cubicBezTo>
                      <a:pt x="7" y="193"/>
                      <a:pt x="0" y="215"/>
                      <a:pt x="0" y="21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5943600" y="3471120"/>
                <a:ext cx="1371600" cy="1024560"/>
                <a:chOff x="5943600" y="3471120"/>
                <a:chExt cx="1371600" cy="10245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477120" y="3886200"/>
                  <a:ext cx="761760" cy="30492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248520" y="3962520"/>
                  <a:ext cx="533160" cy="5331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934320" y="4114800"/>
                  <a:ext cx="380880" cy="38088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943600" y="3886200"/>
                  <a:ext cx="457200" cy="304920"/>
                </a:xfrm>
                <a:custGeom>
                  <a:avLst/>
                  <a:gdLst>
                    <a:gd name="textAreaLeft" fmla="*/ 100440 w 457200"/>
                    <a:gd name="textAreaRight" fmla="*/ 356760 w 457200"/>
                    <a:gd name="textAreaTop" fmla="*/ 66960 h 304920"/>
                    <a:gd name="textAreaBottom" fmla="*/ 23796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15202800">
                  <a:off x="6324480" y="3580920"/>
                  <a:ext cx="457200" cy="304920"/>
                </a:xfrm>
                <a:prstGeom prst="parallelogram">
                  <a:avLst>
                    <a:gd name="adj" fmla="val 29155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" name=""/>
            <p:cNvGrpSpPr/>
            <p:nvPr/>
          </p:nvGrpSpPr>
          <p:grpSpPr>
            <a:xfrm>
              <a:off x="380880" y="1905120"/>
              <a:ext cx="1625760" cy="3124080"/>
              <a:chOff x="380880" y="1905120"/>
              <a:chExt cx="1625760" cy="3124080"/>
            </a:xfrm>
          </p:grpSpPr>
          <p:sp>
            <p:nvSpPr>
              <p:cNvPr id="94" name=""/>
              <p:cNvSpPr/>
              <p:nvPr/>
            </p:nvSpPr>
            <p:spPr>
              <a:xfrm>
                <a:off x="380880" y="2819520"/>
                <a:ext cx="304920" cy="2209680"/>
              </a:xfrm>
              <a:prstGeom prst="can">
                <a:avLst>
                  <a:gd name="adj" fmla="val 9842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80880" y="4495680"/>
                <a:ext cx="1524240" cy="5335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5800" y="4191120"/>
                <a:ext cx="304920" cy="304560"/>
              </a:xfrm>
              <a:prstGeom prst="rtTriangl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90720" y="4191120"/>
                <a:ext cx="304560" cy="304560"/>
              </a:xfrm>
              <a:prstGeom prst="rtTriangl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95280" y="4191120"/>
                <a:ext cx="304920" cy="304560"/>
              </a:xfrm>
              <a:prstGeom prst="rtTriangl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00200" y="4191120"/>
                <a:ext cx="304920" cy="304560"/>
              </a:xfrm>
              <a:prstGeom prst="rtTriangl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4600" y="1905120"/>
                <a:ext cx="1562040" cy="1066680"/>
              </a:xfrm>
              <a:custGeom>
                <a:avLst/>
                <a:gdLst/>
                <a:ahLst/>
                <a:rect l="l" t="t" r="r" b="b"/>
                <a:pathLst>
                  <a:path w="984" h="672">
                    <a:moveTo>
                      <a:pt x="8" y="624"/>
                    </a:moveTo>
                    <a:cubicBezTo>
                      <a:pt x="0" y="584"/>
                      <a:pt x="32" y="472"/>
                      <a:pt x="56" y="432"/>
                    </a:cubicBezTo>
                    <a:cubicBezTo>
                      <a:pt x="80" y="392"/>
                      <a:pt x="120" y="392"/>
                      <a:pt x="152" y="384"/>
                    </a:cubicBezTo>
                    <a:cubicBezTo>
                      <a:pt x="184" y="376"/>
                      <a:pt x="224" y="400"/>
                      <a:pt x="248" y="384"/>
                    </a:cubicBezTo>
                    <a:cubicBezTo>
                      <a:pt x="272" y="368"/>
                      <a:pt x="272" y="320"/>
                      <a:pt x="296" y="288"/>
                    </a:cubicBezTo>
                    <a:cubicBezTo>
                      <a:pt x="320" y="256"/>
                      <a:pt x="368" y="232"/>
                      <a:pt x="392" y="192"/>
                    </a:cubicBezTo>
                    <a:cubicBezTo>
                      <a:pt x="416" y="152"/>
                      <a:pt x="400" y="72"/>
                      <a:pt x="440" y="48"/>
                    </a:cubicBezTo>
                    <a:cubicBezTo>
                      <a:pt x="480" y="24"/>
                      <a:pt x="576" y="56"/>
                      <a:pt x="632" y="48"/>
                    </a:cubicBezTo>
                    <a:cubicBezTo>
                      <a:pt x="688" y="40"/>
                      <a:pt x="720" y="0"/>
                      <a:pt x="776" y="0"/>
                    </a:cubicBezTo>
                    <a:cubicBezTo>
                      <a:pt x="832" y="0"/>
                      <a:pt x="952" y="16"/>
                      <a:pt x="968" y="48"/>
                    </a:cubicBezTo>
                    <a:cubicBezTo>
                      <a:pt x="984" y="80"/>
                      <a:pt x="880" y="160"/>
                      <a:pt x="872" y="192"/>
                    </a:cubicBezTo>
                    <a:cubicBezTo>
                      <a:pt x="864" y="224"/>
                      <a:pt x="936" y="208"/>
                      <a:pt x="920" y="240"/>
                    </a:cubicBezTo>
                    <a:cubicBezTo>
                      <a:pt x="904" y="272"/>
                      <a:pt x="816" y="360"/>
                      <a:pt x="776" y="384"/>
                    </a:cubicBezTo>
                    <a:cubicBezTo>
                      <a:pt x="736" y="408"/>
                      <a:pt x="720" y="392"/>
                      <a:pt x="680" y="384"/>
                    </a:cubicBezTo>
                    <a:cubicBezTo>
                      <a:pt x="640" y="376"/>
                      <a:pt x="584" y="336"/>
                      <a:pt x="536" y="336"/>
                    </a:cubicBezTo>
                    <a:cubicBezTo>
                      <a:pt x="488" y="336"/>
                      <a:pt x="424" y="368"/>
                      <a:pt x="392" y="384"/>
                    </a:cubicBezTo>
                    <a:cubicBezTo>
                      <a:pt x="360" y="400"/>
                      <a:pt x="344" y="408"/>
                      <a:pt x="344" y="432"/>
                    </a:cubicBezTo>
                    <a:cubicBezTo>
                      <a:pt x="344" y="456"/>
                      <a:pt x="400" y="504"/>
                      <a:pt x="392" y="528"/>
                    </a:cubicBezTo>
                    <a:cubicBezTo>
                      <a:pt x="384" y="552"/>
                      <a:pt x="336" y="560"/>
                      <a:pt x="296" y="576"/>
                    </a:cubicBezTo>
                    <a:cubicBezTo>
                      <a:pt x="256" y="592"/>
                      <a:pt x="184" y="608"/>
                      <a:pt x="152" y="624"/>
                    </a:cubicBezTo>
                    <a:cubicBezTo>
                      <a:pt x="120" y="640"/>
                      <a:pt x="128" y="672"/>
                      <a:pt x="104" y="672"/>
                    </a:cubicBezTo>
                    <a:cubicBezTo>
                      <a:pt x="80" y="672"/>
                      <a:pt x="16" y="664"/>
                      <a:pt x="8" y="624"/>
                    </a:cubicBez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228240" y="1295280"/>
              <a:ext cx="18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 ’industr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644960" y="652140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-L Julien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71200" y="26028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 causes de l’aci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2:55:53Z</dcterms:created>
  <dc:creator>Jean-Luc Julien</dc:creator>
  <dc:description/>
  <dc:language>en-US</dc:language>
  <cp:lastModifiedBy>_</cp:lastModifiedBy>
  <dcterms:modified xsi:type="dcterms:W3CDTF">2006-03-13T09:32:40Z</dcterms:modified>
  <cp:revision>14</cp:revision>
  <dc:subject/>
  <dc:title>Les causes de l ’acidification</dc:title>
</cp:coreProperties>
</file>