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859-9521-4087-BAEA-CFD2201F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412-5038-4828-A621-37FA6462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8A9C-010E-4F7E-9896-630FE770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9D5-A7CF-4E97-B6A7-48202D3E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76EB-F0C7-48A3-B5CB-EF440C8B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B38-E1A6-4556-834E-F152CF1C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4904-C137-4219-BEC5-6851D8DA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DA2-8C0C-4ADF-9F5C-CE97D327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19A-E178-451A-A03D-550803FE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C42F-B5D7-4B8D-97F3-62F664FE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3FF1-3EAA-483B-ADE4-71022E61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7CE-DE05-4D83-B2B6-8B1E51A0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703C-5AC2-4684-BC0E-5817797C3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9040" y="503280"/>
            <a:ext cx="8458920" cy="5843520"/>
            <a:chOff x="329040" y="503280"/>
            <a:chExt cx="8458920" cy="5843520"/>
          </a:xfrm>
        </p:grpSpPr>
        <p:grpSp>
          <p:nvGrpSpPr>
            <p:cNvPr id="42" name=""/>
            <p:cNvGrpSpPr/>
            <p:nvPr/>
          </p:nvGrpSpPr>
          <p:grpSpPr>
            <a:xfrm>
              <a:off x="351000" y="503280"/>
              <a:ext cx="8436960" cy="5843520"/>
              <a:chOff x="351000" y="503280"/>
              <a:chExt cx="8436960" cy="584352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7126200" y="2562120"/>
                <a:ext cx="1661760" cy="3784680"/>
                <a:chOff x="7126200" y="2562120"/>
                <a:chExt cx="1661760" cy="378468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7716240" y="2562120"/>
                  <a:ext cx="990360" cy="3276360"/>
                </a:xfrm>
                <a:prstGeom prst="downArrow">
                  <a:avLst>
                    <a:gd name="adj1" fmla="val 50000"/>
                    <a:gd name="adj2" fmla="val 82706"/>
                  </a:avLst>
                </a:prstGeom>
                <a:gradFill rotWithShape="0">
                  <a:gsLst>
                    <a:gs pos="0">
                      <a:srgbClr val="00ff00"/>
                    </a:gs>
                    <a:gs pos="100000">
                      <a:srgbClr val="8efe8e"/>
                    </a:gs>
                  </a:gsLst>
                  <a:lin ang="5400000"/>
                </a:gra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7362000" y="5947920"/>
                  <a:ext cx="1425960" cy="398880"/>
                </a:xfrm>
                <a:prstGeom prst="rect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nde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7126200" y="5114520"/>
                  <a:ext cx="609120" cy="75960"/>
                </a:xfrm>
                <a:prstGeom prst="rightArrow">
                  <a:avLst>
                    <a:gd name="adj1" fmla="val 50000"/>
                    <a:gd name="adj2" fmla="val 200474"/>
                  </a:avLst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7126200" y="2904840"/>
                  <a:ext cx="609120" cy="75600"/>
                </a:xfrm>
                <a:prstGeom prst="rightArrow">
                  <a:avLst>
                    <a:gd name="adj1" fmla="val 50000"/>
                    <a:gd name="adj2" fmla="val 201429"/>
                  </a:avLst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126200" y="3666600"/>
                  <a:ext cx="609120" cy="75960"/>
                </a:xfrm>
                <a:prstGeom prst="rightArrow">
                  <a:avLst>
                    <a:gd name="adj1" fmla="val 50000"/>
                    <a:gd name="adj2" fmla="val 200474"/>
                  </a:avLst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126200" y="4352400"/>
                  <a:ext cx="609120" cy="75960"/>
                </a:xfrm>
                <a:prstGeom prst="rightArrow">
                  <a:avLst>
                    <a:gd name="adj1" fmla="val 50000"/>
                    <a:gd name="adj2" fmla="val 200474"/>
                  </a:avLst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5449680" y="2828880"/>
                <a:ext cx="1274040" cy="398880"/>
                <a:chOff x="5449680" y="2828880"/>
                <a:chExt cx="1274040" cy="39888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907600" y="2828880"/>
                  <a:ext cx="816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evé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5449680" y="2980800"/>
                  <a:ext cx="228240" cy="152280"/>
                </a:xfrm>
                <a:prstGeom prst="rightArrow">
                  <a:avLst>
                    <a:gd name="adj1" fmla="val 50000"/>
                    <a:gd name="adj2" fmla="val 3747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451840" y="3238560"/>
                <a:ext cx="2007360" cy="1284480"/>
                <a:chOff x="5451840" y="3238560"/>
                <a:chExt cx="2007360" cy="12844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5545080" y="4276080"/>
                  <a:ext cx="228240" cy="151920"/>
                </a:xfrm>
                <a:prstGeom prst="rightArrow">
                  <a:avLst>
                    <a:gd name="adj1" fmla="val 50000"/>
                    <a:gd name="adj2" fmla="val 37559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" name=""/>
                <p:cNvGrpSpPr/>
                <p:nvPr/>
              </p:nvGrpSpPr>
              <p:grpSpPr>
                <a:xfrm>
                  <a:off x="5451840" y="3238560"/>
                  <a:ext cx="2007360" cy="1284480"/>
                  <a:chOff x="5451840" y="3238560"/>
                  <a:chExt cx="2007360" cy="128448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5904000" y="3819240"/>
                    <a:ext cx="155520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onisatio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acinair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 rot="3618000">
                    <a:off x="5335200" y="3514320"/>
                    <a:ext cx="723240" cy="151920"/>
                  </a:xfrm>
                  <a:prstGeom prst="rightArrow">
                    <a:avLst>
                      <a:gd name="adj1" fmla="val 50000"/>
                      <a:gd name="adj2" fmla="val 119017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" name=""/>
              <p:cNvGrpSpPr/>
              <p:nvPr/>
            </p:nvGrpSpPr>
            <p:grpSpPr>
              <a:xfrm>
                <a:off x="5432400" y="4591080"/>
                <a:ext cx="1906920" cy="1608480"/>
                <a:chOff x="5432400" y="4591080"/>
                <a:chExt cx="1906920" cy="160848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5905800" y="5190840"/>
                  <a:ext cx="143352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utri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ydrique e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inéral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6440040" y="4657320"/>
                  <a:ext cx="151920" cy="380520"/>
                </a:xfrm>
                <a:prstGeom prst="upDownArrow">
                  <a:avLst>
                    <a:gd name="adj1" fmla="val 50000"/>
                    <a:gd name="adj2" fmla="val 49862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5526000" y="5724000"/>
                  <a:ext cx="228240" cy="152280"/>
                </a:xfrm>
                <a:prstGeom prst="rightArrow">
                  <a:avLst>
                    <a:gd name="adj1" fmla="val 50000"/>
                    <a:gd name="adj2" fmla="val 3747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3618000">
                  <a:off x="5315760" y="4866840"/>
                  <a:ext cx="723600" cy="151920"/>
                </a:xfrm>
                <a:prstGeom prst="rightArrow">
                  <a:avLst>
                    <a:gd name="adj1" fmla="val 50000"/>
                    <a:gd name="adj2" fmla="val 119076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903240" y="4452840"/>
                <a:ext cx="2306160" cy="813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49200" y="3030480"/>
                <a:ext cx="1660320" cy="631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42320" y="3097080"/>
                <a:ext cx="689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O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970200" y="4611600"/>
                <a:ext cx="179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olution du so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563560" y="2352600"/>
                <a:ext cx="553680" cy="360000"/>
              </a:xfrm>
              <a:prstGeom prst="rightArrow">
                <a:avLst>
                  <a:gd name="adj1" fmla="val 50000"/>
                  <a:gd name="adj2" fmla="val 3845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1080" y="3774960"/>
                <a:ext cx="645840" cy="542520"/>
              </a:xfrm>
              <a:prstGeom prst="upDownArrow">
                <a:avLst>
                  <a:gd name="adj1" fmla="val 50000"/>
                  <a:gd name="adj2" fmla="val 1990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563560" y="3821040"/>
                <a:ext cx="553680" cy="361440"/>
              </a:xfrm>
              <a:prstGeom prst="rightArrow">
                <a:avLst>
                  <a:gd name="adj1" fmla="val 50000"/>
                  <a:gd name="adj2" fmla="val 3829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11080" y="5514840"/>
                <a:ext cx="552240" cy="361440"/>
              </a:xfrm>
              <a:prstGeom prst="rightArrow">
                <a:avLst>
                  <a:gd name="adj1" fmla="val 50000"/>
                  <a:gd name="adj2" fmla="val 3819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0800000">
                <a:off x="672480" y="1719000"/>
                <a:ext cx="553680" cy="234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163680" y="2103120"/>
                <a:ext cx="2122200" cy="8254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c1c173"/>
                  </a:gs>
                </a:gsLst>
                <a:lin ang="108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priétés physiqu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717280" y="1222200"/>
                <a:ext cx="587520" cy="4597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o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41600" y="1755720"/>
                <a:ext cx="2181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aractéristiqu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55840" y="3571560"/>
                <a:ext cx="2095200" cy="8254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c1c173"/>
                  </a:gs>
                </a:gsLst>
                <a:lin ang="108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priétés biologiqu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233520" y="5243400"/>
                <a:ext cx="2001600" cy="8254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c1c173"/>
                  </a:gs>
                </a:gsLst>
                <a:lin ang="108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priétés   chimiqu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10800000">
                <a:off x="350640" y="3165120"/>
                <a:ext cx="553680" cy="2349000"/>
              </a:xfrm>
              <a:custGeom>
                <a:avLst/>
                <a:gdLst>
                  <a:gd name="textAreaLeft" fmla="*/ 0 w 553680"/>
                  <a:gd name="textAreaRight" fmla="*/ 553680 w 553680"/>
                  <a:gd name="textAreaTop" fmla="*/ 0 h 2349000"/>
                  <a:gd name="textAreaBottom" fmla="*/ 2349360 h 234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4454280" y="503280"/>
                <a:ext cx="2896920" cy="1368360"/>
                <a:chOff x="4454280" y="503280"/>
                <a:chExt cx="2896920" cy="13683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54280" y="503280"/>
                  <a:ext cx="2896920" cy="1368360"/>
                </a:xfrm>
                <a:prstGeom prst="irregularSeal1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959000" y="925560"/>
                  <a:ext cx="21949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Extériorisa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"/>
              <p:cNvSpPr/>
              <p:nvPr/>
            </p:nvSpPr>
            <p:spPr>
              <a:xfrm>
                <a:off x="7059960" y="1871640"/>
                <a:ext cx="1011240" cy="459720"/>
              </a:xfrm>
              <a:prstGeom prst="rect">
                <a:avLst/>
              </a:prstGeom>
              <a:noFill/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lan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29040" y="692280"/>
              <a:ext cx="17931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mend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ien J.-L.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7280" y="-7920"/>
            <a:ext cx="63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épercussions d’un apport d’amend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4:21:25Z</dcterms:created>
  <dc:creator>_</dc:creator>
  <dc:description/>
  <dc:language>en-US</dc:language>
  <cp:lastModifiedBy>_</cp:lastModifiedBy>
  <dcterms:modified xsi:type="dcterms:W3CDTF">2006-02-28T15:10:08Z</dcterms:modified>
  <cp:revision>3</cp:revision>
  <dc:subject/>
  <dc:title>Diapositive 1</dc:title>
</cp:coreProperties>
</file>