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C15-8A15-46C9-8D48-8B3A3BBE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0F4-C397-4E6A-9E1B-D9123B7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4B1-919A-4D60-AF44-4EE30013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5A5-85CD-42A0-AD41-88F9BD9F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A6D-4218-449B-AE19-C9E18443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ED8-D6F2-49FE-A8AB-59F540A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402-8703-47D9-97C5-52BCB76F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AC0-DC99-4D93-8839-C8995B9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B04-26A9-494B-B151-99A40D0F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87C-0BBF-4EF9-9B76-328153C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9BA-8C8B-4F23-8F9B-EB86D53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A3C-32C2-4275-8EC1-A9079C7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6D62-1A80-4B1B-89A8-547D103A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56080" y="404640"/>
            <a:ext cx="6739920" cy="5386320"/>
            <a:chOff x="856080" y="404640"/>
            <a:chExt cx="6739920" cy="5386320"/>
          </a:xfrm>
        </p:grpSpPr>
        <p:sp>
          <p:nvSpPr>
            <p:cNvPr id="42" name=""/>
            <p:cNvSpPr/>
            <p:nvPr/>
          </p:nvSpPr>
          <p:spPr>
            <a:xfrm rot="624600">
              <a:off x="990720" y="1568160"/>
              <a:ext cx="2259720" cy="1583280"/>
            </a:xfrm>
            <a:prstGeom prst="rightArrow">
              <a:avLst>
                <a:gd name="adj1" fmla="val 50000"/>
                <a:gd name="adj2" fmla="val 3568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fférentiel de SAB (souhaité – actu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0914200">
              <a:off x="990360" y="3327480"/>
              <a:ext cx="2259720" cy="1583280"/>
            </a:xfrm>
            <a:prstGeom prst="rightArrow">
              <a:avLst>
                <a:gd name="adj1" fmla="val 50000"/>
                <a:gd name="adj2" fmla="val 3568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uvoir tampon du 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33280" y="404640"/>
              <a:ext cx="1912320" cy="1407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76560" y="2008440"/>
              <a:ext cx="1738080" cy="2374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989440" y="4383360"/>
              <a:ext cx="1998720" cy="1407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olume de sol concern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27880" y="2360160"/>
              <a:ext cx="2868120" cy="1758960"/>
            </a:xfrm>
            <a:custGeom>
              <a:avLst/>
              <a:gdLst>
                <a:gd name="textAreaLeft" fmla="*/ 448200 w 2868120"/>
                <a:gd name="textAreaRight" fmla="*/ 2509920 w 2868120"/>
                <a:gd name="textAreaTop" fmla="*/ 439560 h 1758960"/>
                <a:gd name="textAreaBottom" fmla="*/ 1319400 h 17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B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Redress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264200" y="42372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onnement du besoin en bases pour le redre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26:19Z</dcterms:created>
  <dc:creator>Cécile TESSIER</dc:creator>
  <dc:description/>
  <dc:language>en-US</dc:language>
  <cp:lastModifiedBy>_</cp:lastModifiedBy>
  <dcterms:modified xsi:type="dcterms:W3CDTF">2006-02-28T16:54:08Z</dcterms:modified>
  <cp:revision>3</cp:revision>
  <dc:subject/>
  <dc:title>Diapositive 1</dc:title>
</cp:coreProperties>
</file>