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6660-11CD-4958-A1CF-63327F340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F2AE-929D-4570-A01C-13992EC5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1313-954A-430A-991B-87B2A20EA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7907-E46B-42B3-9072-95DE833FA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4656-1141-484C-A45B-23202BEC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8DAA-3E34-4802-8CCE-004A1508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ADA5-1FCC-41FB-8143-28CD0DBB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B073-DBCA-4C87-9F0F-728483F2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B2D5-5CD5-418E-A868-322ACFB7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951D-5D66-4768-AFDB-8DD65937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9459-CE87-48EF-9EDA-6BCAB534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22F3-D436-4277-8112-F75692F0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4F9F-83A2-41D2-9B16-D80164599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600" y="74520"/>
            <a:ext cx="8217000" cy="49975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859280" y="836640"/>
            <a:ext cx="2757600" cy="4091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71640" y="5661000"/>
            <a:ext cx="513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ue générale de la zone à problème : pieds de blé avec racines atrophi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79640" y="6237360"/>
            <a:ext cx="12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B. Félix-Fa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2T07:41:36Z</dcterms:created>
  <dc:creator>Bernard</dc:creator>
  <dc:description/>
  <dc:language>en-US</dc:language>
  <cp:lastModifiedBy>_</cp:lastModifiedBy>
  <dcterms:modified xsi:type="dcterms:W3CDTF">2006-02-28T16:49:23Z</dcterms:modified>
  <cp:revision>2</cp:revision>
  <dc:subject/>
  <dc:title>Présentation PowerPoint</dc:title>
</cp:coreProperties>
</file>