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540E-4432-4A01-83C8-DDBD3BA22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E8B0-46BB-49AB-979D-8219C9ABC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74FE-421C-4B99-8A87-429665472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5187-C45F-4AE1-BEE2-A6F05D86C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B337-D6AA-4FA9-A1AE-4A939943D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AC07-2AA9-42F4-864E-187D1A994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772B-AB61-47EB-94F3-95F352373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F70C-4C2B-4ECF-A40F-EA8114058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4270-B9B6-4CBD-8B96-53BFEDD1C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39A9-8429-4295-B32B-2FD11BB59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9692-48B7-4F4D-830D-29893C874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15C9-117F-4CBC-AD6C-FF17AEC37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58307-7E69-42F7-8123-595A00EF46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1752480"/>
            <a:ext cx="7610400" cy="42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468360" y="1197000"/>
            <a:ext cx="8362800" cy="4952160"/>
            <a:chOff x="468360" y="1197000"/>
            <a:chExt cx="8362800" cy="4952160"/>
          </a:xfrm>
        </p:grpSpPr>
        <p:sp>
          <p:nvSpPr>
            <p:cNvPr id="43" name=""/>
            <p:cNvSpPr/>
            <p:nvPr/>
          </p:nvSpPr>
          <p:spPr>
            <a:xfrm>
              <a:off x="468360" y="1412640"/>
              <a:ext cx="402588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endement du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émoin en % du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illeur traitement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haulé de l'essa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" name=""/>
            <p:cNvGrpSpPr/>
            <p:nvPr/>
          </p:nvGrpSpPr>
          <p:grpSpPr>
            <a:xfrm>
              <a:off x="7164360" y="1197000"/>
              <a:ext cx="1585800" cy="1022400"/>
              <a:chOff x="7164360" y="1197000"/>
              <a:chExt cx="1585800" cy="1022400"/>
            </a:xfrm>
          </p:grpSpPr>
          <p:sp>
            <p:nvSpPr>
              <p:cNvPr id="45" name=""/>
              <p:cNvSpPr/>
              <p:nvPr/>
            </p:nvSpPr>
            <p:spPr>
              <a:xfrm>
                <a:off x="7164360" y="1197000"/>
                <a:ext cx="1585800" cy="10224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646760" y="1346400"/>
                <a:ext cx="68400" cy="68040"/>
              </a:xfrm>
              <a:custGeom>
                <a:avLst/>
                <a:gdLst/>
                <a:ahLst/>
                <a:rect l="l" t="t" r="r" b="b"/>
                <a:pathLst>
                  <a:path w="43" h="43">
                    <a:moveTo>
                      <a:pt x="22" y="0"/>
                    </a:moveTo>
                    <a:lnTo>
                      <a:pt x="43" y="21"/>
                    </a:lnTo>
                    <a:lnTo>
                      <a:pt x="22" y="43"/>
                    </a:lnTo>
                    <a:lnTo>
                      <a:pt x="0" y="21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820640" y="1243080"/>
                <a:ext cx="48384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orge</a:t>
                </a: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646760" y="1679760"/>
                <a:ext cx="57240" cy="57240"/>
              </a:xfrm>
              <a:prstGeom prst="rect">
                <a:avLst/>
              </a:prstGeom>
              <a:solidFill>
                <a:srgbClr val="ff00ff"/>
              </a:solidFill>
              <a:ln w="11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820640" y="1575000"/>
                <a:ext cx="3222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blé</a:t>
                </a: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646760" y="2011320"/>
                <a:ext cx="68400" cy="70200"/>
              </a:xfrm>
              <a:custGeom>
                <a:avLst/>
                <a:gdLst/>
                <a:ahLst/>
                <a:rect l="l" t="t" r="r" b="b"/>
                <a:pathLst>
                  <a:path w="43" h="44">
                    <a:moveTo>
                      <a:pt x="22" y="0"/>
                    </a:moveTo>
                    <a:lnTo>
                      <a:pt x="43" y="44"/>
                    </a:lnTo>
                    <a:lnTo>
                      <a:pt x="0" y="44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99cc00"/>
              </a:solidFill>
              <a:ln w="111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821000" y="1908360"/>
                <a:ext cx="56304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colza</a:t>
                </a: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" name=""/>
            <p:cNvSpPr/>
            <p:nvPr/>
          </p:nvSpPr>
          <p:spPr>
            <a:xfrm>
              <a:off x="3959640" y="5905440"/>
              <a:ext cx="2823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H eau du témoin non chaulé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077840" y="4701960"/>
              <a:ext cx="75438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100160" y="4316400"/>
              <a:ext cx="7610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100160" y="3938400"/>
              <a:ext cx="7610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100160" y="3544920"/>
              <a:ext cx="7610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100160" y="3165480"/>
              <a:ext cx="7610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100160" y="2773440"/>
              <a:ext cx="7610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100160" y="2396880"/>
              <a:ext cx="7610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58760" y="2400120"/>
              <a:ext cx="0" cy="2667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028520" y="5087880"/>
              <a:ext cx="71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028520" y="4708440"/>
              <a:ext cx="71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28520" y="4316400"/>
              <a:ext cx="71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028520" y="3938400"/>
              <a:ext cx="716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028520" y="3544920"/>
              <a:ext cx="71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028520" y="3165480"/>
              <a:ext cx="71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028520" y="2773440"/>
              <a:ext cx="71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495600" y="2571480"/>
              <a:ext cx="69840" cy="79560"/>
            </a:xfrm>
            <a:custGeom>
              <a:avLst/>
              <a:gdLst/>
              <a:ahLst/>
              <a:rect l="l" t="t" r="r" b="b"/>
              <a:pathLst>
                <a:path w="43" h="43">
                  <a:moveTo>
                    <a:pt x="21" y="0"/>
                  </a:moveTo>
                  <a:lnTo>
                    <a:pt x="43" y="22"/>
                  </a:lnTo>
                  <a:lnTo>
                    <a:pt x="21" y="43"/>
                  </a:lnTo>
                  <a:lnTo>
                    <a:pt x="0" y="2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197160" y="3274920"/>
              <a:ext cx="71280" cy="82440"/>
            </a:xfrm>
            <a:custGeom>
              <a:avLst/>
              <a:gdLst/>
              <a:ahLst/>
              <a:rect l="l" t="t" r="r" b="b"/>
              <a:pathLst>
                <a:path w="43" h="44">
                  <a:moveTo>
                    <a:pt x="21" y="0"/>
                  </a:moveTo>
                  <a:lnTo>
                    <a:pt x="43" y="22"/>
                  </a:lnTo>
                  <a:lnTo>
                    <a:pt x="21" y="44"/>
                  </a:lnTo>
                  <a:lnTo>
                    <a:pt x="0" y="2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649680" y="2855880"/>
              <a:ext cx="71280" cy="81000"/>
            </a:xfrm>
            <a:custGeom>
              <a:avLst/>
              <a:gdLst/>
              <a:ahLst/>
              <a:rect l="l" t="t" r="r" b="b"/>
              <a:pathLst>
                <a:path w="43" h="43">
                  <a:moveTo>
                    <a:pt x="21" y="0"/>
                  </a:moveTo>
                  <a:lnTo>
                    <a:pt x="43" y="22"/>
                  </a:lnTo>
                  <a:lnTo>
                    <a:pt x="21" y="43"/>
                  </a:lnTo>
                  <a:lnTo>
                    <a:pt x="0" y="2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041640" y="2950920"/>
              <a:ext cx="71280" cy="81000"/>
            </a:xfrm>
            <a:custGeom>
              <a:avLst/>
              <a:gdLst/>
              <a:ahLst/>
              <a:rect l="l" t="t" r="r" b="b"/>
              <a:pathLst>
                <a:path w="43" h="43">
                  <a:moveTo>
                    <a:pt x="21" y="0"/>
                  </a:moveTo>
                  <a:lnTo>
                    <a:pt x="43" y="21"/>
                  </a:lnTo>
                  <a:lnTo>
                    <a:pt x="21" y="43"/>
                  </a:lnTo>
                  <a:lnTo>
                    <a:pt x="0" y="2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95600" y="3057480"/>
              <a:ext cx="69840" cy="82440"/>
            </a:xfrm>
            <a:custGeom>
              <a:avLst/>
              <a:gdLst/>
              <a:ahLst/>
              <a:rect l="l" t="t" r="r" b="b"/>
              <a:pathLst>
                <a:path w="43" h="44">
                  <a:moveTo>
                    <a:pt x="21" y="0"/>
                  </a:moveTo>
                  <a:lnTo>
                    <a:pt x="43" y="22"/>
                  </a:lnTo>
                  <a:lnTo>
                    <a:pt x="21" y="44"/>
                  </a:lnTo>
                  <a:lnTo>
                    <a:pt x="0" y="2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805200" y="3098880"/>
              <a:ext cx="69840" cy="80640"/>
            </a:xfrm>
            <a:custGeom>
              <a:avLst/>
              <a:gdLst/>
              <a:ahLst/>
              <a:rect l="l" t="t" r="r" b="b"/>
              <a:pathLst>
                <a:path w="43" h="44">
                  <a:moveTo>
                    <a:pt x="21" y="0"/>
                  </a:moveTo>
                  <a:lnTo>
                    <a:pt x="43" y="22"/>
                  </a:lnTo>
                  <a:lnTo>
                    <a:pt x="21" y="44"/>
                  </a:lnTo>
                  <a:lnTo>
                    <a:pt x="0" y="2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279520" y="4084560"/>
              <a:ext cx="71640" cy="84240"/>
            </a:xfrm>
            <a:custGeom>
              <a:avLst/>
              <a:gdLst/>
              <a:ahLst/>
              <a:rect l="l" t="t" r="r" b="b"/>
              <a:pathLst>
                <a:path w="43" h="44">
                  <a:moveTo>
                    <a:pt x="21" y="0"/>
                  </a:moveTo>
                  <a:lnTo>
                    <a:pt x="43" y="22"/>
                  </a:lnTo>
                  <a:lnTo>
                    <a:pt x="21" y="44"/>
                  </a:lnTo>
                  <a:lnTo>
                    <a:pt x="0" y="2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124000" y="3855960"/>
              <a:ext cx="73080" cy="8244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22" y="0"/>
                  </a:moveTo>
                  <a:lnTo>
                    <a:pt x="44" y="22"/>
                  </a:lnTo>
                  <a:lnTo>
                    <a:pt x="22" y="44"/>
                  </a:lnTo>
                  <a:lnTo>
                    <a:pt x="0" y="2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805200" y="4911480"/>
              <a:ext cx="69840" cy="79560"/>
            </a:xfrm>
            <a:custGeom>
              <a:avLst/>
              <a:gdLst/>
              <a:ahLst/>
              <a:rect l="l" t="t" r="r" b="b"/>
              <a:pathLst>
                <a:path w="43" h="43">
                  <a:moveTo>
                    <a:pt x="21" y="0"/>
                  </a:moveTo>
                  <a:lnTo>
                    <a:pt x="43" y="21"/>
                  </a:lnTo>
                  <a:lnTo>
                    <a:pt x="21" y="43"/>
                  </a:lnTo>
                  <a:lnTo>
                    <a:pt x="0" y="2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329080" y="2773440"/>
              <a:ext cx="69840" cy="82440"/>
            </a:xfrm>
            <a:custGeom>
              <a:avLst/>
              <a:gdLst/>
              <a:ahLst/>
              <a:rect l="l" t="t" r="r" b="b"/>
              <a:pathLst>
                <a:path w="43" h="44">
                  <a:moveTo>
                    <a:pt x="22" y="0"/>
                  </a:moveTo>
                  <a:lnTo>
                    <a:pt x="43" y="22"/>
                  </a:lnTo>
                  <a:lnTo>
                    <a:pt x="22" y="44"/>
                  </a:lnTo>
                  <a:lnTo>
                    <a:pt x="0" y="2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459560" y="2436840"/>
              <a:ext cx="73080" cy="81000"/>
            </a:xfrm>
            <a:custGeom>
              <a:avLst/>
              <a:gdLst/>
              <a:ahLst/>
              <a:rect l="l" t="t" r="r" b="b"/>
              <a:pathLst>
                <a:path w="44" h="43">
                  <a:moveTo>
                    <a:pt x="22" y="0"/>
                  </a:moveTo>
                  <a:lnTo>
                    <a:pt x="44" y="21"/>
                  </a:lnTo>
                  <a:lnTo>
                    <a:pt x="22" y="43"/>
                  </a:lnTo>
                  <a:lnTo>
                    <a:pt x="0" y="21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114800" y="2936880"/>
              <a:ext cx="69840" cy="81000"/>
            </a:xfrm>
            <a:custGeom>
              <a:avLst/>
              <a:gdLst/>
              <a:ahLst/>
              <a:rect l="l" t="t" r="r" b="b"/>
              <a:pathLst>
                <a:path w="43" h="44">
                  <a:moveTo>
                    <a:pt x="22" y="0"/>
                  </a:moveTo>
                  <a:lnTo>
                    <a:pt x="43" y="22"/>
                  </a:lnTo>
                  <a:lnTo>
                    <a:pt x="22" y="44"/>
                  </a:lnTo>
                  <a:lnTo>
                    <a:pt x="0" y="2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019480" y="3057480"/>
              <a:ext cx="69840" cy="82440"/>
            </a:xfrm>
            <a:custGeom>
              <a:avLst/>
              <a:gdLst/>
              <a:ahLst/>
              <a:rect l="l" t="t" r="r" b="b"/>
              <a:pathLst>
                <a:path w="43" h="44">
                  <a:moveTo>
                    <a:pt x="22" y="0"/>
                  </a:moveTo>
                  <a:lnTo>
                    <a:pt x="43" y="22"/>
                  </a:lnTo>
                  <a:lnTo>
                    <a:pt x="22" y="44"/>
                  </a:lnTo>
                  <a:lnTo>
                    <a:pt x="0" y="2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411440" y="3085920"/>
              <a:ext cx="71640" cy="79560"/>
            </a:xfrm>
            <a:custGeom>
              <a:avLst/>
              <a:gdLst/>
              <a:ahLst/>
              <a:rect l="l" t="t" r="r" b="b"/>
              <a:pathLst>
                <a:path w="43" h="43">
                  <a:moveTo>
                    <a:pt x="22" y="0"/>
                  </a:moveTo>
                  <a:lnTo>
                    <a:pt x="43" y="22"/>
                  </a:lnTo>
                  <a:lnTo>
                    <a:pt x="22" y="43"/>
                  </a:lnTo>
                  <a:lnTo>
                    <a:pt x="0" y="2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411440" y="2977920"/>
              <a:ext cx="71640" cy="79560"/>
            </a:xfrm>
            <a:custGeom>
              <a:avLst/>
              <a:gdLst/>
              <a:ahLst/>
              <a:rect l="l" t="t" r="r" b="b"/>
              <a:pathLst>
                <a:path w="43" h="43">
                  <a:moveTo>
                    <a:pt x="22" y="0"/>
                  </a:moveTo>
                  <a:lnTo>
                    <a:pt x="43" y="22"/>
                  </a:lnTo>
                  <a:lnTo>
                    <a:pt x="22" y="43"/>
                  </a:lnTo>
                  <a:lnTo>
                    <a:pt x="0" y="2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21040" y="3098880"/>
              <a:ext cx="71640" cy="80640"/>
            </a:xfrm>
            <a:custGeom>
              <a:avLst/>
              <a:gdLst/>
              <a:ahLst/>
              <a:rect l="l" t="t" r="r" b="b"/>
              <a:pathLst>
                <a:path w="43" h="44">
                  <a:moveTo>
                    <a:pt x="22" y="0"/>
                  </a:moveTo>
                  <a:lnTo>
                    <a:pt x="43" y="22"/>
                  </a:lnTo>
                  <a:lnTo>
                    <a:pt x="22" y="44"/>
                  </a:lnTo>
                  <a:lnTo>
                    <a:pt x="0" y="2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495600" y="3357360"/>
              <a:ext cx="69840" cy="79560"/>
            </a:xfrm>
            <a:custGeom>
              <a:avLst/>
              <a:gdLst/>
              <a:ahLst/>
              <a:rect l="l" t="t" r="r" b="b"/>
              <a:pathLst>
                <a:path w="43" h="43">
                  <a:moveTo>
                    <a:pt x="21" y="0"/>
                  </a:moveTo>
                  <a:lnTo>
                    <a:pt x="43" y="21"/>
                  </a:lnTo>
                  <a:lnTo>
                    <a:pt x="21" y="43"/>
                  </a:lnTo>
                  <a:lnTo>
                    <a:pt x="0" y="2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114800" y="3249360"/>
              <a:ext cx="69840" cy="79560"/>
            </a:xfrm>
            <a:custGeom>
              <a:avLst/>
              <a:gdLst/>
              <a:ahLst/>
              <a:rect l="l" t="t" r="r" b="b"/>
              <a:pathLst>
                <a:path w="43" h="43">
                  <a:moveTo>
                    <a:pt x="22" y="0"/>
                  </a:moveTo>
                  <a:lnTo>
                    <a:pt x="43" y="21"/>
                  </a:lnTo>
                  <a:lnTo>
                    <a:pt x="22" y="43"/>
                  </a:lnTo>
                  <a:lnTo>
                    <a:pt x="0" y="21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114800" y="3031920"/>
              <a:ext cx="69840" cy="79560"/>
            </a:xfrm>
            <a:custGeom>
              <a:avLst/>
              <a:gdLst/>
              <a:ahLst/>
              <a:rect l="l" t="t" r="r" b="b"/>
              <a:pathLst>
                <a:path w="43" h="43">
                  <a:moveTo>
                    <a:pt x="22" y="0"/>
                  </a:moveTo>
                  <a:lnTo>
                    <a:pt x="43" y="22"/>
                  </a:lnTo>
                  <a:lnTo>
                    <a:pt x="22" y="43"/>
                  </a:lnTo>
                  <a:lnTo>
                    <a:pt x="0" y="2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151760" y="2612880"/>
              <a:ext cx="71280" cy="79560"/>
            </a:xfrm>
            <a:custGeom>
              <a:avLst/>
              <a:gdLst/>
              <a:ahLst/>
              <a:rect l="l" t="t" r="r" b="b"/>
              <a:pathLst>
                <a:path w="44" h="43">
                  <a:moveTo>
                    <a:pt x="22" y="0"/>
                  </a:moveTo>
                  <a:lnTo>
                    <a:pt x="44" y="21"/>
                  </a:lnTo>
                  <a:lnTo>
                    <a:pt x="22" y="43"/>
                  </a:lnTo>
                  <a:lnTo>
                    <a:pt x="0" y="21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81600" y="2787480"/>
              <a:ext cx="69840" cy="81000"/>
            </a:xfrm>
            <a:custGeom>
              <a:avLst/>
              <a:gdLst/>
              <a:ahLst/>
              <a:rect l="l" t="t" r="r" b="b"/>
              <a:pathLst>
                <a:path w="43" h="43">
                  <a:moveTo>
                    <a:pt x="22" y="0"/>
                  </a:moveTo>
                  <a:lnTo>
                    <a:pt x="43" y="21"/>
                  </a:lnTo>
                  <a:lnTo>
                    <a:pt x="22" y="43"/>
                  </a:lnTo>
                  <a:lnTo>
                    <a:pt x="0" y="21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81600" y="2773440"/>
              <a:ext cx="69840" cy="82440"/>
            </a:xfrm>
            <a:custGeom>
              <a:avLst/>
              <a:gdLst/>
              <a:ahLst/>
              <a:rect l="l" t="t" r="r" b="b"/>
              <a:pathLst>
                <a:path w="43" h="44">
                  <a:moveTo>
                    <a:pt x="22" y="0"/>
                  </a:moveTo>
                  <a:lnTo>
                    <a:pt x="43" y="22"/>
                  </a:lnTo>
                  <a:lnTo>
                    <a:pt x="22" y="44"/>
                  </a:lnTo>
                  <a:lnTo>
                    <a:pt x="0" y="2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781600" y="2936880"/>
              <a:ext cx="69840" cy="81000"/>
            </a:xfrm>
            <a:custGeom>
              <a:avLst/>
              <a:gdLst/>
              <a:ahLst/>
              <a:rect l="l" t="t" r="r" b="b"/>
              <a:pathLst>
                <a:path w="43" h="44">
                  <a:moveTo>
                    <a:pt x="22" y="0"/>
                  </a:moveTo>
                  <a:lnTo>
                    <a:pt x="43" y="22"/>
                  </a:lnTo>
                  <a:lnTo>
                    <a:pt x="22" y="44"/>
                  </a:lnTo>
                  <a:lnTo>
                    <a:pt x="0" y="2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913520" y="3165480"/>
              <a:ext cx="58680" cy="6660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626080" y="2813040"/>
              <a:ext cx="60120" cy="6984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366040" y="3274920"/>
              <a:ext cx="58680" cy="6660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721040" y="3125520"/>
              <a:ext cx="58680" cy="6840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589120" y="3665520"/>
              <a:ext cx="60480" cy="6984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114800" y="2896920"/>
              <a:ext cx="58680" cy="6696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495600" y="2733480"/>
              <a:ext cx="58680" cy="6660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245280" y="2843280"/>
              <a:ext cx="60120" cy="6660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245280" y="2733480"/>
              <a:ext cx="60120" cy="6660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151760" y="2936880"/>
              <a:ext cx="58680" cy="6660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114800" y="2977920"/>
              <a:ext cx="58680" cy="6696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459560" y="2759040"/>
              <a:ext cx="60480" cy="6804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887560" y="4816440"/>
              <a:ext cx="58680" cy="6660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543720" y="2450880"/>
              <a:ext cx="58680" cy="6696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019480" y="2882880"/>
              <a:ext cx="59040" cy="6804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959280" y="2977920"/>
              <a:ext cx="58680" cy="6696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197160" y="2638440"/>
              <a:ext cx="58680" cy="6660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935680" y="2909880"/>
              <a:ext cx="60120" cy="6804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697440" y="2733480"/>
              <a:ext cx="60480" cy="6660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114800" y="2787480"/>
              <a:ext cx="58680" cy="6840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40200" y="2733480"/>
              <a:ext cx="58680" cy="6660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840200" y="2733480"/>
              <a:ext cx="58680" cy="6660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840200" y="2733480"/>
              <a:ext cx="58680" cy="6660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840200" y="2787480"/>
              <a:ext cx="58680" cy="6840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40200" y="2679480"/>
              <a:ext cx="58680" cy="6696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840200" y="2733480"/>
              <a:ext cx="58680" cy="6660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840200" y="2625480"/>
              <a:ext cx="58680" cy="6696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840200" y="2787480"/>
              <a:ext cx="58680" cy="6840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114800" y="3003480"/>
              <a:ext cx="58680" cy="6840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14800" y="3125520"/>
              <a:ext cx="58680" cy="6840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076560" y="2950920"/>
              <a:ext cx="61920" cy="6696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076560" y="3098880"/>
              <a:ext cx="61920" cy="6660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076560" y="2868480"/>
              <a:ext cx="61920" cy="6840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076560" y="2813040"/>
              <a:ext cx="61920" cy="6984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076560" y="2720880"/>
              <a:ext cx="61920" cy="6660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994280" y="2679480"/>
              <a:ext cx="61920" cy="6696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994280" y="2733480"/>
              <a:ext cx="61920" cy="6660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935680" y="2827080"/>
              <a:ext cx="60120" cy="6984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935680" y="2787480"/>
              <a:ext cx="60120" cy="6840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935680" y="2896920"/>
              <a:ext cx="60120" cy="6696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041640" y="2543040"/>
              <a:ext cx="60120" cy="6984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041640" y="2558880"/>
              <a:ext cx="60120" cy="6660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041640" y="2679480"/>
              <a:ext cx="60120" cy="6696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41640" y="2813040"/>
              <a:ext cx="60120" cy="6984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424480" y="2787480"/>
              <a:ext cx="58680" cy="6840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506840" y="2543040"/>
              <a:ext cx="60480" cy="6984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589200" y="2855880"/>
              <a:ext cx="60480" cy="6660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448320" y="2950920"/>
              <a:ext cx="58680" cy="6696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48320" y="2558880"/>
              <a:ext cx="58680" cy="6660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019480" y="2855880"/>
              <a:ext cx="59040" cy="6660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495600" y="3071880"/>
              <a:ext cx="58680" cy="6804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197160" y="3328920"/>
              <a:ext cx="58680" cy="6660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649680" y="2950920"/>
              <a:ext cx="58680" cy="6696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041640" y="3449520"/>
              <a:ext cx="60120" cy="6840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495600" y="2909880"/>
              <a:ext cx="58680" cy="6804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805200" y="3477960"/>
              <a:ext cx="58680" cy="6696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279520" y="3071880"/>
              <a:ext cx="60480" cy="6804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744640" y="3303360"/>
              <a:ext cx="58680" cy="6696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805200" y="3720960"/>
              <a:ext cx="58680" cy="6840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805200" y="2720880"/>
              <a:ext cx="58680" cy="6660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626080" y="2813040"/>
              <a:ext cx="60120" cy="6984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805200" y="2759040"/>
              <a:ext cx="58680" cy="6804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935680" y="2800080"/>
              <a:ext cx="60120" cy="6840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935680" y="2759040"/>
              <a:ext cx="60120" cy="6804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935680" y="2720880"/>
              <a:ext cx="60120" cy="6660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853320" y="2746440"/>
              <a:ext cx="58680" cy="6660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853320" y="2813040"/>
              <a:ext cx="58680" cy="6984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53320" y="2800080"/>
              <a:ext cx="58680" cy="6840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197160" y="3503520"/>
              <a:ext cx="71280" cy="82440"/>
            </a:xfrm>
            <a:custGeom>
              <a:avLst/>
              <a:gdLst/>
              <a:ahLst/>
              <a:rect l="l" t="t" r="r" b="b"/>
              <a:pathLst>
                <a:path w="43" h="44">
                  <a:moveTo>
                    <a:pt x="21" y="0"/>
                  </a:moveTo>
                  <a:lnTo>
                    <a:pt x="43" y="44"/>
                  </a:lnTo>
                  <a:lnTo>
                    <a:pt x="0" y="44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99cc00"/>
            </a:solidFill>
            <a:ln w="11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649680" y="3274920"/>
              <a:ext cx="71280" cy="82440"/>
            </a:xfrm>
            <a:custGeom>
              <a:avLst/>
              <a:gdLst/>
              <a:ahLst/>
              <a:rect l="l" t="t" r="r" b="b"/>
              <a:pathLst>
                <a:path w="43" h="44">
                  <a:moveTo>
                    <a:pt x="21" y="0"/>
                  </a:moveTo>
                  <a:lnTo>
                    <a:pt x="43" y="44"/>
                  </a:lnTo>
                  <a:lnTo>
                    <a:pt x="0" y="44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99cc00"/>
            </a:solidFill>
            <a:ln w="11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041640" y="2759040"/>
              <a:ext cx="71280" cy="84240"/>
            </a:xfrm>
            <a:custGeom>
              <a:avLst/>
              <a:gdLst/>
              <a:ahLst/>
              <a:rect l="l" t="t" r="r" b="b"/>
              <a:pathLst>
                <a:path w="43" h="44">
                  <a:moveTo>
                    <a:pt x="21" y="0"/>
                  </a:moveTo>
                  <a:lnTo>
                    <a:pt x="43" y="44"/>
                  </a:lnTo>
                  <a:lnTo>
                    <a:pt x="0" y="44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99cc00"/>
            </a:solidFill>
            <a:ln w="11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95600" y="3843360"/>
              <a:ext cx="69840" cy="79200"/>
            </a:xfrm>
            <a:custGeom>
              <a:avLst/>
              <a:gdLst/>
              <a:ahLst/>
              <a:rect l="l" t="t" r="r" b="b"/>
              <a:pathLst>
                <a:path w="43" h="43">
                  <a:moveTo>
                    <a:pt x="21" y="0"/>
                  </a:moveTo>
                  <a:lnTo>
                    <a:pt x="43" y="43"/>
                  </a:lnTo>
                  <a:lnTo>
                    <a:pt x="0" y="43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99cc00"/>
            </a:solidFill>
            <a:ln w="11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758000" y="3179520"/>
              <a:ext cx="73080" cy="82800"/>
            </a:xfrm>
            <a:custGeom>
              <a:avLst/>
              <a:gdLst/>
              <a:ahLst/>
              <a:rect l="l" t="t" r="r" b="b"/>
              <a:pathLst>
                <a:path w="44" h="43">
                  <a:moveTo>
                    <a:pt x="22" y="0"/>
                  </a:moveTo>
                  <a:lnTo>
                    <a:pt x="44" y="43"/>
                  </a:lnTo>
                  <a:lnTo>
                    <a:pt x="0" y="43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99cc00"/>
            </a:solidFill>
            <a:ln w="11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853320" y="2922480"/>
              <a:ext cx="71280" cy="81000"/>
            </a:xfrm>
            <a:custGeom>
              <a:avLst/>
              <a:gdLst/>
              <a:ahLst/>
              <a:rect l="l" t="t" r="r" b="b"/>
              <a:pathLst>
                <a:path w="44" h="43">
                  <a:moveTo>
                    <a:pt x="22" y="0"/>
                  </a:moveTo>
                  <a:lnTo>
                    <a:pt x="44" y="43"/>
                  </a:lnTo>
                  <a:lnTo>
                    <a:pt x="0" y="43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99cc00"/>
            </a:solidFill>
            <a:ln w="11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495600" y="2855880"/>
              <a:ext cx="69840" cy="81000"/>
            </a:xfrm>
            <a:custGeom>
              <a:avLst/>
              <a:gdLst/>
              <a:ahLst/>
              <a:rect l="l" t="t" r="r" b="b"/>
              <a:pathLst>
                <a:path w="43" h="43">
                  <a:moveTo>
                    <a:pt x="21" y="0"/>
                  </a:moveTo>
                  <a:lnTo>
                    <a:pt x="43" y="43"/>
                  </a:lnTo>
                  <a:lnTo>
                    <a:pt x="0" y="43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99cc00"/>
            </a:solidFill>
            <a:ln w="11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97160" y="2977920"/>
              <a:ext cx="71280" cy="79560"/>
            </a:xfrm>
            <a:custGeom>
              <a:avLst/>
              <a:gdLst/>
              <a:ahLst/>
              <a:rect l="l" t="t" r="r" b="b"/>
              <a:pathLst>
                <a:path w="43" h="43">
                  <a:moveTo>
                    <a:pt x="21" y="0"/>
                  </a:moveTo>
                  <a:lnTo>
                    <a:pt x="43" y="43"/>
                  </a:lnTo>
                  <a:lnTo>
                    <a:pt x="0" y="43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99cc00"/>
            </a:solidFill>
            <a:ln w="11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589120" y="3031920"/>
              <a:ext cx="71280" cy="79560"/>
            </a:xfrm>
            <a:custGeom>
              <a:avLst/>
              <a:gdLst/>
              <a:ahLst/>
              <a:rect l="l" t="t" r="r" b="b"/>
              <a:pathLst>
                <a:path w="43" h="43">
                  <a:moveTo>
                    <a:pt x="21" y="0"/>
                  </a:moveTo>
                  <a:lnTo>
                    <a:pt x="43" y="43"/>
                  </a:lnTo>
                  <a:lnTo>
                    <a:pt x="0" y="43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99cc00"/>
            </a:solidFill>
            <a:ln w="11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124000" y="2896920"/>
              <a:ext cx="73080" cy="81000"/>
            </a:xfrm>
            <a:custGeom>
              <a:avLst/>
              <a:gdLst/>
              <a:ahLst/>
              <a:rect l="l" t="t" r="r" b="b"/>
              <a:pathLst>
                <a:path w="44" h="43">
                  <a:moveTo>
                    <a:pt x="22" y="0"/>
                  </a:moveTo>
                  <a:lnTo>
                    <a:pt x="44" y="43"/>
                  </a:lnTo>
                  <a:lnTo>
                    <a:pt x="0" y="43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99cc00"/>
            </a:solidFill>
            <a:ln w="11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744640" y="3395520"/>
              <a:ext cx="69840" cy="82440"/>
            </a:xfrm>
            <a:custGeom>
              <a:avLst/>
              <a:gdLst/>
              <a:ahLst/>
              <a:rect l="l" t="t" r="r" b="b"/>
              <a:pathLst>
                <a:path w="43" h="44">
                  <a:moveTo>
                    <a:pt x="21" y="0"/>
                  </a:moveTo>
                  <a:lnTo>
                    <a:pt x="43" y="44"/>
                  </a:lnTo>
                  <a:lnTo>
                    <a:pt x="0" y="44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99cc00"/>
            </a:solidFill>
            <a:ln w="11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83640" y="495144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83640" y="457344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83640" y="418140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83640" y="380196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83640" y="341136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83640" y="30319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9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64840" y="263844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996840" y="5067360"/>
              <a:ext cx="71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058760" y="5067360"/>
              <a:ext cx="76201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1068480" y="5067360"/>
              <a:ext cx="1440" cy="80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2590560" y="5067360"/>
              <a:ext cx="1800" cy="80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4116240" y="5067360"/>
              <a:ext cx="1800" cy="80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5627520" y="5067360"/>
              <a:ext cx="1800" cy="80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7151760" y="5067360"/>
              <a:ext cx="1440" cy="80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8674200" y="5067360"/>
              <a:ext cx="2880" cy="80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29440" y="5297400"/>
              <a:ext cx="39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4,5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354040" y="5297400"/>
              <a:ext cx="39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5,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78280" y="5297400"/>
              <a:ext cx="39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5,5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389560" y="5297400"/>
              <a:ext cx="39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6,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913440" y="5297400"/>
              <a:ext cx="39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6,5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8435880" y="5297400"/>
              <a:ext cx="39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7,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1" name=""/>
            <p:cNvGrpSpPr/>
            <p:nvPr/>
          </p:nvGrpSpPr>
          <p:grpSpPr>
            <a:xfrm>
              <a:off x="602280" y="2205000"/>
              <a:ext cx="535680" cy="243720"/>
              <a:chOff x="602280" y="2205000"/>
              <a:chExt cx="535680" cy="243720"/>
            </a:xfrm>
          </p:grpSpPr>
          <p:sp>
            <p:nvSpPr>
              <p:cNvPr id="192" name=""/>
              <p:cNvSpPr/>
              <p:nvPr/>
            </p:nvSpPr>
            <p:spPr>
              <a:xfrm>
                <a:off x="1067040" y="2341080"/>
                <a:ext cx="709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602280" y="2205000"/>
                <a:ext cx="339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11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1133280" y="2795400"/>
              <a:ext cx="7562880" cy="1296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130400" y="3166920"/>
              <a:ext cx="7565760" cy="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395280" y="260280"/>
            <a:ext cx="856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dice de production et pH des témoins non chaulés dans des essais de l’Ouest, Centre et Sud-Ouest de la Fr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003720" y="6381720"/>
            <a:ext cx="293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A. Bouthier et P. Castillon (200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31T12:59:08Z</dcterms:created>
  <dc:creator>_</dc:creator>
  <dc:description/>
  <dc:language>en-US</dc:language>
  <cp:lastModifiedBy>_</cp:lastModifiedBy>
  <dcterms:modified xsi:type="dcterms:W3CDTF">2006-02-28T15:31:34Z</dcterms:modified>
  <cp:revision>3</cp:revision>
  <dc:subject/>
  <dc:title>Diapositive 1</dc:title>
</cp:coreProperties>
</file>