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3E2-DFB5-4FF0-8A41-F258D9BE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9FE-954B-4890-AB2E-1ED2AD5D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34D-1850-47D3-BE23-6D2DD63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A49-6D87-4348-9BF5-26CBC0E9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0D7-B39A-4195-B466-8102AB8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09F-2744-4F20-A390-CF8FC880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7A4-FE93-4673-B1AE-5AA6E62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6F9-463D-4FFE-AFA5-370B396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879-2FCE-4EC0-A787-97F6AA0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20E-B8D1-408D-983B-3D596C3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D7-1125-40BD-9F4C-5991526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791-3896-4DEF-92FF-5E47FD0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580-8B55-4657-BDD6-6E3F6262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6440" y="1052640"/>
            <a:ext cx="8737200" cy="5174640"/>
            <a:chOff x="406440" y="1052640"/>
            <a:chExt cx="8737200" cy="5174640"/>
          </a:xfrm>
        </p:grpSpPr>
        <p:sp>
          <p:nvSpPr>
            <p:cNvPr id="42" name=""/>
            <p:cNvSpPr/>
            <p:nvPr/>
          </p:nvSpPr>
          <p:spPr>
            <a:xfrm>
              <a:off x="8579160" y="558972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54360" y="2813400"/>
              <a:ext cx="7607160" cy="30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54360" y="549936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54360" y="517068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4360" y="4830840"/>
              <a:ext cx="760716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4360" y="449136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360" y="4164120"/>
              <a:ext cx="760716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4360" y="382140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4360" y="348156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360" y="315468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4360" y="281340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3544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2912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11640" y="2813400"/>
              <a:ext cx="180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0568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8676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8044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6152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54360" y="2813400"/>
              <a:ext cx="7607160" cy="30272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54360" y="2813400"/>
              <a:ext cx="1440" cy="302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5040" y="58406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5040" y="54993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5040" y="51706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5040" y="48308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5040" y="44913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5040" y="41641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040" y="3821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5040" y="34815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54360" y="5840640"/>
              <a:ext cx="760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5436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03544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12912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11640" y="584028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30568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8676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8044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561520" y="58402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09760" y="2982960"/>
              <a:ext cx="5959440" cy="2541600"/>
            </a:xfrm>
            <a:custGeom>
              <a:avLst/>
              <a:gdLst/>
              <a:ahLst/>
              <a:rect l="l" t="t" r="r" b="b"/>
              <a:pathLst>
                <a:path w="485" h="194">
                  <a:moveTo>
                    <a:pt x="0" y="101"/>
                  </a:moveTo>
                  <a:lnTo>
                    <a:pt x="76" y="91"/>
                  </a:lnTo>
                  <a:lnTo>
                    <a:pt x="110" y="141"/>
                  </a:lnTo>
                  <a:lnTo>
                    <a:pt x="136" y="101"/>
                  </a:lnTo>
                  <a:lnTo>
                    <a:pt x="163" y="142"/>
                  </a:lnTo>
                  <a:lnTo>
                    <a:pt x="196" y="194"/>
                  </a:lnTo>
                  <a:lnTo>
                    <a:pt x="221" y="147"/>
                  </a:lnTo>
                  <a:lnTo>
                    <a:pt x="251" y="141"/>
                  </a:lnTo>
                  <a:lnTo>
                    <a:pt x="382" y="0"/>
                  </a:lnTo>
                  <a:lnTo>
                    <a:pt x="423" y="90"/>
                  </a:lnTo>
                  <a:lnTo>
                    <a:pt x="462" y="64"/>
                  </a:lnTo>
                  <a:lnTo>
                    <a:pt x="485" y="38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09760" y="3507120"/>
              <a:ext cx="5959440" cy="1560240"/>
            </a:xfrm>
            <a:custGeom>
              <a:avLst/>
              <a:gdLst/>
              <a:ahLst/>
              <a:rect l="l" t="t" r="r" b="b"/>
              <a:pathLst>
                <a:path w="485" h="119">
                  <a:moveTo>
                    <a:pt x="0" y="55"/>
                  </a:moveTo>
                  <a:lnTo>
                    <a:pt x="76" y="48"/>
                  </a:lnTo>
                  <a:lnTo>
                    <a:pt x="110" y="46"/>
                  </a:lnTo>
                  <a:lnTo>
                    <a:pt x="136" y="0"/>
                  </a:lnTo>
                  <a:lnTo>
                    <a:pt x="163" y="16"/>
                  </a:lnTo>
                  <a:lnTo>
                    <a:pt x="196" y="119"/>
                  </a:lnTo>
                  <a:lnTo>
                    <a:pt x="221" y="50"/>
                  </a:lnTo>
                  <a:lnTo>
                    <a:pt x="251" y="24"/>
                  </a:lnTo>
                  <a:lnTo>
                    <a:pt x="382" y="24"/>
                  </a:lnTo>
                  <a:lnTo>
                    <a:pt x="423" y="101"/>
                  </a:lnTo>
                  <a:lnTo>
                    <a:pt x="462" y="88"/>
                  </a:lnTo>
                  <a:lnTo>
                    <a:pt x="485" y="3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4267440"/>
              <a:ext cx="619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06880" y="4137120"/>
              <a:ext cx="601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24120" y="4791240"/>
              <a:ext cx="61920" cy="666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3440" y="4267440"/>
              <a:ext cx="619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75000" y="4805640"/>
              <a:ext cx="619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81440" y="5486760"/>
              <a:ext cx="61920" cy="648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87800" y="4870800"/>
              <a:ext cx="61920" cy="648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57880" y="4791240"/>
              <a:ext cx="60120" cy="666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67440" y="2945160"/>
              <a:ext cx="6192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70720" y="4123080"/>
              <a:ext cx="61920" cy="666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0240" y="3783240"/>
              <a:ext cx="619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32840" y="3441960"/>
              <a:ext cx="6192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4189680"/>
              <a:ext cx="74880" cy="777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0"/>
                  </a:moveTo>
                  <a:lnTo>
                    <a:pt x="47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06880" y="409752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24120" y="407052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24"/>
                  </a:lnTo>
                  <a:lnTo>
                    <a:pt x="23" y="47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3440" y="3467160"/>
              <a:ext cx="74520" cy="79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5000" y="3678480"/>
              <a:ext cx="74880" cy="79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1440" y="502776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24"/>
                  </a:lnTo>
                  <a:lnTo>
                    <a:pt x="23" y="47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87800" y="4123080"/>
              <a:ext cx="74880" cy="79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24"/>
                  </a:lnTo>
                  <a:lnTo>
                    <a:pt x="24" y="47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7880" y="37832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67440" y="37832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70720" y="4791240"/>
              <a:ext cx="74520" cy="795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3" y="0"/>
                  </a:moveTo>
                  <a:lnTo>
                    <a:pt x="47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50240" y="4621320"/>
              <a:ext cx="74520" cy="79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24"/>
                  </a:lnTo>
                  <a:lnTo>
                    <a:pt x="23" y="47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32840" y="395316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3" y="0"/>
                  </a:moveTo>
                  <a:lnTo>
                    <a:pt x="47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6440" y="2676600"/>
              <a:ext cx="395280" cy="3272760"/>
              <a:chOff x="406440" y="2676600"/>
              <a:chExt cx="395280" cy="32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492120" y="57056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6440" y="53643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2120" y="50371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440" y="469584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2120" y="43545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6440" y="402912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,9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8200" y="3686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6440" y="33465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8,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2120" y="30196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8,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6440" y="267660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8,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46280" y="598356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/01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7360" y="5983560"/>
              <a:ext cx="9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/03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1040" y="598356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3/04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2120" y="598356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/06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6160" y="59835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/08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7240" y="598356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/09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2360" y="5983560"/>
              <a:ext cx="90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/11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53440" y="598356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9/12/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2280" y="221328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4080" y="1557360"/>
              <a:ext cx="4032360" cy="82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de sol 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on Argilo Sable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ile     : 18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imons : 48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bles   : 33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H : 7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097360" y="1845000"/>
              <a:ext cx="1873080" cy="720720"/>
              <a:chOff x="2097360" y="1845000"/>
              <a:chExt cx="1873080" cy="720720"/>
            </a:xfrm>
          </p:grpSpPr>
          <p:sp>
            <p:nvSpPr>
              <p:cNvPr id="127" name=""/>
              <p:cNvSpPr/>
              <p:nvPr/>
            </p:nvSpPr>
            <p:spPr>
              <a:xfrm>
                <a:off x="2243160" y="2053080"/>
                <a:ext cx="331560" cy="144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5200" y="2014920"/>
                <a:ext cx="61560" cy="61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11800" y="1941840"/>
                <a:ext cx="959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 0-5 c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43160" y="2310120"/>
                <a:ext cx="3315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365200" y="227376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6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11800" y="2200680"/>
                <a:ext cx="1184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 15-20 c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97360" y="1845000"/>
                <a:ext cx="1873080" cy="72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305000" y="1052640"/>
              <a:ext cx="3529080" cy="704880"/>
              <a:chOff x="1305000" y="1052640"/>
              <a:chExt cx="3529080" cy="7048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499040" y="1143360"/>
                <a:ext cx="2929680" cy="429120"/>
                <a:chOff x="1499040" y="1143360"/>
                <a:chExt cx="2929680" cy="429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499040" y="1143360"/>
                  <a:ext cx="2849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om de la parcelle : La Born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499040" y="1328760"/>
                  <a:ext cx="2929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ieu de la parcelle   : Bruyè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1494000" y="1513080"/>
                <a:ext cx="14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05000" y="1052640"/>
                <a:ext cx="352908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2355120" y="26028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u pH au prin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630864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: L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0:25:36Z</dcterms:created>
  <dc:creator>_</dc:creator>
  <dc:description/>
  <dc:language>en-US</dc:language>
  <cp:lastModifiedBy>_</cp:lastModifiedBy>
  <dcterms:modified xsi:type="dcterms:W3CDTF">2006-02-28T16:58:54Z</dcterms:modified>
  <cp:revision>3</cp:revision>
  <dc:subject/>
  <dc:title>Diapositive 1</dc:title>
</cp:coreProperties>
</file>