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28D-409C-447B-A8EE-B56C7542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C4C-F078-406B-8873-2FC6751B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267-978A-4FB8-A3EF-ABBA73D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6D7-4272-4C25-92EA-6368EAE0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74F-7E1F-47EA-B74E-C9A1EC95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25B-DFD0-4650-8744-47CFDF1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19-AFFE-43FC-BC76-A263CA9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91B-92B2-4837-930B-033E3EDA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B54-BB1B-4B54-9002-B56BEA7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308-B9C7-4CF9-B96A-D277580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89F-D978-4A59-BBA8-4E6E443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608-3CFB-4E38-ACEE-EE525A9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9FD-C03E-40A9-A606-DB5FC5A54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0" y="1341360"/>
            <a:ext cx="3956040" cy="3596400"/>
            <a:chOff x="79200" y="1341360"/>
            <a:chExt cx="3956040" cy="3596400"/>
          </a:xfrm>
        </p:grpSpPr>
        <p:sp>
          <p:nvSpPr>
            <p:cNvPr id="42" name=""/>
            <p:cNvSpPr/>
            <p:nvPr/>
          </p:nvSpPr>
          <p:spPr>
            <a:xfrm>
              <a:off x="79200" y="1341360"/>
              <a:ext cx="1924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molé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gan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71640" y="3401280"/>
              <a:ext cx="126792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t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14280" y="1753560"/>
              <a:ext cx="1050480" cy="0"/>
            </a:xfrm>
            <a:prstGeom prst="line">
              <a:avLst/>
            </a:prstGeom>
            <a:ln w="63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440" y="1753560"/>
              <a:ext cx="1453680" cy="31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19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19517"/>
                </a:path>
              </a:pathLst>
            </a:custGeom>
            <a:noFill/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64760" y="1506240"/>
              <a:ext cx="870480" cy="9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0" bIns="298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992920" y="5130720"/>
            <a:ext cx="3151080" cy="119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ons nitrates perdus « tracent » l ’aci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16880" y="3048120"/>
            <a:ext cx="23144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égét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n) molé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30360" y="2111400"/>
            <a:ext cx="126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n)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4680" y="3213000"/>
            <a:ext cx="1687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 n) ions nit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3"/>
            <a:endCxn id="48" idx="1"/>
          </p:cNvCxnSpPr>
          <p:nvPr/>
        </p:nvCxnSpPr>
        <p:spPr>
          <a:xfrm>
            <a:off x="5497920" y="2341080"/>
            <a:ext cx="1219320" cy="1302840"/>
          </a:xfrm>
          <a:prstGeom prst="curvedConnector3">
            <a:avLst>
              <a:gd name="adj1" fmla="val 24128"/>
            </a:avLst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5427720" y="3730680"/>
            <a:ext cx="12110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29280" y="1424160"/>
            <a:ext cx="4914360" cy="825480"/>
            <a:chOff x="4229280" y="1424160"/>
            <a:chExt cx="4914360" cy="825480"/>
          </a:xfrm>
        </p:grpSpPr>
        <p:sp>
          <p:nvSpPr>
            <p:cNvPr id="54" name=""/>
            <p:cNvSpPr/>
            <p:nvPr/>
          </p:nvSpPr>
          <p:spPr>
            <a:xfrm>
              <a:off x="4229280" y="1506600"/>
              <a:ext cx="758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103360" y="1753560"/>
              <a:ext cx="1454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8120" y="1424160"/>
              <a:ext cx="25855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sites basiques sont proton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276720" y="4221000"/>
            <a:ext cx="230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ons nit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25960" y="4941720"/>
            <a:ext cx="14400" cy="628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3720" y="5570640"/>
            <a:ext cx="3716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ons nitrates entraînés par les eaux d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46320" y="33336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ification due au cycle de l’az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44960" y="652140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-L Julien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55:53Z</dcterms:created>
  <dc:creator>Jean-Luc Julien</dc:creator>
  <dc:description/>
  <dc:language>en-US</dc:language>
  <cp:lastModifiedBy>_</cp:lastModifiedBy>
  <dcterms:modified xsi:type="dcterms:W3CDTF">2006-03-13T09:32:45Z</dcterms:modified>
  <cp:revision>14</cp:revision>
  <dc:subject/>
  <dc:title>Les causes de l ’acidification</dc:title>
</cp:coreProperties>
</file>