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ADCC-6BE2-4CD4-A4D4-464E49F3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172C-B637-4314-934A-616CE2A2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D1FE-B496-4637-9BAB-9F50C5A8A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366E-F4E2-49E4-A71B-473254668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EE7D-5C41-44A7-9832-775CF69D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0F99-CEEF-420D-BF88-F91550AE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265D-7C6A-4F51-A602-6D2F44E7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D35D-74F8-4795-B07F-BC6C4DD1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B1A8-BE1F-4C73-AEDB-1C9D2B91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7DB5-2DB3-46BF-A928-052D7A5B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D973-1A7C-4C01-80E7-C64AECD1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27E0-1B3B-4C6D-A735-599E9406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EE88-5121-4B79-AF83-5AD3FD098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6160" cy="6840720"/>
            <a:chOff x="0" y="0"/>
            <a:chExt cx="9146160" cy="68407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101080" cy="607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5000760"/>
              <a:ext cx="2916360" cy="183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pHeau = 4,7 pH KCl = 4,3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Ca/CEC = 18 %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Al échangeable = 74, 4 mg/Kg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Lara Europe Analys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5940360" y="1989000"/>
              <a:ext cx="2889360" cy="409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864880" y="6093000"/>
              <a:ext cx="62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ymptômes de toxicité aluminique sur bl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09:36:40Z</dcterms:created>
  <dc:creator>_</dc:creator>
  <dc:description/>
  <dc:language>en-US</dc:language>
  <cp:lastModifiedBy>_</cp:lastModifiedBy>
  <dcterms:modified xsi:type="dcterms:W3CDTF">2006-02-28T15:27:45Z</dcterms:modified>
  <cp:revision>2</cp:revision>
  <dc:subject/>
  <dc:title>Diapositive 1</dc:title>
</cp:coreProperties>
</file>