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995-0212-4E8A-AB0B-618C25AE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2DA-0933-40A2-A05C-A366092F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BE4-71BB-4CE5-8C1F-5E40366A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6EB-E8AC-4B35-9D5B-86CB384E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BE4-006C-4BD9-A8F2-04AD39F7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7BB-B0E4-4518-B5D9-8DD67335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6AE-13D4-4541-83F8-E0F7898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6AF-BFA8-463F-87D7-71FA4907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4E2-291A-4A76-ADB1-D87F3FF0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AB4-9F46-43CB-B52E-F6A56B1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6FD-987C-482C-B64C-59A01E8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13B-80AF-4584-B15D-F24C990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9B28-B977-4507-A1D0-FC94CE46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22240" y="1322280"/>
            <a:ext cx="409320" cy="4533120"/>
            <a:chOff x="822240" y="1322280"/>
            <a:chExt cx="409320" cy="4533120"/>
          </a:xfrm>
        </p:grpSpPr>
        <p:sp>
          <p:nvSpPr>
            <p:cNvPr id="42" name=""/>
            <p:cNvSpPr/>
            <p:nvPr/>
          </p:nvSpPr>
          <p:spPr>
            <a:xfrm>
              <a:off x="1182600" y="4201920"/>
              <a:ext cx="48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0160" y="56116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0160" y="51339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0160" y="4662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0160" y="4183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0160" y="37036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0160" y="3233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0160" y="2754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0160" y="22748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0160" y="18050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2240" y="13222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254240" y="5848200"/>
            <a:ext cx="7359480" cy="253440"/>
            <a:chOff x="1254240" y="5848200"/>
            <a:chExt cx="7359480" cy="253440"/>
          </a:xfrm>
        </p:grpSpPr>
        <p:sp>
          <p:nvSpPr>
            <p:cNvPr id="54" name=""/>
            <p:cNvSpPr/>
            <p:nvPr/>
          </p:nvSpPr>
          <p:spPr>
            <a:xfrm>
              <a:off x="8605800" y="590688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05800" y="5906880"/>
              <a:ext cx="7920" cy="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05800" y="60498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05800" y="604980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54240" y="58579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1636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7344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3880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9444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5152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0716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7216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2816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85240" y="5848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8480" y="476280"/>
            <a:ext cx="8084880" cy="6153120"/>
            <a:chOff x="528480" y="476280"/>
            <a:chExt cx="8084880" cy="6153120"/>
          </a:xfrm>
        </p:grpSpPr>
        <p:sp>
          <p:nvSpPr>
            <p:cNvPr id="69" name=""/>
            <p:cNvSpPr/>
            <p:nvPr/>
          </p:nvSpPr>
          <p:spPr>
            <a:xfrm>
              <a:off x="528480" y="476280"/>
              <a:ext cx="7920" cy="615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5440" y="4762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5440" y="47628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05440" y="6192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05440" y="61920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05440" y="7621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05440" y="76212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05440" y="9050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05440" y="90504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05440" y="10476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05440" y="1047600"/>
              <a:ext cx="7920" cy="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05440" y="119052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05440" y="119052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605440" y="133344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05440" y="133344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05440" y="147636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05440" y="147636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05440" y="16192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05440" y="161928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05440" y="17622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05440" y="176220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05440" y="19051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05440" y="190512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05440" y="20480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05440" y="204804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05440" y="21906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05440" y="219060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05440" y="233352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05440" y="233352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05440" y="247644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05440" y="247644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05440" y="261936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05440" y="261936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05440" y="27622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05440" y="276228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5440" y="29052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5440" y="290520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05440" y="30481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5440" y="304812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05440" y="31910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05440" y="319104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05440" y="33336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05440" y="333360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05440" y="347652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05440" y="347652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05440" y="361944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05440" y="361944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05440" y="376236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05440" y="376236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05440" y="39052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05440" y="390528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05440" y="40482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05440" y="404820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05440" y="41911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05440" y="419112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05440" y="43340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05440" y="433404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05440" y="44766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05440" y="447660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05440" y="46213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05440" y="462132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05440" y="47642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05440" y="476424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05440" y="49068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05440" y="4906800"/>
              <a:ext cx="7920" cy="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05440" y="504972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05440" y="504972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05440" y="519264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05440" y="519264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05440" y="53355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05440" y="533556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05440" y="5478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05440" y="547848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05440" y="5621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05440" y="562140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05440" y="57643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05440" y="576432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5440" y="59072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05440" y="590724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5440" y="633564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5440" y="633564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5440" y="64785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5440" y="647856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05440" y="6621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05440" y="6621480"/>
              <a:ext cx="7920" cy="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8240" y="1569960"/>
              <a:ext cx="1800" cy="428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69800" y="5848200"/>
              <a:ext cx="49320" cy="180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98240" y="5353200"/>
              <a:ext cx="4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9800" y="4897440"/>
              <a:ext cx="4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9800" y="3940200"/>
              <a:ext cx="4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69800" y="3468600"/>
              <a:ext cx="4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9800" y="2989440"/>
              <a:ext cx="4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98240" y="2544840"/>
              <a:ext cx="4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9800" y="2040120"/>
              <a:ext cx="4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69800" y="1560600"/>
              <a:ext cx="4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19120" y="5848200"/>
              <a:ext cx="6824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19120" y="5847840"/>
              <a:ext cx="14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176200" y="5847840"/>
              <a:ext cx="14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31840" y="5847840"/>
              <a:ext cx="14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696840" y="5847840"/>
              <a:ext cx="180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454280" y="5847840"/>
              <a:ext cx="14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209920" y="5847840"/>
              <a:ext cx="14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967000" y="5847840"/>
              <a:ext cx="180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730560" y="5847840"/>
              <a:ext cx="180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488000" y="5847840"/>
              <a:ext cx="14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243640" y="5847840"/>
              <a:ext cx="14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47960" y="42512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32" y="15"/>
                  </a:lnTo>
                  <a:lnTo>
                    <a:pt x="16" y="31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38160" y="4259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0320" y="39736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0"/>
                  </a:moveTo>
                  <a:lnTo>
                    <a:pt x="31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57320" y="48466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0"/>
                  </a:moveTo>
                  <a:lnTo>
                    <a:pt x="31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17600" y="4772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57400" y="47545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7600" y="4502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83040" y="346860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0"/>
                  </a:moveTo>
                  <a:lnTo>
                    <a:pt x="31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60680" y="32749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20880" y="43005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8040" y="3662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0880" y="4384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8040" y="372888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4760" y="451980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0"/>
                  </a:moveTo>
                  <a:lnTo>
                    <a:pt x="31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22400" y="39895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4760" y="441792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0"/>
                  </a:moveTo>
                  <a:lnTo>
                    <a:pt x="31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2400" y="3905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81000" y="487188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2600" y="453708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32" y="15"/>
                  </a:lnTo>
                  <a:lnTo>
                    <a:pt x="16" y="31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69960" y="401472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31" y="16"/>
                  </a:lnTo>
                  <a:lnTo>
                    <a:pt x="15" y="32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76440" y="33926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08320" y="271296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31" y="15"/>
                  </a:lnTo>
                  <a:lnTo>
                    <a:pt x="15" y="31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59320" y="22748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17920" y="219060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92560" y="2736720"/>
              <a:ext cx="49320" cy="511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31" y="16"/>
                  </a:lnTo>
                  <a:lnTo>
                    <a:pt x="15" y="32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0480" y="2762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08320" y="27036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31" y="16"/>
                  </a:lnTo>
                  <a:lnTo>
                    <a:pt x="15" y="32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59320" y="19303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17920" y="27208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2560" y="26370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31" y="16"/>
                  </a:lnTo>
                  <a:lnTo>
                    <a:pt x="15" y="32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00480" y="25700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32" y="15"/>
                  </a:lnTo>
                  <a:lnTo>
                    <a:pt x="16" y="31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8320" y="29052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31" y="16"/>
                  </a:lnTo>
                  <a:lnTo>
                    <a:pt x="15" y="32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59320" y="1973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32" y="15"/>
                  </a:lnTo>
                  <a:lnTo>
                    <a:pt x="16" y="31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2560" y="25020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31" y="16"/>
                  </a:lnTo>
                  <a:lnTo>
                    <a:pt x="15" y="32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0480" y="23670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46440" y="36878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09400" y="5014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33440" y="45784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46440" y="39639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09400" y="49989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3440" y="4494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46440" y="3678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9400" y="49737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3440" y="45450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334960" y="1871280"/>
              <a:ext cx="4849920" cy="334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0080" y="7113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0800" y="2292480"/>
              <a:ext cx="1602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y = 1,0978 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83760" y="27129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3280" y="2662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00560" y="2712960"/>
              <a:ext cx="1065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= 0,963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71200" y="6259680"/>
              <a:ext cx="345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ement du témoin (MS en t H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4040" y="960480"/>
              <a:ext cx="452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ement du traitement chaulé (MS en t H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645920" y="1577880"/>
              <a:ext cx="6564240" cy="4084920"/>
              <a:chOff x="1645920" y="1577880"/>
              <a:chExt cx="6564240" cy="4084920"/>
            </a:xfrm>
          </p:grpSpPr>
          <p:sp>
            <p:nvSpPr>
              <p:cNvPr id="228" name=""/>
              <p:cNvSpPr/>
              <p:nvPr/>
            </p:nvSpPr>
            <p:spPr>
              <a:xfrm>
                <a:off x="1645920" y="5611680"/>
                <a:ext cx="58680" cy="51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2"/>
                    </a:moveTo>
                    <a:lnTo>
                      <a:pt x="6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38080" y="5545080"/>
                <a:ext cx="68040" cy="5868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0" y="26"/>
                    </a:moveTo>
                    <a:lnTo>
                      <a:pt x="6" y="37"/>
                    </a:lnTo>
                    <a:lnTo>
                      <a:pt x="43" y="11"/>
                    </a:lnTo>
                    <a:lnTo>
                      <a:pt x="38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39600" y="548640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41120" y="5427720"/>
                <a:ext cx="6696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1200" y="535932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2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42720" y="5300640"/>
                <a:ext cx="6696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2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42800" y="52340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7"/>
                    </a:moveTo>
                    <a:lnTo>
                      <a:pt x="5" y="37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44320" y="5175360"/>
                <a:ext cx="6696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44400" y="511668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5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45920" y="5049720"/>
                <a:ext cx="59040" cy="590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26"/>
                    </a:moveTo>
                    <a:lnTo>
                      <a:pt x="5" y="37"/>
                    </a:lnTo>
                    <a:lnTo>
                      <a:pt x="37" y="10"/>
                    </a:lnTo>
                    <a:lnTo>
                      <a:pt x="31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38080" y="498960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2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39600" y="4930920"/>
                <a:ext cx="6696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2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39680" y="4863960"/>
                <a:ext cx="66600" cy="5112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941200" y="4805280"/>
                <a:ext cx="6696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41280" y="473868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6"/>
                    </a:moveTo>
                    <a:lnTo>
                      <a:pt x="5" y="37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42800" y="4680000"/>
                <a:ext cx="6696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42880" y="4621320"/>
                <a:ext cx="68400" cy="4896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21"/>
                    </a:moveTo>
                    <a:lnTo>
                      <a:pt x="5" y="31"/>
                    </a:lnTo>
                    <a:lnTo>
                      <a:pt x="43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44760" y="45529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7"/>
                    </a:moveTo>
                    <a:lnTo>
                      <a:pt x="5" y="37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44480" y="449424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6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46360" y="443556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5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38160" y="4368960"/>
                <a:ext cx="66960" cy="489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40040" y="430992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39760" y="4241880"/>
                <a:ext cx="6696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7"/>
                    </a:moveTo>
                    <a:lnTo>
                      <a:pt x="5" y="37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41640" y="418320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41360" y="41245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1"/>
                    </a:moveTo>
                    <a:lnTo>
                      <a:pt x="5" y="32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43240" y="405756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42960" y="399888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21"/>
                    </a:moveTo>
                    <a:lnTo>
                      <a:pt x="6" y="31"/>
                    </a:lnTo>
                    <a:lnTo>
                      <a:pt x="43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44840" y="394020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44560" y="3871800"/>
                <a:ext cx="5904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6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46440" y="381312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5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38240" y="3746520"/>
                <a:ext cx="6696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6"/>
                    </a:moveTo>
                    <a:lnTo>
                      <a:pt x="5" y="37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40120" y="36878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39840" y="3629160"/>
                <a:ext cx="66960" cy="489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41720" y="356076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2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41800" y="350208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1"/>
                    </a:moveTo>
                    <a:lnTo>
                      <a:pt x="6" y="32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43320" y="343548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6"/>
                    </a:moveTo>
                    <a:lnTo>
                      <a:pt x="5" y="37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43400" y="337680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1"/>
                    </a:moveTo>
                    <a:lnTo>
                      <a:pt x="6" y="32"/>
                    </a:lnTo>
                    <a:lnTo>
                      <a:pt x="43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44920" y="331776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5" y="32"/>
                    </a:lnTo>
                    <a:lnTo>
                      <a:pt x="37" y="10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45000" y="324972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27"/>
                    </a:moveTo>
                    <a:lnTo>
                      <a:pt x="6" y="37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38600" y="31910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2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38680" y="3132000"/>
                <a:ext cx="66600" cy="5112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40200" y="306540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40280" y="300672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1"/>
                    </a:moveTo>
                    <a:lnTo>
                      <a:pt x="5" y="32"/>
                    </a:lnTo>
                    <a:lnTo>
                      <a:pt x="43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41800" y="2938320"/>
                <a:ext cx="66600" cy="604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27"/>
                    </a:moveTo>
                    <a:lnTo>
                      <a:pt x="5" y="38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41880" y="287964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2"/>
                    </a:moveTo>
                    <a:lnTo>
                      <a:pt x="6" y="32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3400" y="282096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2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43480" y="275436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1"/>
                    </a:moveTo>
                    <a:lnTo>
                      <a:pt x="6" y="32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45000" y="269568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5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45080" y="263700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6" y="32"/>
                    </a:lnTo>
                    <a:lnTo>
                      <a:pt x="37" y="10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38680" y="257004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38760" y="250992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2"/>
                    </a:moveTo>
                    <a:lnTo>
                      <a:pt x="5" y="32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40280" y="24433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7"/>
                    </a:moveTo>
                    <a:lnTo>
                      <a:pt x="5" y="37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40360" y="2384280"/>
                <a:ext cx="68040" cy="5112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1"/>
                    </a:moveTo>
                    <a:lnTo>
                      <a:pt x="6" y="32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41880" y="232560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41960" y="225900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21"/>
                    </a:moveTo>
                    <a:lnTo>
                      <a:pt x="6" y="31"/>
                    </a:lnTo>
                    <a:lnTo>
                      <a:pt x="43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43480" y="220032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43560" y="2131920"/>
                <a:ext cx="68040" cy="5868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0" y="27"/>
                    </a:moveTo>
                    <a:lnTo>
                      <a:pt x="6" y="37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45080" y="207324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0" y="21"/>
                    </a:moveTo>
                    <a:lnTo>
                      <a:pt x="5" y="32"/>
                    </a:lnTo>
                    <a:lnTo>
                      <a:pt x="37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45160" y="20145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38" h="32">
                    <a:moveTo>
                      <a:pt x="0" y="21"/>
                    </a:moveTo>
                    <a:lnTo>
                      <a:pt x="6" y="32"/>
                    </a:lnTo>
                    <a:lnTo>
                      <a:pt x="38" y="11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38760" y="194796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26"/>
                    </a:moveTo>
                    <a:lnTo>
                      <a:pt x="5" y="37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38840" y="1889280"/>
                <a:ext cx="68040" cy="4896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21"/>
                    </a:moveTo>
                    <a:lnTo>
                      <a:pt x="6" y="31"/>
                    </a:lnTo>
                    <a:lnTo>
                      <a:pt x="43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40360" y="183024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40440" y="176220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1"/>
                    </a:moveTo>
                    <a:lnTo>
                      <a:pt x="6" y="32"/>
                    </a:lnTo>
                    <a:lnTo>
                      <a:pt x="43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41960" y="170352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21"/>
                    </a:moveTo>
                    <a:lnTo>
                      <a:pt x="5" y="32"/>
                    </a:lnTo>
                    <a:lnTo>
                      <a:pt x="42" y="11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42040" y="1636560"/>
                <a:ext cx="68400" cy="590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0" y="26"/>
                    </a:moveTo>
                    <a:lnTo>
                      <a:pt x="6" y="37"/>
                    </a:lnTo>
                    <a:lnTo>
                      <a:pt x="43" y="10"/>
                    </a:lnTo>
                    <a:lnTo>
                      <a:pt x="3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43560" y="157788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1"/>
                    </a:moveTo>
                    <a:lnTo>
                      <a:pt x="5" y="31"/>
                    </a:lnTo>
                    <a:lnTo>
                      <a:pt x="42" y="10"/>
                    </a:lnTo>
                    <a:lnTo>
                      <a:pt x="3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1403280" y="0"/>
            <a:ext cx="67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ation du rendement due au chaulage (INN&lt;80 à la récol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47480" y="640224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. Peltier (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6:12:23Z</dcterms:created>
  <dc:creator>_</dc:creator>
  <dc:description/>
  <dc:language>en-US</dc:language>
  <cp:lastModifiedBy>_</cp:lastModifiedBy>
  <dcterms:modified xsi:type="dcterms:W3CDTF">2006-03-13T09:08:58Z</dcterms:modified>
  <cp:revision>6</cp:revision>
  <dc:subject/>
  <dc:title>Diapositive 1</dc:title>
</cp:coreProperties>
</file>