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8E7-4A0A-495E-B313-5023F804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9CA-A4D4-4905-8A05-B8173667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314-297A-4EAC-8CE6-F59C909B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9CE-148C-474A-9774-8E6BD597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59A-47D3-4103-8062-C891AB1D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209-4904-4D3C-9F1A-A3205087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A53-241C-4598-BD1F-CF3586C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AD5-1B21-444A-9C87-8261D83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E3E-E717-48A9-8448-8E9F439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5A8-1CFB-45F9-BD1F-761D902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3CC-2B17-41A1-BD67-24525B1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E4D-A29E-4819-A5FA-295C91C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470-34A0-4B44-8726-EE5F7F39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43120" y="0"/>
            <a:ext cx="7375680" cy="6687360"/>
            <a:chOff x="843120" y="0"/>
            <a:chExt cx="7375680" cy="6687360"/>
          </a:xfrm>
        </p:grpSpPr>
        <p:sp>
          <p:nvSpPr>
            <p:cNvPr id="42" name=""/>
            <p:cNvSpPr/>
            <p:nvPr/>
          </p:nvSpPr>
          <p:spPr>
            <a:xfrm>
              <a:off x="843120" y="0"/>
              <a:ext cx="696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bilité du résultat analytique selon le nombre de prélèv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697360" y="6380280"/>
              <a:ext cx="252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(D’aprés Beau et Plet, 198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47800" y="9478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12960" y="1011240"/>
              <a:ext cx="6261120" cy="521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12960" y="1011240"/>
              <a:ext cx="6261120" cy="5214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79760" y="5148360"/>
              <a:ext cx="539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9760" y="4718160"/>
              <a:ext cx="539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79760" y="4302000"/>
              <a:ext cx="539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79760" y="3873600"/>
              <a:ext cx="539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9760" y="3444840"/>
              <a:ext cx="539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79760" y="3016080"/>
              <a:ext cx="539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760" y="2598840"/>
              <a:ext cx="539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79760" y="2170080"/>
              <a:ext cx="539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79760" y="1739880"/>
              <a:ext cx="539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9760" y="1739880"/>
              <a:ext cx="5391000" cy="1440"/>
            </a:xfrm>
            <a:prstGeom prst="line">
              <a:avLst/>
            </a:prstGeom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70760" y="1739880"/>
              <a:ext cx="1800" cy="3836880"/>
            </a:xfrm>
            <a:prstGeom prst="line">
              <a:avLst/>
            </a:prstGeom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579400" y="5576760"/>
              <a:ext cx="5391000" cy="1800"/>
            </a:xfrm>
            <a:prstGeom prst="line">
              <a:avLst/>
            </a:prstGeom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579760" y="1739880"/>
              <a:ext cx="1440" cy="3836880"/>
            </a:xfrm>
            <a:prstGeom prst="line">
              <a:avLst/>
            </a:prstGeom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79760" y="1739880"/>
              <a:ext cx="1440" cy="3836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25760" y="5576760"/>
              <a:ext cx="54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25760" y="5146560"/>
              <a:ext cx="54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25760" y="4718160"/>
              <a:ext cx="54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5760" y="4302000"/>
              <a:ext cx="54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25760" y="3873600"/>
              <a:ext cx="54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25760" y="3444840"/>
              <a:ext cx="54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5760" y="3016080"/>
              <a:ext cx="54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25760" y="2598840"/>
              <a:ext cx="54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25760" y="2170080"/>
              <a:ext cx="54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25760" y="1739880"/>
              <a:ext cx="54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79760" y="5576760"/>
              <a:ext cx="539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79760" y="5576760"/>
              <a:ext cx="144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292560" y="5576760"/>
              <a:ext cx="144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021200" y="5576760"/>
              <a:ext cx="144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735440" y="5576760"/>
              <a:ext cx="180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448240" y="5576760"/>
              <a:ext cx="324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176880" y="5576760"/>
              <a:ext cx="180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891480" y="5576760"/>
              <a:ext cx="144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607160" y="5576760"/>
              <a:ext cx="1800" cy="52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6440" y="2155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28960" y="30002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11480" y="406872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9600" y="428940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492588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64280" y="49258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8920" y="1739880"/>
              <a:ext cx="4752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6440" y="2430360"/>
              <a:ext cx="66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3040" y="2963880"/>
              <a:ext cx="76320" cy="3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89360" y="3287880"/>
              <a:ext cx="7920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68560" y="3522600"/>
              <a:ext cx="795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8120" y="3689280"/>
              <a:ext cx="6336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11480" y="3821040"/>
              <a:ext cx="7776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89240" y="3936960"/>
              <a:ext cx="7776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67000" y="4029120"/>
              <a:ext cx="777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4760" y="4105440"/>
              <a:ext cx="666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1360" y="4172040"/>
              <a:ext cx="7632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7680" y="4224240"/>
              <a:ext cx="77760" cy="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5440" y="427680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3200" y="4329000"/>
              <a:ext cx="65160" cy="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8360" y="4365720"/>
              <a:ext cx="77760" cy="3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6120" y="4405320"/>
              <a:ext cx="7776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3880" y="4432320"/>
              <a:ext cx="77760" cy="3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1640" y="4470480"/>
              <a:ext cx="6696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08600" y="4497480"/>
              <a:ext cx="7596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4560" y="4521240"/>
              <a:ext cx="7956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64120" y="4548240"/>
              <a:ext cx="75960" cy="2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40080" y="4573440"/>
              <a:ext cx="6516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05240" y="4587840"/>
              <a:ext cx="795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84800" y="4613400"/>
              <a:ext cx="75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60760" y="4626000"/>
              <a:ext cx="7956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40320" y="4653000"/>
              <a:ext cx="651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05480" y="4665600"/>
              <a:ext cx="777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3240" y="4678200"/>
              <a:ext cx="7776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1000" y="4705200"/>
              <a:ext cx="7920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0200" y="4718160"/>
              <a:ext cx="6372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03920" y="4730760"/>
              <a:ext cx="7776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1680" y="4745160"/>
              <a:ext cx="777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9440" y="4757760"/>
              <a:ext cx="7776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37200" y="4768920"/>
              <a:ext cx="66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3800" y="4768920"/>
              <a:ext cx="7632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80120" y="4781520"/>
              <a:ext cx="7776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57880" y="4795920"/>
              <a:ext cx="777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35640" y="4808520"/>
              <a:ext cx="651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0800" y="4821120"/>
              <a:ext cx="75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76760" y="4821120"/>
              <a:ext cx="7956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6320" y="4834080"/>
              <a:ext cx="792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35520" y="4848120"/>
              <a:ext cx="65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00680" y="4848120"/>
              <a:ext cx="7776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4861080"/>
              <a:ext cx="777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6200" y="4873680"/>
              <a:ext cx="76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2520" y="4873680"/>
              <a:ext cx="6660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9120" y="4888080"/>
              <a:ext cx="7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6880" y="4888080"/>
              <a:ext cx="7776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54640" y="4898880"/>
              <a:ext cx="77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2400" y="4898880"/>
              <a:ext cx="7956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11960" y="4913280"/>
              <a:ext cx="63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5320" y="4913280"/>
              <a:ext cx="777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53080" y="4925880"/>
              <a:ext cx="79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32640" y="4925880"/>
              <a:ext cx="7596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08600" y="4940280"/>
              <a:ext cx="66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75560" y="4940280"/>
              <a:ext cx="75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1520" y="4952880"/>
              <a:ext cx="79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1080" y="4952880"/>
              <a:ext cx="77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08840" y="4952880"/>
              <a:ext cx="6336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2200" y="4965840"/>
              <a:ext cx="79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51760" y="4965840"/>
              <a:ext cx="7596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7720" y="4976640"/>
              <a:ext cx="79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07280" y="4976640"/>
              <a:ext cx="651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72440" y="4976640"/>
              <a:ext cx="79200" cy="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4992840"/>
              <a:ext cx="76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7960" y="4992840"/>
              <a:ext cx="79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07160" y="4992840"/>
              <a:ext cx="6372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70880" y="5005440"/>
              <a:ext cx="7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8640" y="5005440"/>
              <a:ext cx="79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27840" y="5005440"/>
              <a:ext cx="763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04160" y="50166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70760" y="5016600"/>
              <a:ext cx="1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7280" y="547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73200" y="5477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6560" y="5048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00200" y="5048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6560" y="461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00200" y="4619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66560" y="420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00200" y="4203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66560" y="377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00200" y="377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6560" y="3344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0200" y="3344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6560" y="2916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0200" y="2916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6560" y="249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00200" y="249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6560" y="2070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00200" y="2070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66560" y="1641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0200" y="1641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9800" y="5724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572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5480" y="5724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176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2680" y="5724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9896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2920" y="5724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58960" y="5724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260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86160" y="5724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2200" y="5724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584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15000" y="5724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8640" y="5724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93240" y="5970600"/>
              <a:ext cx="23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mbre de prélèv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51680" y="5977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0640" y="1101600"/>
              <a:ext cx="94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riabilit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15280" y="11016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é d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61720" y="1339920"/>
              <a:ext cx="126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ésultat en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4480" y="1346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12960" y="1011240"/>
              <a:ext cx="6261120" cy="521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25760" y="5160960"/>
              <a:ext cx="5548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2080" y="4081320"/>
              <a:ext cx="1047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3160" y="4081320"/>
              <a:ext cx="1029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95680" y="4081320"/>
              <a:ext cx="1047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76400" y="4081320"/>
              <a:ext cx="1047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7480" y="4081320"/>
              <a:ext cx="1065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000" y="4081320"/>
              <a:ext cx="1047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9600" y="4041720"/>
              <a:ext cx="25560" cy="10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9600" y="4224240"/>
              <a:ext cx="2556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9600" y="4405320"/>
              <a:ext cx="2556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9600" y="4587840"/>
              <a:ext cx="2556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9600" y="4768920"/>
              <a:ext cx="2556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79600" y="4952880"/>
              <a:ext cx="25560" cy="10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79600" y="5133960"/>
              <a:ext cx="25560" cy="10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9600" y="5316480"/>
              <a:ext cx="2556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9600" y="5497560"/>
              <a:ext cx="2556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6:17:23Z</dcterms:created>
  <dc:creator>_</dc:creator>
  <dc:description/>
  <dc:language>en-US</dc:language>
  <cp:lastModifiedBy>_</cp:lastModifiedBy>
  <dcterms:modified xsi:type="dcterms:W3CDTF">2006-02-28T16:18:44Z</dcterms:modified>
  <cp:revision>1</cp:revision>
  <dc:subject/>
  <dc:title>Diapositive 1</dc:title>
</cp:coreProperties>
</file>