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512-942D-4A5C-BED5-FCA43BE5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388-545E-4C3B-835E-594A8FEB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AA2-72AA-4309-8FDE-579326F5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8ED-012A-4435-9903-AF358AB9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2B5-FBBC-4310-98BD-5640A0FB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495-625F-4641-8FAE-F87A4FD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CE0-7BB9-4833-8AD4-20EDE61E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C84-92FD-46DE-BEFD-D23C9097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103-3BAF-4124-89B9-DBE0F0CA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204-F3F6-4FE2-B941-C38D17E0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4BF-D181-4872-BB0F-3E6FD2B8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F35-3C06-43BA-8971-0DC3F337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7FAA-0F3F-4433-9387-1D3FB018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33360"/>
            <a:ext cx="9144000" cy="6324840"/>
            <a:chOff x="0" y="333360"/>
            <a:chExt cx="9144000" cy="6324840"/>
          </a:xfrm>
        </p:grpSpPr>
        <p:graphicFrame>
          <p:nvGraphicFramePr>
            <p:cNvPr id="42" name=""/>
            <p:cNvGraphicFramePr/>
            <p:nvPr/>
          </p:nvGraphicFramePr>
          <p:xfrm>
            <a:off x="0" y="1197000"/>
            <a:ext cx="9144000" cy="5121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97000"/>
                      <a:ext cx="9144000" cy="512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"/>
            <p:cNvSpPr/>
            <p:nvPr/>
          </p:nvSpPr>
          <p:spPr>
            <a:xfrm>
              <a:off x="826920" y="333360"/>
              <a:ext cx="662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fluence du pH initial sur la variation de l’indice de nutrition azoté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9640" y="6308640"/>
              <a:ext cx="187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ource : INRA, IE et 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36360" y="6381720"/>
              <a:ext cx="176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. Fabre et J.-L.Juli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6:33:11Z</dcterms:created>
  <dc:creator>_</dc:creator>
  <dc:description/>
  <dc:language>en-US</dc:language>
  <cp:lastModifiedBy>_</cp:lastModifiedBy>
  <dcterms:modified xsi:type="dcterms:W3CDTF">2006-04-20T07:18:19Z</dcterms:modified>
  <cp:revision>5</cp:revision>
  <dc:subject/>
  <dc:title>Diapositive 1</dc:title>
</cp:coreProperties>
</file>