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528-5757-48BD-8C98-9DB0EF96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5DD-8009-4A5E-A394-E78610AD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F78-A827-4368-94A5-2A2FC032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C3A-2A7D-4F2E-981A-1813D34F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0F7-85E2-4E39-A691-BC0CFFEB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B62-AC0E-4856-8345-1F7F56B2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69C-FE22-4DFE-B314-A3CD30EE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B6E-C12B-4B6C-A43B-9A02D3D8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D8F-04E1-435B-857F-3BC19040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486-F7A4-4DAF-8A79-6010C65E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A0E-B372-4B07-9968-C1DB7D2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ED7-8CAF-455B-97B2-E6871BB7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9A7-03AD-476C-B294-9DD5F1EEB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1295280"/>
            <a:ext cx="8429760" cy="5185800"/>
            <a:chOff x="457200" y="1295280"/>
            <a:chExt cx="8429760" cy="5185800"/>
          </a:xfrm>
        </p:grpSpPr>
        <p:sp>
          <p:nvSpPr>
            <p:cNvPr id="42" name=""/>
            <p:cNvSpPr/>
            <p:nvPr/>
          </p:nvSpPr>
          <p:spPr>
            <a:xfrm>
              <a:off x="457200" y="1295280"/>
              <a:ext cx="2209680" cy="78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RANTS 1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cte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1399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cessus de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7200" y="5029200"/>
              <a:ext cx="213372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RANTS 2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81480" y="1371600"/>
              <a:ext cx="3505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nctions de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62920" y="449568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d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52680" y="2971800"/>
              <a:ext cx="281952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81680" y="4343400"/>
              <a:ext cx="2057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811400">
              <a:off x="1446480" y="2286000"/>
              <a:ext cx="1755720" cy="1525680"/>
            </a:xfrm>
            <a:custGeom>
              <a:avLst/>
              <a:gdLst>
                <a:gd name="textAreaLeft" fmla="*/ -360 w 1755720"/>
                <a:gd name="textAreaRight" fmla="*/ 1755720 w 175572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36" stAng="10800000" swAng="5400000"/>
                  <a:lnTo>
                    <a:pt x="15341" y="4024"/>
                  </a:lnTo>
                  <a:lnTo>
                    <a:pt x="15341" y="0"/>
                  </a:lnTo>
                  <a:lnTo>
                    <a:pt x="21600" y="6079"/>
                  </a:lnTo>
                  <a:lnTo>
                    <a:pt x="15341" y="12158"/>
                  </a:lnTo>
                  <a:lnTo>
                    <a:pt x="15341" y="8134"/>
                  </a:lnTo>
                  <a:lnTo>
                    <a:pt x="12427" y="8134"/>
                  </a:lnTo>
                  <a:arcTo wR="8317" hR="4026" stAng="16200000" swAng="-5400000"/>
                  <a:lnTo>
                    <a:pt x="411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43200" y="1600200"/>
              <a:ext cx="1981080" cy="152280"/>
            </a:xfrm>
            <a:prstGeom prst="rightArrow">
              <a:avLst>
                <a:gd name="adj1" fmla="val 50000"/>
                <a:gd name="adj2" fmla="val 32523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1198000">
              <a:off x="7467120" y="1904760"/>
              <a:ext cx="228600" cy="2438280"/>
            </a:xfrm>
            <a:prstGeom prst="downArrow">
              <a:avLst>
                <a:gd name="adj1" fmla="val 50000"/>
                <a:gd name="adj2" fmla="val 2666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7842200">
              <a:off x="914400" y="4038480"/>
              <a:ext cx="1295280" cy="22860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21200400">
              <a:off x="2679480" y="5110200"/>
              <a:ext cx="3930480" cy="218880"/>
            </a:xfrm>
            <a:custGeom>
              <a:avLst/>
              <a:gdLst>
                <a:gd name="textAreaLeft" fmla="*/ 614160 w 3930480"/>
                <a:gd name="textAreaRight" fmla="*/ 3439440 w 3930480"/>
                <a:gd name="textAreaTop" fmla="*/ 54720 h 218880"/>
                <a:gd name="textAreaBottom" fmla="*/ 16416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52680" y="4724280"/>
              <a:ext cx="1600200" cy="9144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505320" y="4572000"/>
              <a:ext cx="1523880" cy="129528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137800">
              <a:off x="6248160" y="3512880"/>
              <a:ext cx="1066680" cy="9144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48760" y="6021360"/>
              <a:ext cx="14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Fabre, 200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31160" y="135000"/>
            <a:ext cx="69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eurs de production et conditions de mi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3:34:33Z</dcterms:created>
  <dc:creator>_</dc:creator>
  <dc:description/>
  <dc:language>en-US</dc:language>
  <cp:lastModifiedBy>_</cp:lastModifiedBy>
  <dcterms:modified xsi:type="dcterms:W3CDTF">2006-04-20T07:17:01Z</dcterms:modified>
  <cp:revision>3</cp:revision>
  <dc:subject/>
  <dc:title>Diapositive 1</dc:title>
</cp:coreProperties>
</file>