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BAC-A7B4-455E-A706-D10D4031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9CE-A0B1-4198-850A-50FBEE4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E4E-55CF-4858-86E8-0FE782B3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670-2EBC-4987-BD24-FC9F4646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A06-39DF-4F4A-981C-BD6B90D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3CC-F104-446C-BB7F-E834461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A92-8051-4483-8515-8FBB2D7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850-2A62-47DA-B81C-A8F15E3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9F6-1658-47BC-96FF-7107B4C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2BE-8CFE-4248-9FCD-725DB3F4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064-2B70-4BCB-A9BC-CD633F0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20-DCD4-4D34-9FAF-9ACA2DA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64C-5854-4907-A2DF-53B3AC69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-7920"/>
            <a:ext cx="7164360" cy="643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089760"/>
            <a:ext cx="2133720" cy="61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93080" y="6211800"/>
            <a:ext cx="14396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59640" y="260280"/>
            <a:ext cx="22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ts directs du chau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09:58Z</dcterms:created>
  <dc:creator>_</dc:creator>
  <dc:description/>
  <dc:language>en-US</dc:language>
  <cp:lastModifiedBy>_</cp:lastModifiedBy>
  <dcterms:modified xsi:type="dcterms:W3CDTF">2006-03-13T09:27:53Z</dcterms:modified>
  <cp:revision>3</cp:revision>
  <dc:subject/>
  <dc:title>Diapositive 1</dc:title>
</cp:coreProperties>
</file>