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9A8-F82D-48C9-82EA-F4A19DD6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709-6872-4E8B-9385-B0543DE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DE9-FFA8-41E6-81F0-EC185C97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492-46BB-4E4F-8A50-9411131A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338-649E-4BCF-A006-2AC42E17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E39-1D53-4DC0-9FB7-9053B32D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551-D1AA-4B1B-960F-7A0A621B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012-B2F8-4A55-9A8B-E67A3D53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3D2-B813-4AD2-AADD-7FA0A43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213-BEC6-4241-9B84-990EE1FC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0C4-A74D-4735-95F5-ED08284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B9E-C405-4610-9E69-16CF50F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39E-259E-4250-B565-C329A97F1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 de la forme d ’engrais azoté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r l’aci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720" y="2355840"/>
            <a:ext cx="15339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é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qu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r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505320"/>
            <a:ext cx="221004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levé dans le sol ) = alcali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743200"/>
            <a:ext cx="9903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733400" y="2833200"/>
            <a:ext cx="1574640" cy="13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90" y="8"/>
                </a:moveTo>
                <a:arcTo wR="10800" hR="10800" stAng="-5530388" swAng="5091128"/>
                <a:lnTo>
                  <a:pt x="10800" y="10800"/>
                </a:lnTo>
                <a:close/>
              </a:path>
              <a:path fill="none" w="21600" h="21600">
                <a:moveTo>
                  <a:pt x="10390" y="8"/>
                </a:moveTo>
                <a:arcTo wR="10800" hR="10800" stAng="-5530388" swAng="5091128"/>
              </a:path>
            </a:pathLst>
          </a:custGeom>
          <a:noFill/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687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an :</a:t>
            </a:r>
            <a:br>
              <a:rPr sz="2400"/>
            </a:b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(si tout est absorbé</a:t>
            </a:r>
            <a:br>
              <a:rPr sz="2400"/>
            </a:b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par le végé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4984920"/>
            <a:ext cx="5943600" cy="1557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é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e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cidif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cali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t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eu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01800" y="2590920"/>
            <a:ext cx="1184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5040" y="2743200"/>
            <a:ext cx="1379160" cy="191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250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25092"/>
              </a:path>
            </a:pathLst>
          </a:custGeom>
          <a:noFill/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743200"/>
            <a:ext cx="990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743200"/>
            <a:ext cx="9903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10040" y="2590920"/>
            <a:ext cx="1262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2362320"/>
            <a:ext cx="1752840" cy="119124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Absorption </a:t>
            </a:r>
            <a:br>
              <a:rPr sz="2400"/>
            </a:b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par le </a:t>
            </a:r>
            <a:br>
              <a:rPr sz="2400"/>
            </a:b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végé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295280"/>
            <a:ext cx="22100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grai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monia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133720"/>
            <a:ext cx="0" cy="457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6227640" y="2838240"/>
            <a:ext cx="1574640" cy="13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66" y="9"/>
                </a:moveTo>
                <a:arcTo wR="10800" hR="10800" stAng="-5538193" swAng="5098932"/>
                <a:lnTo>
                  <a:pt x="10800" y="10800"/>
                </a:lnTo>
                <a:close/>
              </a:path>
              <a:path fill="none" w="21600" h="21600">
                <a:moveTo>
                  <a:pt x="10366" y="9"/>
                </a:moveTo>
                <a:arcTo wR="10800" hR="10800" stAng="-5538193" swAng="5098932"/>
              </a:path>
            </a:pathLst>
          </a:custGeom>
          <a:noFill/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3505320"/>
            <a:ext cx="22096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levé dans le sol ) = alcali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505320"/>
            <a:ext cx="22096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bérés dans le sol ) = aci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133720"/>
            <a:ext cx="0" cy="457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317600"/>
            <a:ext cx="22096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grai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me n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0" y="649764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-L Julien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55:53Z</dcterms:created>
  <dc:creator>Jean-Luc Julien</dc:creator>
  <dc:description/>
  <dc:language>en-US</dc:language>
  <cp:lastModifiedBy>_</cp:lastModifiedBy>
  <dcterms:modified xsi:type="dcterms:W3CDTF">2006-03-13T09:32:42Z</dcterms:modified>
  <cp:revision>18</cp:revision>
  <dc:subject/>
  <dc:title>Les causes de l ’acidification</dc:title>
</cp:coreProperties>
</file>