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5D3-5AA8-4E17-A525-CCE144F4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197-E33E-4E73-B6A4-714AC13B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B8B-FFE4-4D92-9C11-B0DD892A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BEC-5263-4637-8164-F941473A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E89-BE09-4CF2-9946-E3C7538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5DE-E15B-4498-BC20-AD532793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684-3A5C-4D03-A4C2-9EAEA3C0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4FE-19EE-4D6B-B182-E859CABF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A59-C92D-4FEE-BAE2-AB70CC9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95B-72CD-4906-8FE8-3D2EB16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AC2-545D-4769-A638-346D90B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51C-5A3F-4D0B-975C-19868FD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321A-57BE-456D-9164-5C5E41799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2360" y="1557360"/>
            <a:ext cx="8045280" cy="4487040"/>
            <a:chOff x="252360" y="1557360"/>
            <a:chExt cx="8045280" cy="4487040"/>
          </a:xfrm>
        </p:grpSpPr>
        <p:sp>
          <p:nvSpPr>
            <p:cNvPr id="42" name=""/>
            <p:cNvSpPr/>
            <p:nvPr/>
          </p:nvSpPr>
          <p:spPr>
            <a:xfrm>
              <a:off x="1395360" y="2833560"/>
              <a:ext cx="627696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95360" y="4835520"/>
              <a:ext cx="6276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95360" y="4164120"/>
              <a:ext cx="6276960" cy="1440"/>
            </a:xfrm>
            <a:prstGeom prst="line">
              <a:avLst/>
            </a:prstGeom>
            <a:ln w="284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95360" y="3505320"/>
              <a:ext cx="6276960" cy="1440"/>
            </a:xfrm>
            <a:prstGeom prst="line">
              <a:avLst/>
            </a:prstGeom>
            <a:ln w="284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95360" y="2833560"/>
              <a:ext cx="6276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95360" y="2833560"/>
              <a:ext cx="6276960" cy="266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95360" y="2833560"/>
              <a:ext cx="1440" cy="26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03200" y="5494320"/>
              <a:ext cx="92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03200" y="4835520"/>
              <a:ext cx="9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03200" y="4164120"/>
              <a:ext cx="9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03200" y="3505320"/>
              <a:ext cx="9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03200" y="2833560"/>
              <a:ext cx="9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95360" y="5494320"/>
              <a:ext cx="62769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395360" y="549432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649600" y="5494320"/>
              <a:ext cx="3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905280" y="5494320"/>
              <a:ext cx="46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62400" y="5494320"/>
              <a:ext cx="50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418080" y="5494320"/>
              <a:ext cx="3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672320" y="5494320"/>
              <a:ext cx="3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5040" y="5386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0320" y="47275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95040" y="4056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0320" y="3397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5040" y="2725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21920" y="5675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6160" y="5675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33280" y="5675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90760" y="5675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45000" y="5675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09960" y="5675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05160" y="580068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né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2360" y="211464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 du 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90760" y="221616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30000" y="1989000"/>
              <a:ext cx="158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HAUL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D ’ENTRETI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2520" y="3886200"/>
              <a:ext cx="4361040" cy="919080"/>
            </a:xfrm>
            <a:custGeom>
              <a:avLst/>
              <a:gdLst/>
              <a:ahLst/>
              <a:rect l="l" t="t" r="r" b="b"/>
              <a:pathLst>
                <a:path w="2746" h="579">
                  <a:moveTo>
                    <a:pt x="0" y="156"/>
                  </a:moveTo>
                  <a:cubicBezTo>
                    <a:pt x="109" y="142"/>
                    <a:pt x="195" y="0"/>
                    <a:pt x="653" y="70"/>
                  </a:cubicBezTo>
                  <a:cubicBezTo>
                    <a:pt x="1111" y="140"/>
                    <a:pt x="2310" y="473"/>
                    <a:pt x="2746" y="57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160" y="3228840"/>
              <a:ext cx="4287600" cy="890640"/>
            </a:xfrm>
            <a:custGeom>
              <a:avLst/>
              <a:gdLst/>
              <a:ahLst/>
              <a:rect l="l" t="t" r="r" b="b"/>
              <a:pathLst>
                <a:path w="2702" h="561">
                  <a:moveTo>
                    <a:pt x="0" y="561"/>
                  </a:moveTo>
                  <a:cubicBezTo>
                    <a:pt x="134" y="474"/>
                    <a:pt x="354" y="72"/>
                    <a:pt x="804" y="36"/>
                  </a:cubicBezTo>
                  <a:cubicBezTo>
                    <a:pt x="1254" y="0"/>
                    <a:pt x="2307" y="283"/>
                    <a:pt x="2702" y="34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85080" y="33289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552920" y="1917720"/>
              <a:ext cx="3744720" cy="580680"/>
              <a:chOff x="4552920" y="1917720"/>
              <a:chExt cx="3744720" cy="580680"/>
            </a:xfrm>
          </p:grpSpPr>
          <p:sp>
            <p:nvSpPr>
              <p:cNvPr id="80" name=""/>
              <p:cNvSpPr/>
              <p:nvPr/>
            </p:nvSpPr>
            <p:spPr>
              <a:xfrm>
                <a:off x="4552920" y="2040840"/>
                <a:ext cx="33660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92760" y="1917720"/>
                <a:ext cx="3404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pport en deux fois du Dosage préconi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552920" y="2421000"/>
              <a:ext cx="1948320" cy="337320"/>
              <a:chOff x="4552920" y="2421000"/>
              <a:chExt cx="1948320" cy="337320"/>
            </a:xfrm>
          </p:grpSpPr>
          <p:sp>
            <p:nvSpPr>
              <p:cNvPr id="83" name=""/>
              <p:cNvSpPr/>
              <p:nvPr/>
            </p:nvSpPr>
            <p:spPr>
              <a:xfrm>
                <a:off x="4552920" y="2565360"/>
                <a:ext cx="5032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60160" y="2421000"/>
                <a:ext cx="144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ous dos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552920" y="1557360"/>
              <a:ext cx="2524320" cy="337320"/>
              <a:chOff x="4552920" y="1557360"/>
              <a:chExt cx="2524320" cy="337320"/>
            </a:xfrm>
          </p:grpSpPr>
          <p:sp>
            <p:nvSpPr>
              <p:cNvPr id="86" name=""/>
              <p:cNvSpPr/>
              <p:nvPr/>
            </p:nvSpPr>
            <p:spPr>
              <a:xfrm>
                <a:off x="4552920" y="1751040"/>
                <a:ext cx="5032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60160" y="1557360"/>
                <a:ext cx="201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sage nécess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7792920" y="3429000"/>
              <a:ext cx="73080" cy="79200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78000" y="3543120"/>
              <a:ext cx="2567160" cy="343080"/>
            </a:xfrm>
            <a:custGeom>
              <a:avLst/>
              <a:gdLst/>
              <a:ahLst/>
              <a:rect l="l" t="t" r="r" b="b"/>
              <a:pathLst>
                <a:path w="1620" h="219">
                  <a:moveTo>
                    <a:pt x="0" y="219"/>
                  </a:moveTo>
                  <a:cubicBezTo>
                    <a:pt x="86" y="183"/>
                    <a:pt x="241" y="10"/>
                    <a:pt x="511" y="5"/>
                  </a:cubicBezTo>
                  <a:cubicBezTo>
                    <a:pt x="781" y="0"/>
                    <a:pt x="1389" y="152"/>
                    <a:pt x="1620" y="190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3280" y="3768840"/>
              <a:ext cx="1701720" cy="355320"/>
            </a:xfrm>
            <a:custGeom>
              <a:avLst/>
              <a:gdLst/>
              <a:ahLst/>
              <a:rect l="l" t="t" r="r" b="b"/>
              <a:pathLst>
                <a:path w="1072" h="224">
                  <a:moveTo>
                    <a:pt x="0" y="224"/>
                  </a:moveTo>
                  <a:cubicBezTo>
                    <a:pt x="25" y="201"/>
                    <a:pt x="99" y="121"/>
                    <a:pt x="152" y="88"/>
                  </a:cubicBezTo>
                  <a:cubicBezTo>
                    <a:pt x="205" y="55"/>
                    <a:pt x="257" y="37"/>
                    <a:pt x="320" y="24"/>
                  </a:cubicBezTo>
                  <a:cubicBezTo>
                    <a:pt x="383" y="11"/>
                    <a:pt x="403" y="0"/>
                    <a:pt x="528" y="8"/>
                  </a:cubicBezTo>
                  <a:cubicBezTo>
                    <a:pt x="653" y="16"/>
                    <a:pt x="959" y="59"/>
                    <a:pt x="1072" y="72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950760" y="27936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 théorique de stratégie pour maintenir le pH entre 6 et 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27:39Z</dcterms:created>
  <dc:creator>Cécile TESSIER</dc:creator>
  <dc:description/>
  <dc:language>en-US</dc:language>
  <cp:lastModifiedBy>_</cp:lastModifiedBy>
  <dcterms:modified xsi:type="dcterms:W3CDTF">2006-02-28T16:56:18Z</dcterms:modified>
  <cp:revision>4</cp:revision>
  <dc:subject/>
  <dc:title>Diapositive 1</dc:title>
</cp:coreProperties>
</file>