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EF1B-E500-4A43-A62A-B23E6112C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EE27-7EA6-4C28-881B-E37D9614C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D5BD-2535-413B-AF21-33F25139B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AD9E-8C2C-4F90-AB1D-6A0339146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9D2F-A07A-4EE8-8933-7202ABADF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73E0-4B8F-44CF-BA22-8C6D158F9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286D-E834-414D-AFA7-C01F14007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1C21-7096-4AA5-8480-99802AA43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5982-3F0F-4849-9725-9E49D3499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05BF-EFD0-4F02-9DBB-CF511811F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2086-CAE0-4538-B347-30E14BE55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A3C4-DCAE-4877-BFE5-7B0007568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29761-6956-428A-972C-70117057BF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24000" y="0"/>
            <a:ext cx="669600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rbe de neutralis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'une suspension de deux sols dans l'e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93680" y="765000"/>
            <a:ext cx="8756640" cy="5779800"/>
            <a:chOff x="193680" y="765000"/>
            <a:chExt cx="8756640" cy="5779800"/>
          </a:xfrm>
        </p:grpSpPr>
        <p:grpSp>
          <p:nvGrpSpPr>
            <p:cNvPr id="43" name=""/>
            <p:cNvGrpSpPr/>
            <p:nvPr/>
          </p:nvGrpSpPr>
          <p:grpSpPr>
            <a:xfrm>
              <a:off x="824040" y="920520"/>
              <a:ext cx="8052840" cy="5033160"/>
              <a:chOff x="824040" y="920520"/>
              <a:chExt cx="8052840" cy="5033160"/>
            </a:xfrm>
          </p:grpSpPr>
          <p:sp>
            <p:nvSpPr>
              <p:cNvPr id="44" name=""/>
              <p:cNvSpPr/>
              <p:nvPr/>
            </p:nvSpPr>
            <p:spPr>
              <a:xfrm>
                <a:off x="878400" y="920520"/>
                <a:ext cx="7996320" cy="4983480"/>
              </a:xfrm>
              <a:prstGeom prst="rect">
                <a:avLst/>
              </a:prstGeom>
              <a:solidFill>
                <a:srgbClr val="ffffcc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78400" y="920520"/>
                <a:ext cx="7996320" cy="4983480"/>
              </a:xfrm>
              <a:prstGeom prst="rect">
                <a:avLst/>
              </a:prstGeom>
              <a:noFill/>
              <a:ln cap="rnd" w="12600">
                <a:solidFill>
                  <a:srgbClr val="808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78400" y="920520"/>
                <a:ext cx="1440" cy="4983480"/>
              </a:xfrm>
              <a:prstGeom prst="line">
                <a:avLst/>
              </a:prstGeom>
              <a:ln cap="rnd" w="0">
                <a:solidFill>
                  <a:srgbClr val="000000"/>
                </a:solidFill>
                <a:custDash>
                  <a:ds d="100000" sp="1000"/>
                </a:custDash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824040" y="5904000"/>
                <a:ext cx="54360" cy="1800"/>
              </a:xfrm>
              <a:prstGeom prst="line">
                <a:avLst/>
              </a:prstGeom>
              <a:ln cap="rnd" w="0">
                <a:solidFill>
                  <a:srgbClr val="000000"/>
                </a:solidFill>
                <a:custDash>
                  <a:ds d="100000" sp="1000"/>
                </a:custDash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24040" y="5404680"/>
                <a:ext cx="54360" cy="1800"/>
              </a:xfrm>
              <a:prstGeom prst="line">
                <a:avLst/>
              </a:prstGeom>
              <a:ln cap="rnd" w="0">
                <a:solidFill>
                  <a:srgbClr val="000000"/>
                </a:solidFill>
                <a:custDash>
                  <a:ds d="100000" sp="1000"/>
                </a:custDash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24040" y="4906440"/>
                <a:ext cx="54360" cy="1800"/>
              </a:xfrm>
              <a:prstGeom prst="line">
                <a:avLst/>
              </a:prstGeom>
              <a:ln cap="rnd" w="0">
                <a:solidFill>
                  <a:srgbClr val="000000"/>
                </a:solidFill>
                <a:custDash>
                  <a:ds d="100000" sp="1000"/>
                </a:custDash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24040" y="4407120"/>
                <a:ext cx="54360" cy="1800"/>
              </a:xfrm>
              <a:prstGeom prst="line">
                <a:avLst/>
              </a:prstGeom>
              <a:ln cap="rnd" w="0">
                <a:solidFill>
                  <a:srgbClr val="000000"/>
                </a:solidFill>
                <a:custDash>
                  <a:ds d="100000" sp="1000"/>
                </a:custDash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24040" y="3909240"/>
                <a:ext cx="54360" cy="1440"/>
              </a:xfrm>
              <a:prstGeom prst="line">
                <a:avLst/>
              </a:prstGeom>
              <a:ln cap="rnd" w="0">
                <a:solidFill>
                  <a:srgbClr val="000000"/>
                </a:solidFill>
                <a:custDash>
                  <a:ds d="100000" sp="1000"/>
                </a:custDash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24040" y="3412800"/>
                <a:ext cx="54360" cy="1800"/>
              </a:xfrm>
              <a:prstGeom prst="line">
                <a:avLst/>
              </a:prstGeom>
              <a:ln cap="rnd" w="0">
                <a:solidFill>
                  <a:srgbClr val="000000"/>
                </a:solidFill>
                <a:custDash>
                  <a:ds d="100000" sp="1000"/>
                </a:custDash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24040" y="2915280"/>
                <a:ext cx="54360" cy="1440"/>
              </a:xfrm>
              <a:prstGeom prst="line">
                <a:avLst/>
              </a:prstGeom>
              <a:ln cap="rnd" w="0">
                <a:solidFill>
                  <a:srgbClr val="000000"/>
                </a:solidFill>
                <a:custDash>
                  <a:ds d="100000" sp="1000"/>
                </a:custDash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24040" y="2415960"/>
                <a:ext cx="54360" cy="1440"/>
              </a:xfrm>
              <a:prstGeom prst="line">
                <a:avLst/>
              </a:prstGeom>
              <a:ln cap="rnd" w="0">
                <a:solidFill>
                  <a:srgbClr val="000000"/>
                </a:solidFill>
                <a:custDash>
                  <a:ds d="100000" sp="1000"/>
                </a:custDash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24040" y="1917720"/>
                <a:ext cx="54360" cy="1440"/>
              </a:xfrm>
              <a:prstGeom prst="line">
                <a:avLst/>
              </a:prstGeom>
              <a:ln cap="rnd" w="0">
                <a:solidFill>
                  <a:srgbClr val="000000"/>
                </a:solidFill>
                <a:custDash>
                  <a:ds d="100000" sp="1000"/>
                </a:custDash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24040" y="1418400"/>
                <a:ext cx="54360" cy="1440"/>
              </a:xfrm>
              <a:prstGeom prst="line">
                <a:avLst/>
              </a:prstGeom>
              <a:ln cap="rnd" w="0">
                <a:solidFill>
                  <a:srgbClr val="000000"/>
                </a:solidFill>
                <a:custDash>
                  <a:ds d="100000" sp="1000"/>
                </a:custDash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24040" y="920520"/>
                <a:ext cx="54360" cy="1800"/>
              </a:xfrm>
              <a:prstGeom prst="line">
                <a:avLst/>
              </a:prstGeom>
              <a:ln cap="rnd" w="0">
                <a:solidFill>
                  <a:srgbClr val="000000"/>
                </a:solidFill>
                <a:custDash>
                  <a:ds d="100000" sp="1000"/>
                </a:custDash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8400" y="5904000"/>
                <a:ext cx="7996320" cy="1800"/>
              </a:xfrm>
              <a:prstGeom prst="line">
                <a:avLst/>
              </a:prstGeom>
              <a:ln cap="rnd" w="0">
                <a:solidFill>
                  <a:srgbClr val="000000"/>
                </a:solidFill>
                <a:custDash>
                  <a:ds d="100000" sp="1000"/>
                </a:custDash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V="1">
                <a:off x="878400" y="5903640"/>
                <a:ext cx="1440" cy="50040"/>
              </a:xfrm>
              <a:prstGeom prst="line">
                <a:avLst/>
              </a:prstGeom>
              <a:ln cap="rnd" w="0">
                <a:solidFill>
                  <a:srgbClr val="000000"/>
                </a:solidFill>
                <a:custDash>
                  <a:ds d="100000" sp="1000"/>
                </a:custDash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V="1">
                <a:off x="1677240" y="5903640"/>
                <a:ext cx="1800" cy="50040"/>
              </a:xfrm>
              <a:prstGeom prst="line">
                <a:avLst/>
              </a:prstGeom>
              <a:ln cap="rnd" w="0">
                <a:solidFill>
                  <a:srgbClr val="000000"/>
                </a:solidFill>
                <a:custDash>
                  <a:ds d="100000" sp="1000"/>
                </a:custDash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V="1">
                <a:off x="2476800" y="5903640"/>
                <a:ext cx="1440" cy="50040"/>
              </a:xfrm>
              <a:prstGeom prst="line">
                <a:avLst/>
              </a:prstGeom>
              <a:ln cap="rnd" w="0">
                <a:solidFill>
                  <a:srgbClr val="000000"/>
                </a:solidFill>
                <a:custDash>
                  <a:ds d="100000" sp="1000"/>
                </a:custDash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V="1">
                <a:off x="3279240" y="5903640"/>
                <a:ext cx="1440" cy="50040"/>
              </a:xfrm>
              <a:prstGeom prst="line">
                <a:avLst/>
              </a:prstGeom>
              <a:ln cap="rnd" w="0">
                <a:solidFill>
                  <a:srgbClr val="000000"/>
                </a:solidFill>
                <a:custDash>
                  <a:ds d="100000" sp="1000"/>
                </a:custDash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V="1">
                <a:off x="4078440" y="5903640"/>
                <a:ext cx="1800" cy="50040"/>
              </a:xfrm>
              <a:prstGeom prst="line">
                <a:avLst/>
              </a:prstGeom>
              <a:ln cap="rnd" w="0">
                <a:solidFill>
                  <a:srgbClr val="000000"/>
                </a:solidFill>
                <a:custDash>
                  <a:ds d="100000" sp="1000"/>
                </a:custDash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V="1">
                <a:off x="4877640" y="5903640"/>
                <a:ext cx="1440" cy="50040"/>
              </a:xfrm>
              <a:prstGeom prst="line">
                <a:avLst/>
              </a:prstGeom>
              <a:ln cap="rnd" w="0">
                <a:solidFill>
                  <a:srgbClr val="000000"/>
                </a:solidFill>
                <a:custDash>
                  <a:ds d="100000" sp="1000"/>
                </a:custDash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V="1">
                <a:off x="5676840" y="5903640"/>
                <a:ext cx="1800" cy="50040"/>
              </a:xfrm>
              <a:prstGeom prst="line">
                <a:avLst/>
              </a:prstGeom>
              <a:ln cap="rnd" w="0">
                <a:solidFill>
                  <a:srgbClr val="000000"/>
                </a:solidFill>
                <a:custDash>
                  <a:ds d="100000" sp="1000"/>
                </a:custDash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V="1">
                <a:off x="6474240" y="5903640"/>
                <a:ext cx="1800" cy="50040"/>
              </a:xfrm>
              <a:prstGeom prst="line">
                <a:avLst/>
              </a:prstGeom>
              <a:ln cap="rnd" w="0">
                <a:solidFill>
                  <a:srgbClr val="000000"/>
                </a:solidFill>
                <a:custDash>
                  <a:ds d="100000" sp="1000"/>
                </a:custDash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V="1">
                <a:off x="7277040" y="5903640"/>
                <a:ext cx="1440" cy="50040"/>
              </a:xfrm>
              <a:prstGeom prst="line">
                <a:avLst/>
              </a:prstGeom>
              <a:ln cap="rnd" w="0">
                <a:solidFill>
                  <a:srgbClr val="000000"/>
                </a:solidFill>
                <a:custDash>
                  <a:ds d="100000" sp="1000"/>
                </a:custDash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V="1">
                <a:off x="8075880" y="5903640"/>
                <a:ext cx="1440" cy="50040"/>
              </a:xfrm>
              <a:prstGeom prst="line">
                <a:avLst/>
              </a:prstGeom>
              <a:ln cap="rnd" w="0">
                <a:solidFill>
                  <a:srgbClr val="000000"/>
                </a:solidFill>
                <a:custDash>
                  <a:ds d="100000" sp="1000"/>
                </a:custDash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V="1">
                <a:off x="8875080" y="5903640"/>
                <a:ext cx="1800" cy="50040"/>
              </a:xfrm>
              <a:prstGeom prst="line">
                <a:avLst/>
              </a:prstGeom>
              <a:ln cap="rnd" w="0">
                <a:solidFill>
                  <a:srgbClr val="000000"/>
                </a:solidFill>
                <a:custDash>
                  <a:ds d="100000" sp="1000"/>
                </a:custDash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677240" y="5305680"/>
                <a:ext cx="40320" cy="144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717920" y="5305680"/>
                <a:ext cx="39960" cy="144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758240" y="5305680"/>
                <a:ext cx="40320" cy="144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798920" y="5305680"/>
                <a:ext cx="39960" cy="144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839240" y="5305680"/>
                <a:ext cx="36720" cy="144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876320" y="5305680"/>
                <a:ext cx="39960" cy="144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916280" y="5305680"/>
                <a:ext cx="40320" cy="144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956960" y="5305680"/>
                <a:ext cx="39960" cy="144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997280" y="5305680"/>
                <a:ext cx="39960" cy="144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037600" y="5305680"/>
                <a:ext cx="40320" cy="144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077920" y="5305680"/>
                <a:ext cx="39960" cy="144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118240" y="5302080"/>
                <a:ext cx="42120" cy="3240"/>
              </a:xfrm>
              <a:custGeom>
                <a:avLst/>
                <a:gdLst/>
                <a:ahLst/>
                <a:rect l="l" t="t" r="r" b="b"/>
                <a:pathLst>
                  <a:path w="24" h="2">
                    <a:moveTo>
                      <a:pt x="0" y="2"/>
                    </a:moveTo>
                    <a:lnTo>
                      <a:pt x="12" y="0"/>
                    </a:lnTo>
                    <a:lnTo>
                      <a:pt x="24" y="0"/>
                    </a:lnTo>
                  </a:path>
                </a:pathLst>
              </a:custGeom>
              <a:noFill/>
              <a:ln cap="rnd" w="1260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160720" y="5302080"/>
                <a:ext cx="36720" cy="180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197440" y="5302080"/>
                <a:ext cx="39960" cy="180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237760" y="5302080"/>
                <a:ext cx="40320" cy="180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278440" y="5302080"/>
                <a:ext cx="39960" cy="180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318760" y="5302080"/>
                <a:ext cx="39960" cy="180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358720" y="5302080"/>
                <a:ext cx="40320" cy="180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399400" y="5302080"/>
                <a:ext cx="39960" cy="180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439720" y="5298840"/>
                <a:ext cx="36720" cy="3240"/>
              </a:xfrm>
              <a:custGeom>
                <a:avLst/>
                <a:gdLst/>
                <a:ahLst/>
                <a:rect l="l" t="t" r="r" b="b"/>
                <a:pathLst>
                  <a:path w="21" h="2">
                    <a:moveTo>
                      <a:pt x="0" y="2"/>
                    </a:moveTo>
                    <a:lnTo>
                      <a:pt x="9" y="0"/>
                    </a:lnTo>
                    <a:lnTo>
                      <a:pt x="21" y="0"/>
                    </a:lnTo>
                  </a:path>
                </a:pathLst>
              </a:custGeom>
              <a:noFill/>
              <a:ln cap="rnd" w="1260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476800" y="5298840"/>
                <a:ext cx="39960" cy="180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2517120" y="5298840"/>
                <a:ext cx="40320" cy="180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557800" y="5298840"/>
                <a:ext cx="39960" cy="180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597760" y="5295240"/>
                <a:ext cx="40320" cy="3240"/>
              </a:xfrm>
              <a:custGeom>
                <a:avLst/>
                <a:gdLst/>
                <a:ahLst/>
                <a:rect l="l" t="t" r="r" b="b"/>
                <a:pathLst>
                  <a:path w="23" h="2">
                    <a:moveTo>
                      <a:pt x="0" y="2"/>
                    </a:moveTo>
                    <a:lnTo>
                      <a:pt x="12" y="0"/>
                    </a:lnTo>
                    <a:lnTo>
                      <a:pt x="23" y="0"/>
                    </a:lnTo>
                  </a:path>
                </a:pathLst>
              </a:custGeom>
              <a:noFill/>
              <a:ln cap="rnd" w="1260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638440" y="5295240"/>
                <a:ext cx="39960" cy="180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678760" y="5295240"/>
                <a:ext cx="39960" cy="180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719080" y="5292360"/>
                <a:ext cx="36720" cy="2880"/>
              </a:xfrm>
              <a:custGeom>
                <a:avLst/>
                <a:gdLst/>
                <a:ahLst/>
                <a:rect l="l" t="t" r="r" b="b"/>
                <a:pathLst>
                  <a:path w="21" h="2">
                    <a:moveTo>
                      <a:pt x="0" y="2"/>
                    </a:moveTo>
                    <a:lnTo>
                      <a:pt x="10" y="0"/>
                    </a:lnTo>
                    <a:lnTo>
                      <a:pt x="21" y="0"/>
                    </a:lnTo>
                  </a:path>
                </a:pathLst>
              </a:custGeom>
              <a:noFill/>
              <a:ln cap="rnd" w="1260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756160" y="5292360"/>
                <a:ext cx="39960" cy="144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796120" y="5289120"/>
                <a:ext cx="40320" cy="3240"/>
              </a:xfrm>
              <a:custGeom>
                <a:avLst/>
                <a:gdLst/>
                <a:ahLst/>
                <a:rect l="l" t="t" r="r" b="b"/>
                <a:pathLst>
                  <a:path w="23" h="2">
                    <a:moveTo>
                      <a:pt x="0" y="2"/>
                    </a:moveTo>
                    <a:lnTo>
                      <a:pt x="12" y="0"/>
                    </a:lnTo>
                    <a:lnTo>
                      <a:pt x="23" y="0"/>
                    </a:lnTo>
                  </a:path>
                </a:pathLst>
              </a:custGeom>
              <a:noFill/>
              <a:ln cap="rnd" w="1260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836800" y="5289120"/>
                <a:ext cx="39960" cy="144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V="1">
                <a:off x="2877120" y="5285160"/>
                <a:ext cx="40320" cy="324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V="1">
                <a:off x="2917800" y="5281920"/>
                <a:ext cx="39960" cy="324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V="1">
                <a:off x="2957760" y="5278320"/>
                <a:ext cx="39960" cy="324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998080" y="5278680"/>
                <a:ext cx="3888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0" y="0"/>
                    </a:moveTo>
                    <a:lnTo>
                      <a:pt x="10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037320" y="5272200"/>
                <a:ext cx="39960" cy="6120"/>
              </a:xfrm>
              <a:custGeom>
                <a:avLst/>
                <a:gdLst/>
                <a:ahLst/>
                <a:rect l="l" t="t" r="r" b="b"/>
                <a:pathLst>
                  <a:path w="23" h="4">
                    <a:moveTo>
                      <a:pt x="0" y="4"/>
                    </a:moveTo>
                    <a:lnTo>
                      <a:pt x="11" y="2"/>
                    </a:lnTo>
                    <a:lnTo>
                      <a:pt x="23" y="0"/>
                    </a:lnTo>
                  </a:path>
                </a:pathLst>
              </a:custGeom>
              <a:noFill/>
              <a:ln cap="rnd" w="1260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V="1">
                <a:off x="3077280" y="5270040"/>
                <a:ext cx="39960" cy="180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V="1">
                <a:off x="3117600" y="5267160"/>
                <a:ext cx="40320" cy="288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V="1">
                <a:off x="3158280" y="5259960"/>
                <a:ext cx="39960" cy="684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V="1">
                <a:off x="3198600" y="5256720"/>
                <a:ext cx="40320" cy="324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V="1">
                <a:off x="3239280" y="5249880"/>
                <a:ext cx="39960" cy="684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V="1">
                <a:off x="3279240" y="5243400"/>
                <a:ext cx="36720" cy="612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V="1">
                <a:off x="3316320" y="5236560"/>
                <a:ext cx="39960" cy="684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3356640" y="5228280"/>
                <a:ext cx="40320" cy="828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3397320" y="5218200"/>
                <a:ext cx="39960" cy="972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3437640" y="5208480"/>
                <a:ext cx="39960" cy="1008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3477600" y="5195160"/>
                <a:ext cx="40320" cy="1296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V="1">
                <a:off x="3518280" y="5183280"/>
                <a:ext cx="39960" cy="1152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V="1">
                <a:off x="3558600" y="5169960"/>
                <a:ext cx="36720" cy="1296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V="1">
                <a:off x="3595680" y="5153400"/>
                <a:ext cx="39960" cy="1656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V="1">
                <a:off x="3636000" y="5134320"/>
                <a:ext cx="40320" cy="1836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V="1">
                <a:off x="3676320" y="5114160"/>
                <a:ext cx="39960" cy="1980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3716640" y="5092920"/>
                <a:ext cx="39960" cy="2160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V="1">
                <a:off x="3756960" y="5067360"/>
                <a:ext cx="40320" cy="2484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>
                <a:off x="3797640" y="5040720"/>
                <a:ext cx="39960" cy="2664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>
                <a:off x="3837600" y="5011920"/>
                <a:ext cx="38520" cy="2844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876480" y="4977360"/>
                <a:ext cx="40320" cy="34920"/>
              </a:xfrm>
              <a:custGeom>
                <a:avLst/>
                <a:gdLst/>
                <a:ahLst/>
                <a:rect l="l" t="t" r="r" b="b"/>
                <a:pathLst>
                  <a:path w="23" h="21">
                    <a:moveTo>
                      <a:pt x="0" y="21"/>
                    </a:moveTo>
                    <a:lnTo>
                      <a:pt x="11" y="11"/>
                    </a:lnTo>
                    <a:lnTo>
                      <a:pt x="23" y="0"/>
                    </a:lnTo>
                  </a:path>
                </a:pathLst>
              </a:custGeom>
              <a:noFill/>
              <a:ln cap="rnd" w="1260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>
                <a:off x="3917160" y="4941720"/>
                <a:ext cx="39960" cy="3528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V="1">
                <a:off x="3957120" y="4903560"/>
                <a:ext cx="40320" cy="3816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997800" y="4858200"/>
                <a:ext cx="39960" cy="45000"/>
              </a:xfrm>
              <a:custGeom>
                <a:avLst/>
                <a:gdLst/>
                <a:ahLst/>
                <a:rect l="l" t="t" r="r" b="b"/>
                <a:pathLst>
                  <a:path w="23" h="27">
                    <a:moveTo>
                      <a:pt x="0" y="27"/>
                    </a:moveTo>
                    <a:lnTo>
                      <a:pt x="11" y="13"/>
                    </a:lnTo>
                    <a:lnTo>
                      <a:pt x="23" y="0"/>
                    </a:lnTo>
                  </a:path>
                </a:pathLst>
              </a:custGeom>
              <a:noFill/>
              <a:ln cap="rnd" w="1260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4038120" y="4809240"/>
                <a:ext cx="39960" cy="4860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V="1">
                <a:off x="4078440" y="4757400"/>
                <a:ext cx="40320" cy="5184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V="1">
                <a:off x="4119120" y="4703760"/>
                <a:ext cx="39960" cy="5328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V="1">
                <a:off x="4159080" y="4641840"/>
                <a:ext cx="36720" cy="6192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96160" y="4574520"/>
                <a:ext cx="39960" cy="66960"/>
              </a:xfrm>
              <a:custGeom>
                <a:avLst/>
                <a:gdLst/>
                <a:ahLst/>
                <a:rect l="l" t="t" r="r" b="b"/>
                <a:pathLst>
                  <a:path w="23" h="40">
                    <a:moveTo>
                      <a:pt x="0" y="40"/>
                    </a:moveTo>
                    <a:lnTo>
                      <a:pt x="11" y="21"/>
                    </a:lnTo>
                    <a:lnTo>
                      <a:pt x="23" y="0"/>
                    </a:lnTo>
                  </a:path>
                </a:pathLst>
              </a:custGeom>
              <a:noFill/>
              <a:ln cap="rnd" w="1260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V="1">
                <a:off x="4236480" y="4503960"/>
                <a:ext cx="40320" cy="7020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V="1">
                <a:off x="4277160" y="4430520"/>
                <a:ext cx="39960" cy="7344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V="1">
                <a:off x="4317480" y="4349520"/>
                <a:ext cx="40320" cy="8028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357800" y="4263120"/>
                <a:ext cx="39960" cy="86760"/>
              </a:xfrm>
              <a:custGeom>
                <a:avLst/>
                <a:gdLst/>
                <a:ahLst/>
                <a:rect l="l" t="t" r="r" b="b"/>
                <a:pathLst>
                  <a:path w="23" h="52">
                    <a:moveTo>
                      <a:pt x="0" y="52"/>
                    </a:moveTo>
                    <a:lnTo>
                      <a:pt x="12" y="27"/>
                    </a:lnTo>
                    <a:lnTo>
                      <a:pt x="23" y="0"/>
                    </a:lnTo>
                  </a:path>
                </a:pathLst>
              </a:custGeom>
              <a:noFill/>
              <a:ln cap="rnd" w="1260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V="1">
                <a:off x="4398120" y="4172040"/>
                <a:ext cx="39960" cy="9036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V="1">
                <a:off x="4438440" y="4078440"/>
                <a:ext cx="36720" cy="9360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475520" y="3979800"/>
                <a:ext cx="39960" cy="98640"/>
              </a:xfrm>
              <a:custGeom>
                <a:avLst/>
                <a:gdLst/>
                <a:ahLst/>
                <a:rect l="l" t="t" r="r" b="b"/>
                <a:pathLst>
                  <a:path w="23" h="59">
                    <a:moveTo>
                      <a:pt x="0" y="59"/>
                    </a:moveTo>
                    <a:lnTo>
                      <a:pt x="12" y="31"/>
                    </a:lnTo>
                    <a:lnTo>
                      <a:pt x="23" y="0"/>
                    </a:lnTo>
                  </a:path>
                </a:pathLst>
              </a:custGeom>
              <a:noFill/>
              <a:ln cap="rnd" w="1260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515840" y="3879000"/>
                <a:ext cx="40320" cy="100440"/>
              </a:xfrm>
              <a:custGeom>
                <a:avLst/>
                <a:gdLst/>
                <a:ahLst/>
                <a:rect l="l" t="t" r="r" b="b"/>
                <a:pathLst>
                  <a:path w="23" h="60">
                    <a:moveTo>
                      <a:pt x="0" y="60"/>
                    </a:moveTo>
                    <a:lnTo>
                      <a:pt x="12" y="31"/>
                    </a:lnTo>
                    <a:lnTo>
                      <a:pt x="23" y="0"/>
                    </a:lnTo>
                  </a:path>
                </a:pathLst>
              </a:custGeom>
              <a:noFill/>
              <a:ln cap="rnd" w="1260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556160" y="3773160"/>
                <a:ext cx="39960" cy="105480"/>
              </a:xfrm>
              <a:custGeom>
                <a:avLst/>
                <a:gdLst/>
                <a:ahLst/>
                <a:rect l="l" t="t" r="r" b="b"/>
                <a:pathLst>
                  <a:path w="23" h="63">
                    <a:moveTo>
                      <a:pt x="0" y="63"/>
                    </a:moveTo>
                    <a:lnTo>
                      <a:pt x="12" y="33"/>
                    </a:lnTo>
                    <a:lnTo>
                      <a:pt x="23" y="0"/>
                    </a:lnTo>
                  </a:path>
                </a:pathLst>
              </a:custGeom>
              <a:noFill/>
              <a:ln cap="rnd" w="1260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V="1">
                <a:off x="4596480" y="3668040"/>
                <a:ext cx="40320" cy="10512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V="1">
                <a:off x="4637160" y="3560400"/>
                <a:ext cx="39960" cy="10728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V="1">
                <a:off x="4677480" y="3451680"/>
                <a:ext cx="40320" cy="10872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V="1">
                <a:off x="4718160" y="3342240"/>
                <a:ext cx="38520" cy="10908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V="1">
                <a:off x="4756680" y="3233880"/>
                <a:ext cx="39960" cy="10872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V="1">
                <a:off x="4797000" y="3123000"/>
                <a:ext cx="39960" cy="11088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V="1">
                <a:off x="4836960" y="3017520"/>
                <a:ext cx="40320" cy="10512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V="1">
                <a:off x="4877640" y="2915280"/>
                <a:ext cx="39960" cy="10224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V="1">
                <a:off x="4917960" y="2814120"/>
                <a:ext cx="40320" cy="10044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V="1">
                <a:off x="4958640" y="2717280"/>
                <a:ext cx="39960" cy="9720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998960" y="2625120"/>
                <a:ext cx="36720" cy="91800"/>
              </a:xfrm>
              <a:custGeom>
                <a:avLst/>
                <a:gdLst/>
                <a:ahLst/>
                <a:rect l="l" t="t" r="r" b="b"/>
                <a:pathLst>
                  <a:path w="21" h="55">
                    <a:moveTo>
                      <a:pt x="0" y="55"/>
                    </a:moveTo>
                    <a:lnTo>
                      <a:pt x="9" y="27"/>
                    </a:lnTo>
                    <a:lnTo>
                      <a:pt x="21" y="0"/>
                    </a:lnTo>
                  </a:path>
                </a:pathLst>
              </a:custGeom>
              <a:noFill/>
              <a:ln cap="rnd" w="1260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5035680" y="2538000"/>
                <a:ext cx="39960" cy="8712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076000" y="2454120"/>
                <a:ext cx="40320" cy="83520"/>
              </a:xfrm>
              <a:custGeom>
                <a:avLst/>
                <a:gdLst/>
                <a:ahLst/>
                <a:rect l="l" t="t" r="r" b="b"/>
                <a:pathLst>
                  <a:path w="23" h="50">
                    <a:moveTo>
                      <a:pt x="0" y="50"/>
                    </a:moveTo>
                    <a:lnTo>
                      <a:pt x="11" y="25"/>
                    </a:lnTo>
                    <a:lnTo>
                      <a:pt x="23" y="0"/>
                    </a:lnTo>
                  </a:path>
                </a:pathLst>
              </a:custGeom>
              <a:noFill/>
              <a:ln cap="rnd" w="1260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V="1">
                <a:off x="5116680" y="2377080"/>
                <a:ext cx="39960" cy="7704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V="1">
                <a:off x="5157000" y="2303280"/>
                <a:ext cx="39960" cy="7344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V="1">
                <a:off x="5197320" y="2232720"/>
                <a:ext cx="40320" cy="7020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V="1">
                <a:off x="5237640" y="2167200"/>
                <a:ext cx="39960" cy="6516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5277960" y="2110680"/>
                <a:ext cx="36720" cy="5688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5315040" y="2055240"/>
                <a:ext cx="39960" cy="5544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V="1">
                <a:off x="5355360" y="2003040"/>
                <a:ext cx="40320" cy="5148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5396040" y="1959120"/>
                <a:ext cx="39960" cy="4356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5436000" y="1917720"/>
                <a:ext cx="40320" cy="4176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V="1">
                <a:off x="5476680" y="1878840"/>
                <a:ext cx="39960" cy="3852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5517000" y="1842120"/>
                <a:ext cx="39960" cy="3672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5557320" y="1810440"/>
                <a:ext cx="36720" cy="3132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5594400" y="1781640"/>
                <a:ext cx="42120" cy="2844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5636520" y="1756800"/>
                <a:ext cx="39960" cy="2484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676840" y="1730160"/>
                <a:ext cx="40320" cy="26640"/>
              </a:xfrm>
              <a:custGeom>
                <a:avLst/>
                <a:gdLst/>
                <a:ahLst/>
                <a:rect l="l" t="t" r="r" b="b"/>
                <a:pathLst>
                  <a:path w="23" h="16">
                    <a:moveTo>
                      <a:pt x="0" y="16"/>
                    </a:moveTo>
                    <a:lnTo>
                      <a:pt x="11" y="8"/>
                    </a:lnTo>
                    <a:lnTo>
                      <a:pt x="23" y="0"/>
                    </a:lnTo>
                  </a:path>
                </a:pathLst>
              </a:custGeom>
              <a:noFill/>
              <a:ln cap="rnd" w="1260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17160" y="1711440"/>
                <a:ext cx="39960" cy="18360"/>
              </a:xfrm>
              <a:custGeom>
                <a:avLst/>
                <a:gdLst/>
                <a:ahLst/>
                <a:rect l="l" t="t" r="r" b="b"/>
                <a:pathLst>
                  <a:path w="23" h="11">
                    <a:moveTo>
                      <a:pt x="0" y="11"/>
                    </a:moveTo>
                    <a:lnTo>
                      <a:pt x="11" y="5"/>
                    </a:lnTo>
                    <a:lnTo>
                      <a:pt x="23" y="0"/>
                    </a:lnTo>
                  </a:path>
                </a:pathLst>
              </a:custGeom>
              <a:noFill/>
              <a:ln cap="rnd" w="1260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V="1">
                <a:off x="5757480" y="1691640"/>
                <a:ext cx="40320" cy="1944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798160" y="1672920"/>
                <a:ext cx="39960" cy="18360"/>
              </a:xfrm>
              <a:custGeom>
                <a:avLst/>
                <a:gdLst/>
                <a:ahLst/>
                <a:rect l="l" t="t" r="r" b="b"/>
                <a:pathLst>
                  <a:path w="23" h="11">
                    <a:moveTo>
                      <a:pt x="0" y="11"/>
                    </a:moveTo>
                    <a:lnTo>
                      <a:pt x="11" y="5"/>
                    </a:lnTo>
                    <a:lnTo>
                      <a:pt x="23" y="0"/>
                    </a:lnTo>
                  </a:path>
                </a:pathLst>
              </a:custGeom>
              <a:noFill/>
              <a:ln cap="rnd" w="1260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838480" y="1659600"/>
                <a:ext cx="39960" cy="12960"/>
              </a:xfrm>
              <a:custGeom>
                <a:avLst/>
                <a:gdLst/>
                <a:ahLst/>
                <a:rect l="l" t="t" r="r" b="b"/>
                <a:pathLst>
                  <a:path w="23" h="8">
                    <a:moveTo>
                      <a:pt x="0" y="8"/>
                    </a:moveTo>
                    <a:lnTo>
                      <a:pt x="11" y="4"/>
                    </a:lnTo>
                    <a:lnTo>
                      <a:pt x="23" y="0"/>
                    </a:lnTo>
                  </a:path>
                </a:pathLst>
              </a:custGeom>
              <a:noFill/>
              <a:ln cap="rnd" w="1260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V="1">
                <a:off x="5878800" y="1643040"/>
                <a:ext cx="36720" cy="1656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V="1">
                <a:off x="5915520" y="1631160"/>
                <a:ext cx="39960" cy="1152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V="1">
                <a:off x="5955840" y="1621080"/>
                <a:ext cx="40320" cy="1008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V="1">
                <a:off x="5996520" y="1610640"/>
                <a:ext cx="39960" cy="972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V="1">
                <a:off x="6036840" y="1600920"/>
                <a:ext cx="40320" cy="1008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V="1">
                <a:off x="6077520" y="1595520"/>
                <a:ext cx="39960" cy="468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117480" y="1585800"/>
                <a:ext cx="40320" cy="9720"/>
              </a:xfrm>
              <a:custGeom>
                <a:avLst/>
                <a:gdLst/>
                <a:ahLst/>
                <a:rect l="l" t="t" r="r" b="b"/>
                <a:pathLst>
                  <a:path w="23" h="6">
                    <a:moveTo>
                      <a:pt x="0" y="6"/>
                    </a:moveTo>
                    <a:lnTo>
                      <a:pt x="12" y="2"/>
                    </a:lnTo>
                    <a:lnTo>
                      <a:pt x="23" y="0"/>
                    </a:lnTo>
                  </a:path>
                </a:pathLst>
              </a:custGeom>
              <a:noFill/>
              <a:ln cap="rnd" w="1260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V="1">
                <a:off x="6158160" y="1578600"/>
                <a:ext cx="36360" cy="684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V="1">
                <a:off x="6194880" y="1575360"/>
                <a:ext cx="40320" cy="324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6235560" y="1568880"/>
                <a:ext cx="39960" cy="612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V="1">
                <a:off x="6275880" y="1565640"/>
                <a:ext cx="39960" cy="324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V="1">
                <a:off x="6315840" y="1560600"/>
                <a:ext cx="40320" cy="468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V="1">
                <a:off x="6356520" y="1557000"/>
                <a:ext cx="39960" cy="324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V="1">
                <a:off x="6396840" y="1553760"/>
                <a:ext cx="40320" cy="324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V="1">
                <a:off x="6437520" y="1550160"/>
                <a:ext cx="36360" cy="324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474240" y="1550520"/>
                <a:ext cx="42120" cy="180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V="1">
                <a:off x="6516360" y="1546920"/>
                <a:ext cx="40320" cy="324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V="1">
                <a:off x="6557040" y="1544040"/>
                <a:ext cx="39960" cy="288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597000" y="1544040"/>
                <a:ext cx="39960" cy="144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637320" y="1540800"/>
                <a:ext cx="40320" cy="3240"/>
              </a:xfrm>
              <a:custGeom>
                <a:avLst/>
                <a:gdLst/>
                <a:ahLst/>
                <a:rect l="l" t="t" r="r" b="b"/>
                <a:pathLst>
                  <a:path w="23" h="2">
                    <a:moveTo>
                      <a:pt x="0" y="2"/>
                    </a:moveTo>
                    <a:lnTo>
                      <a:pt x="11" y="0"/>
                    </a:lnTo>
                    <a:lnTo>
                      <a:pt x="23" y="0"/>
                    </a:lnTo>
                  </a:path>
                </a:pathLst>
              </a:custGeom>
              <a:noFill/>
              <a:ln cap="rnd" w="1260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678000" y="1540800"/>
                <a:ext cx="39960" cy="144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718320" y="1537200"/>
                <a:ext cx="36720" cy="3240"/>
              </a:xfrm>
              <a:custGeom>
                <a:avLst/>
                <a:gdLst/>
                <a:ahLst/>
                <a:rect l="l" t="t" r="r" b="b"/>
                <a:pathLst>
                  <a:path w="21" h="2">
                    <a:moveTo>
                      <a:pt x="0" y="2"/>
                    </a:moveTo>
                    <a:lnTo>
                      <a:pt x="9" y="0"/>
                    </a:lnTo>
                    <a:lnTo>
                      <a:pt x="21" y="0"/>
                    </a:lnTo>
                  </a:path>
                </a:pathLst>
              </a:custGeom>
              <a:noFill/>
              <a:ln cap="rnd" w="1260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755400" y="1537200"/>
                <a:ext cx="39960" cy="144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795360" y="1537200"/>
                <a:ext cx="40320" cy="144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836040" y="1533960"/>
                <a:ext cx="39960" cy="3240"/>
              </a:xfrm>
              <a:custGeom>
                <a:avLst/>
                <a:gdLst/>
                <a:ahLst/>
                <a:rect l="l" t="t" r="r" b="b"/>
                <a:pathLst>
                  <a:path w="23" h="2">
                    <a:moveTo>
                      <a:pt x="0" y="2"/>
                    </a:moveTo>
                    <a:lnTo>
                      <a:pt x="11" y="0"/>
                    </a:lnTo>
                    <a:lnTo>
                      <a:pt x="23" y="0"/>
                    </a:lnTo>
                  </a:path>
                </a:pathLst>
              </a:custGeom>
              <a:noFill/>
              <a:ln cap="rnd" w="1260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876360" y="1533960"/>
                <a:ext cx="40320" cy="144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917040" y="1533960"/>
                <a:ext cx="39960" cy="144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957360" y="1533960"/>
                <a:ext cx="39960" cy="144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997320" y="1530360"/>
                <a:ext cx="36720" cy="3240"/>
              </a:xfrm>
              <a:custGeom>
                <a:avLst/>
                <a:gdLst/>
                <a:ahLst/>
                <a:rect l="l" t="t" r="r" b="b"/>
                <a:pathLst>
                  <a:path w="21" h="2">
                    <a:moveTo>
                      <a:pt x="0" y="2"/>
                    </a:moveTo>
                    <a:lnTo>
                      <a:pt x="10" y="0"/>
                    </a:lnTo>
                    <a:lnTo>
                      <a:pt x="21" y="0"/>
                    </a:lnTo>
                  </a:path>
                </a:pathLst>
              </a:custGeom>
              <a:noFill/>
              <a:ln cap="rnd" w="1260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034400" y="1530360"/>
                <a:ext cx="39960" cy="180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074720" y="1530360"/>
                <a:ext cx="40320" cy="180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115400" y="1530360"/>
                <a:ext cx="39960" cy="180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155720" y="1530360"/>
                <a:ext cx="40320" cy="180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196040" y="1530360"/>
                <a:ext cx="39960" cy="180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236360" y="1530360"/>
                <a:ext cx="40320" cy="180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277040" y="1530360"/>
                <a:ext cx="36360" cy="180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7313760" y="1530360"/>
                <a:ext cx="40320" cy="180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354440" y="1527120"/>
                <a:ext cx="39960" cy="3240"/>
              </a:xfrm>
              <a:custGeom>
                <a:avLst/>
                <a:gdLst/>
                <a:ahLst/>
                <a:rect l="l" t="t" r="r" b="b"/>
                <a:pathLst>
                  <a:path w="23" h="2">
                    <a:moveTo>
                      <a:pt x="0" y="2"/>
                    </a:moveTo>
                    <a:lnTo>
                      <a:pt x="12" y="0"/>
                    </a:lnTo>
                    <a:lnTo>
                      <a:pt x="23" y="0"/>
                    </a:lnTo>
                  </a:path>
                </a:pathLst>
              </a:custGeom>
              <a:noFill/>
              <a:ln cap="rnd" w="1260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394400" y="1527120"/>
                <a:ext cx="42120" cy="180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436880" y="1527120"/>
                <a:ext cx="39960" cy="180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476840" y="1527120"/>
                <a:ext cx="40320" cy="180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517520" y="1527120"/>
                <a:ext cx="39960" cy="180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557840" y="1527120"/>
                <a:ext cx="36720" cy="180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594920" y="1527120"/>
                <a:ext cx="39960" cy="180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635240" y="1527120"/>
                <a:ext cx="40320" cy="180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675920" y="1527120"/>
                <a:ext cx="39960" cy="180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715880" y="1527120"/>
                <a:ext cx="39960" cy="180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756200" y="1527120"/>
                <a:ext cx="40320" cy="180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796880" y="1527120"/>
                <a:ext cx="39960" cy="180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837200" y="1527120"/>
                <a:ext cx="36720" cy="180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874280" y="1527120"/>
                <a:ext cx="39960" cy="180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914240" y="1527120"/>
                <a:ext cx="40320" cy="180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954920" y="1527120"/>
                <a:ext cx="39960" cy="180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995240" y="1527120"/>
                <a:ext cx="40320" cy="180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035920" y="1527120"/>
                <a:ext cx="39960" cy="180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075880" y="1527120"/>
                <a:ext cx="39960" cy="180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8116200" y="1527120"/>
                <a:ext cx="40320" cy="180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8156880" y="1527120"/>
                <a:ext cx="36360" cy="180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8193600" y="1527120"/>
                <a:ext cx="40320" cy="180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8234280" y="1527120"/>
                <a:ext cx="39960" cy="180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8274240" y="1527120"/>
                <a:ext cx="42120" cy="180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8316720" y="1527120"/>
                <a:ext cx="40320" cy="180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8357400" y="1527120"/>
                <a:ext cx="39960" cy="180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8397360" y="1527120"/>
                <a:ext cx="39960" cy="180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437680" y="1527120"/>
                <a:ext cx="36720" cy="180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474760" y="1527120"/>
                <a:ext cx="39960" cy="180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515080" y="1527120"/>
                <a:ext cx="40320" cy="180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555760" y="1527120"/>
                <a:ext cx="39960" cy="180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595720" y="1527120"/>
                <a:ext cx="40320" cy="1800"/>
              </a:xfrm>
              <a:prstGeom prst="line">
                <a:avLst/>
              </a:prstGeom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1644480" y="1527120"/>
              <a:ext cx="7189560" cy="3810960"/>
              <a:chOff x="1644480" y="1527120"/>
              <a:chExt cx="7189560" cy="3810960"/>
            </a:xfrm>
          </p:grpSpPr>
          <p:sp>
            <p:nvSpPr>
              <p:cNvPr id="245" name=""/>
              <p:cNvSpPr/>
              <p:nvPr/>
            </p:nvSpPr>
            <p:spPr>
              <a:xfrm>
                <a:off x="8635680" y="1527120"/>
                <a:ext cx="39960" cy="1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676000" y="1527120"/>
                <a:ext cx="40320" cy="1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8716680" y="1527120"/>
                <a:ext cx="36360" cy="1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8753400" y="1527120"/>
                <a:ext cx="40320" cy="1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8794080" y="1527120"/>
                <a:ext cx="39960" cy="1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V="1">
                <a:off x="1677240" y="5295600"/>
                <a:ext cx="40320" cy="68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1717920" y="5293080"/>
                <a:ext cx="39960" cy="28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V="1">
                <a:off x="1758240" y="5285880"/>
                <a:ext cx="40320" cy="68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V="1">
                <a:off x="1798920" y="5279040"/>
                <a:ext cx="39960" cy="68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V="1">
                <a:off x="1838880" y="5272560"/>
                <a:ext cx="36720" cy="61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1875960" y="5267520"/>
                <a:ext cx="39960" cy="4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V="1">
                <a:off x="1916280" y="5260680"/>
                <a:ext cx="40320" cy="68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V="1">
                <a:off x="1956960" y="5253840"/>
                <a:ext cx="39960" cy="68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1997280" y="5247360"/>
                <a:ext cx="39960" cy="61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037240" y="5237640"/>
                <a:ext cx="40320" cy="10080"/>
              </a:xfrm>
              <a:custGeom>
                <a:avLst/>
                <a:gdLst/>
                <a:ahLst/>
                <a:rect l="l" t="t" r="r" b="b"/>
                <a:pathLst>
                  <a:path w="23" h="6">
                    <a:moveTo>
                      <a:pt x="0" y="6"/>
                    </a:moveTo>
                    <a:lnTo>
                      <a:pt x="12" y="2"/>
                    </a:lnTo>
                    <a:lnTo>
                      <a:pt x="23" y="0"/>
                    </a:ln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V="1">
                <a:off x="2077920" y="5232240"/>
                <a:ext cx="39960" cy="4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2118240" y="5222160"/>
                <a:ext cx="42120" cy="100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V="1">
                <a:off x="2160360" y="5212080"/>
                <a:ext cx="36720" cy="97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V="1">
                <a:off x="2197440" y="5202000"/>
                <a:ext cx="39960" cy="97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V="1">
                <a:off x="2237760" y="5193720"/>
                <a:ext cx="40320" cy="86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V="1">
                <a:off x="2278440" y="5183640"/>
                <a:ext cx="39960" cy="97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V="1">
                <a:off x="2318400" y="5173560"/>
                <a:ext cx="39960" cy="97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358720" y="5160240"/>
                <a:ext cx="40320" cy="13680"/>
              </a:xfrm>
              <a:custGeom>
                <a:avLst/>
                <a:gdLst/>
                <a:ahLst/>
                <a:rect l="l" t="t" r="r" b="b"/>
                <a:pathLst>
                  <a:path w="23" h="8">
                    <a:moveTo>
                      <a:pt x="0" y="8"/>
                    </a:moveTo>
                    <a:lnTo>
                      <a:pt x="11" y="4"/>
                    </a:lnTo>
                    <a:lnTo>
                      <a:pt x="23" y="0"/>
                    </a:ln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2399400" y="5151600"/>
                <a:ext cx="39960" cy="82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V="1">
                <a:off x="2439720" y="5138640"/>
                <a:ext cx="36720" cy="1296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V="1">
                <a:off x="2476800" y="5125320"/>
                <a:ext cx="39960" cy="1296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V="1">
                <a:off x="2516760" y="5113440"/>
                <a:ext cx="40320" cy="115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2557440" y="5096880"/>
                <a:ext cx="39960" cy="1656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2597760" y="5083200"/>
                <a:ext cx="40320" cy="13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2638440" y="5068080"/>
                <a:ext cx="39960" cy="1476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2678760" y="5051520"/>
                <a:ext cx="39960" cy="1656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2718720" y="5034960"/>
                <a:ext cx="36720" cy="1656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2755800" y="5019480"/>
                <a:ext cx="39960" cy="151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V="1">
                <a:off x="2796120" y="5002920"/>
                <a:ext cx="40320" cy="1656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V="1">
                <a:off x="2836800" y="4983840"/>
                <a:ext cx="39960" cy="1836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V="1">
                <a:off x="2876760" y="4963680"/>
                <a:ext cx="40320" cy="1980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>
                <a:off x="2917440" y="4945680"/>
                <a:ext cx="39960" cy="1800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957760" y="4922280"/>
                <a:ext cx="39960" cy="23400"/>
              </a:xfrm>
              <a:custGeom>
                <a:avLst/>
                <a:gdLst/>
                <a:ahLst/>
                <a:rect l="l" t="t" r="r" b="b"/>
                <a:pathLst>
                  <a:path w="23" h="14">
                    <a:moveTo>
                      <a:pt x="0" y="14"/>
                    </a:moveTo>
                    <a:lnTo>
                      <a:pt x="12" y="6"/>
                    </a:lnTo>
                    <a:lnTo>
                      <a:pt x="23" y="0"/>
                    </a:ln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V="1">
                <a:off x="2998080" y="4903920"/>
                <a:ext cx="38880" cy="1800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V="1">
                <a:off x="3036960" y="4880160"/>
                <a:ext cx="39960" cy="2340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V="1">
                <a:off x="3077280" y="4858920"/>
                <a:ext cx="39960" cy="2160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V="1">
                <a:off x="3117600" y="4833360"/>
                <a:ext cx="40320" cy="2520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V="1">
                <a:off x="3158280" y="4806360"/>
                <a:ext cx="39960" cy="262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V="1">
                <a:off x="3198240" y="4781160"/>
                <a:ext cx="40320" cy="248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3238920" y="4754520"/>
                <a:ext cx="39960" cy="266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V="1">
                <a:off x="3279240" y="4729320"/>
                <a:ext cx="36720" cy="248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V="1">
                <a:off x="3316320" y="4700520"/>
                <a:ext cx="39960" cy="284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V="1">
                <a:off x="3356280" y="4672080"/>
                <a:ext cx="40320" cy="284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V="1">
                <a:off x="3396960" y="4642200"/>
                <a:ext cx="39960" cy="298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V="1">
                <a:off x="3437280" y="4610520"/>
                <a:ext cx="39960" cy="31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V="1">
                <a:off x="3477600" y="4578480"/>
                <a:ext cx="40320" cy="31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V="1">
                <a:off x="3518280" y="4546800"/>
                <a:ext cx="39960" cy="31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>
                <a:off x="3558240" y="4511160"/>
                <a:ext cx="36720" cy="34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3595320" y="4478040"/>
                <a:ext cx="39960" cy="331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V="1">
                <a:off x="3635640" y="4442760"/>
                <a:ext cx="40320" cy="352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676320" y="4404600"/>
                <a:ext cx="39960" cy="3816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23"/>
                    </a:moveTo>
                    <a:lnTo>
                      <a:pt x="12" y="12"/>
                    </a:lnTo>
                    <a:lnTo>
                      <a:pt x="23" y="0"/>
                    </a:ln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V="1">
                <a:off x="3716640" y="4368960"/>
                <a:ext cx="39960" cy="352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3756600" y="4330080"/>
                <a:ext cx="40320" cy="385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V="1">
                <a:off x="3797280" y="4291920"/>
                <a:ext cx="39960" cy="3816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V="1">
                <a:off x="3837600" y="4253400"/>
                <a:ext cx="38520" cy="3816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V="1">
                <a:off x="3876120" y="4210920"/>
                <a:ext cx="40320" cy="421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916800" y="4169520"/>
                <a:ext cx="39960" cy="4176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V="1">
                <a:off x="3957120" y="4127760"/>
                <a:ext cx="40320" cy="4176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V="1">
                <a:off x="3997800" y="4085640"/>
                <a:ext cx="39960" cy="4176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V="1">
                <a:off x="4037760" y="4043160"/>
                <a:ext cx="39960" cy="421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4078080" y="3998160"/>
                <a:ext cx="40320" cy="4500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V="1">
                <a:off x="4118760" y="3954960"/>
                <a:ext cx="39960" cy="4320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V="1">
                <a:off x="4159080" y="3909240"/>
                <a:ext cx="36720" cy="4500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V="1">
                <a:off x="4196160" y="3864240"/>
                <a:ext cx="39960" cy="4500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V="1">
                <a:off x="4236120" y="3818880"/>
                <a:ext cx="40320" cy="4500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276800" y="3770640"/>
                <a:ext cx="39960" cy="48600"/>
              </a:xfrm>
              <a:custGeom>
                <a:avLst/>
                <a:gdLst/>
                <a:ahLst/>
                <a:rect l="l" t="t" r="r" b="b"/>
                <a:pathLst>
                  <a:path w="23" h="29">
                    <a:moveTo>
                      <a:pt x="0" y="29"/>
                    </a:moveTo>
                    <a:lnTo>
                      <a:pt x="11" y="14"/>
                    </a:lnTo>
                    <a:lnTo>
                      <a:pt x="23" y="0"/>
                    </a:ln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V="1">
                <a:off x="4317120" y="3724920"/>
                <a:ext cx="40320" cy="4500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357800" y="3676680"/>
                <a:ext cx="39960" cy="48600"/>
              </a:xfrm>
              <a:custGeom>
                <a:avLst/>
                <a:gdLst/>
                <a:ahLst/>
                <a:rect l="l" t="t" r="r" b="b"/>
                <a:pathLst>
                  <a:path w="23" h="29">
                    <a:moveTo>
                      <a:pt x="0" y="29"/>
                    </a:moveTo>
                    <a:lnTo>
                      <a:pt x="12" y="14"/>
                    </a:lnTo>
                    <a:lnTo>
                      <a:pt x="23" y="0"/>
                    </a:ln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V="1">
                <a:off x="4397760" y="3632760"/>
                <a:ext cx="39960" cy="4356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438080" y="3584160"/>
                <a:ext cx="36720" cy="48600"/>
              </a:xfrm>
              <a:custGeom>
                <a:avLst/>
                <a:gdLst/>
                <a:ahLst/>
                <a:rect l="l" t="t" r="r" b="b"/>
                <a:pathLst>
                  <a:path w="21" h="29">
                    <a:moveTo>
                      <a:pt x="0" y="29"/>
                    </a:moveTo>
                    <a:lnTo>
                      <a:pt x="10" y="13"/>
                    </a:lnTo>
                    <a:lnTo>
                      <a:pt x="21" y="0"/>
                    </a:ln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V="1">
                <a:off x="4475160" y="3538800"/>
                <a:ext cx="39960" cy="4500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V="1">
                <a:off x="4515480" y="3490200"/>
                <a:ext cx="40320" cy="4860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V="1">
                <a:off x="4556160" y="3441240"/>
                <a:ext cx="39960" cy="4860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V="1">
                <a:off x="4596120" y="3396240"/>
                <a:ext cx="40320" cy="4500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V="1">
                <a:off x="4636800" y="3349440"/>
                <a:ext cx="39960" cy="464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V="1">
                <a:off x="4677120" y="3300840"/>
                <a:ext cx="40320" cy="4860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V="1">
                <a:off x="4717800" y="3255480"/>
                <a:ext cx="38520" cy="4500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4756320" y="3210120"/>
                <a:ext cx="39960" cy="4500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796640" y="3161880"/>
                <a:ext cx="39960" cy="48600"/>
              </a:xfrm>
              <a:custGeom>
                <a:avLst/>
                <a:gdLst/>
                <a:ahLst/>
                <a:rect l="l" t="t" r="r" b="b"/>
                <a:pathLst>
                  <a:path w="23" h="29">
                    <a:moveTo>
                      <a:pt x="0" y="29"/>
                    </a:moveTo>
                    <a:lnTo>
                      <a:pt x="11" y="14"/>
                    </a:lnTo>
                    <a:lnTo>
                      <a:pt x="23" y="0"/>
                    </a:ln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V="1">
                <a:off x="4836960" y="3116160"/>
                <a:ext cx="40320" cy="4500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V="1">
                <a:off x="4877280" y="3072600"/>
                <a:ext cx="39960" cy="4356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V="1">
                <a:off x="4917600" y="3031200"/>
                <a:ext cx="40320" cy="4176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V="1">
                <a:off x="4958280" y="2985480"/>
                <a:ext cx="39960" cy="4500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V="1">
                <a:off x="4998600" y="2944080"/>
                <a:ext cx="36720" cy="4176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V="1">
                <a:off x="5035680" y="2898360"/>
                <a:ext cx="39960" cy="4500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V="1">
                <a:off x="5075640" y="2856240"/>
                <a:ext cx="40320" cy="421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V="1">
                <a:off x="5116320" y="2818080"/>
                <a:ext cx="39960" cy="3816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156640" y="2776320"/>
                <a:ext cx="39960" cy="4176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25"/>
                    </a:moveTo>
                    <a:lnTo>
                      <a:pt x="11" y="12"/>
                    </a:lnTo>
                    <a:lnTo>
                      <a:pt x="23" y="0"/>
                    </a:ln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V="1">
                <a:off x="5196960" y="2737080"/>
                <a:ext cx="40320" cy="385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V="1">
                <a:off x="5237280" y="2699280"/>
                <a:ext cx="39960" cy="3816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V="1">
                <a:off x="5277600" y="2660040"/>
                <a:ext cx="36720" cy="385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V="1">
                <a:off x="5314680" y="2621880"/>
                <a:ext cx="39960" cy="3816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V="1">
                <a:off x="5355000" y="2586600"/>
                <a:ext cx="40320" cy="352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V="1">
                <a:off x="5395680" y="2551320"/>
                <a:ext cx="39960" cy="34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V="1">
                <a:off x="5435640" y="2516400"/>
                <a:ext cx="40320" cy="352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V="1">
                <a:off x="5476320" y="2482920"/>
                <a:ext cx="39960" cy="331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V="1">
                <a:off x="5516640" y="2450880"/>
                <a:ext cx="39960" cy="31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V="1">
                <a:off x="5556960" y="2418840"/>
                <a:ext cx="36720" cy="31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V="1">
                <a:off x="5594040" y="2387160"/>
                <a:ext cx="42120" cy="313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V="1">
                <a:off x="5636160" y="2358360"/>
                <a:ext cx="39960" cy="284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V="1">
                <a:off x="5676480" y="2328480"/>
                <a:ext cx="40320" cy="302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V="1">
                <a:off x="5716800" y="2299680"/>
                <a:ext cx="39960" cy="284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V="1">
                <a:off x="5757120" y="2274480"/>
                <a:ext cx="40320" cy="248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V="1">
                <a:off x="5797800" y="2247840"/>
                <a:ext cx="39960" cy="262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V="1">
                <a:off x="5838120" y="2222640"/>
                <a:ext cx="39960" cy="2520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V="1">
                <a:off x="5878080" y="2197440"/>
                <a:ext cx="36720" cy="248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V="1">
                <a:off x="5915160" y="2174400"/>
                <a:ext cx="39960" cy="230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V="1">
                <a:off x="5955480" y="2152080"/>
                <a:ext cx="40320" cy="2196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V="1">
                <a:off x="5996160" y="2129040"/>
                <a:ext cx="39960" cy="230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V="1">
                <a:off x="6036480" y="2106720"/>
                <a:ext cx="40320" cy="2196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V="1">
                <a:off x="6077160" y="2086560"/>
                <a:ext cx="39960" cy="1980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V="1">
                <a:off x="6117120" y="2068920"/>
                <a:ext cx="40320" cy="1800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V="1">
                <a:off x="6157800" y="2048400"/>
                <a:ext cx="36360" cy="1980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V="1">
                <a:off x="6194520" y="2029680"/>
                <a:ext cx="40320" cy="1836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V="1">
                <a:off x="6235200" y="2009520"/>
                <a:ext cx="39960" cy="1980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V="1">
                <a:off x="6275160" y="1994760"/>
                <a:ext cx="39960" cy="1476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V="1">
                <a:off x="6315480" y="1978200"/>
                <a:ext cx="40320" cy="1656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V="1">
                <a:off x="6356160" y="1961640"/>
                <a:ext cx="39960" cy="1656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V="1">
                <a:off x="6396480" y="1949760"/>
                <a:ext cx="40320" cy="115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V="1">
                <a:off x="6437160" y="1932840"/>
                <a:ext cx="36360" cy="1656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V="1">
                <a:off x="6473520" y="1919160"/>
                <a:ext cx="42120" cy="13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V="1">
                <a:off x="6516000" y="1907640"/>
                <a:ext cx="40320" cy="115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V="1">
                <a:off x="6556680" y="1894320"/>
                <a:ext cx="39960" cy="1296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V="1">
                <a:off x="6596640" y="1881000"/>
                <a:ext cx="39960" cy="1296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V="1">
                <a:off x="6636960" y="1869120"/>
                <a:ext cx="40320" cy="115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V="1">
                <a:off x="6677640" y="1859040"/>
                <a:ext cx="39960" cy="97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V="1">
                <a:off x="6717960" y="1848960"/>
                <a:ext cx="36720" cy="100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V="1">
                <a:off x="6754680" y="1838880"/>
                <a:ext cx="39960" cy="97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V="1">
                <a:off x="6795000" y="1830240"/>
                <a:ext cx="40320" cy="82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flipV="1">
                <a:off x="6835680" y="1820520"/>
                <a:ext cx="39960" cy="100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flipV="1">
                <a:off x="6876000" y="1810080"/>
                <a:ext cx="40320" cy="97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V="1">
                <a:off x="6916680" y="1800360"/>
                <a:ext cx="39960" cy="100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V="1">
                <a:off x="6956640" y="1794960"/>
                <a:ext cx="39960" cy="4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996960" y="1785600"/>
                <a:ext cx="36720" cy="9720"/>
              </a:xfrm>
              <a:custGeom>
                <a:avLst/>
                <a:gdLst/>
                <a:ahLst/>
                <a:rect l="l" t="t" r="r" b="b"/>
                <a:pathLst>
                  <a:path w="21" h="6">
                    <a:moveTo>
                      <a:pt x="0" y="6"/>
                    </a:moveTo>
                    <a:lnTo>
                      <a:pt x="10" y="2"/>
                    </a:lnTo>
                    <a:lnTo>
                      <a:pt x="21" y="0"/>
                    </a:ln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V="1">
                <a:off x="7034040" y="1778400"/>
                <a:ext cx="39960" cy="68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V="1">
                <a:off x="7074360" y="1771560"/>
                <a:ext cx="40320" cy="68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V="1">
                <a:off x="7115040" y="1765080"/>
                <a:ext cx="39960" cy="61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V="1">
                <a:off x="7155000" y="1760040"/>
                <a:ext cx="40320" cy="50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V="1">
                <a:off x="7195680" y="1753200"/>
                <a:ext cx="39960" cy="61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V="1">
                <a:off x="7236000" y="1746360"/>
                <a:ext cx="40320" cy="68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V="1">
                <a:off x="7276680" y="1739520"/>
                <a:ext cx="36360" cy="68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V="1">
                <a:off x="7313040" y="1733040"/>
                <a:ext cx="40320" cy="61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V="1">
                <a:off x="7353720" y="1729440"/>
                <a:ext cx="39960" cy="32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V="1">
                <a:off x="7394040" y="1722600"/>
                <a:ext cx="42120" cy="68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V="1">
                <a:off x="7436160" y="1720080"/>
                <a:ext cx="39960" cy="28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V="1">
                <a:off x="7476480" y="1717920"/>
                <a:ext cx="40320" cy="180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V="1">
                <a:off x="7517160" y="1711080"/>
                <a:ext cx="39960" cy="68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V="1">
                <a:off x="7557480" y="1708200"/>
                <a:ext cx="36720" cy="28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V="1">
                <a:off x="7594560" y="1704600"/>
                <a:ext cx="39960" cy="32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V="1">
                <a:off x="7634520" y="1701000"/>
                <a:ext cx="40320" cy="32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V="1">
                <a:off x="7675200" y="1697760"/>
                <a:ext cx="39960" cy="32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V="1">
                <a:off x="7715520" y="1694160"/>
                <a:ext cx="39960" cy="32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V="1">
                <a:off x="7755840" y="1691640"/>
                <a:ext cx="40320" cy="28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V="1">
                <a:off x="7796160" y="1687680"/>
                <a:ext cx="39960" cy="32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V="1">
                <a:off x="7836480" y="1684440"/>
                <a:ext cx="36720" cy="32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V="1">
                <a:off x="7873560" y="1680840"/>
                <a:ext cx="39960" cy="32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V="1">
                <a:off x="7913880" y="1679760"/>
                <a:ext cx="40320" cy="14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V="1">
                <a:off x="7954560" y="1676160"/>
                <a:ext cx="39960" cy="32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7994520" y="1676520"/>
                <a:ext cx="40320" cy="14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V="1">
                <a:off x="8035200" y="1672560"/>
                <a:ext cx="39960" cy="32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V="1">
                <a:off x="8075520" y="1669320"/>
                <a:ext cx="39960" cy="32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8115840" y="1669680"/>
                <a:ext cx="40320" cy="180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V="1">
                <a:off x="8156160" y="1665720"/>
                <a:ext cx="36360" cy="32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V="1">
                <a:off x="8192880" y="1663200"/>
                <a:ext cx="40320" cy="28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8233560" y="1663200"/>
                <a:ext cx="39960" cy="14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8273880" y="1659600"/>
                <a:ext cx="42120" cy="3240"/>
              </a:xfrm>
              <a:custGeom>
                <a:avLst/>
                <a:gdLst/>
                <a:ahLst/>
                <a:rect l="l" t="t" r="r" b="b"/>
                <a:pathLst>
                  <a:path w="24" h="2">
                    <a:moveTo>
                      <a:pt x="0" y="2"/>
                    </a:moveTo>
                    <a:lnTo>
                      <a:pt x="12" y="0"/>
                    </a:lnTo>
                    <a:lnTo>
                      <a:pt x="24" y="0"/>
                    </a:ln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8316000" y="1659600"/>
                <a:ext cx="40320" cy="14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8356680" y="1656360"/>
                <a:ext cx="39960" cy="3240"/>
              </a:xfrm>
              <a:custGeom>
                <a:avLst/>
                <a:gdLst/>
                <a:ahLst/>
                <a:rect l="l" t="t" r="r" b="b"/>
                <a:pathLst>
                  <a:path w="23" h="2">
                    <a:moveTo>
                      <a:pt x="0" y="2"/>
                    </a:moveTo>
                    <a:lnTo>
                      <a:pt x="11" y="0"/>
                    </a:lnTo>
                    <a:lnTo>
                      <a:pt x="23" y="0"/>
                    </a:ln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8397000" y="1656360"/>
                <a:ext cx="39960" cy="14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8436960" y="1652760"/>
                <a:ext cx="36720" cy="3240"/>
              </a:xfrm>
              <a:custGeom>
                <a:avLst/>
                <a:gdLst/>
                <a:ahLst/>
                <a:rect l="l" t="t" r="r" b="b"/>
                <a:pathLst>
                  <a:path w="21" h="2">
                    <a:moveTo>
                      <a:pt x="0" y="2"/>
                    </a:moveTo>
                    <a:lnTo>
                      <a:pt x="9" y="0"/>
                    </a:lnTo>
                    <a:lnTo>
                      <a:pt x="21" y="0"/>
                    </a:ln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8474040" y="1652760"/>
                <a:ext cx="39960" cy="180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8514360" y="1652760"/>
                <a:ext cx="40320" cy="180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8555040" y="1649520"/>
                <a:ext cx="39960" cy="3240"/>
              </a:xfrm>
              <a:custGeom>
                <a:avLst/>
                <a:gdLst/>
                <a:ahLst/>
                <a:rect l="l" t="t" r="r" b="b"/>
                <a:pathLst>
                  <a:path w="23" h="2">
                    <a:moveTo>
                      <a:pt x="0" y="2"/>
                    </a:moveTo>
                    <a:lnTo>
                      <a:pt x="11" y="0"/>
                    </a:lnTo>
                    <a:lnTo>
                      <a:pt x="23" y="0"/>
                    </a:ln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8595360" y="1649520"/>
                <a:ext cx="40320" cy="180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8635680" y="1649520"/>
                <a:ext cx="39960" cy="180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8676000" y="1646280"/>
                <a:ext cx="40320" cy="2880"/>
              </a:xfrm>
              <a:custGeom>
                <a:avLst/>
                <a:gdLst/>
                <a:ahLst/>
                <a:rect l="l" t="t" r="r" b="b"/>
                <a:pathLst>
                  <a:path w="23" h="2">
                    <a:moveTo>
                      <a:pt x="0" y="2"/>
                    </a:moveTo>
                    <a:lnTo>
                      <a:pt x="11" y="0"/>
                    </a:lnTo>
                    <a:lnTo>
                      <a:pt x="23" y="0"/>
                    </a:ln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8716680" y="1646280"/>
                <a:ext cx="36360" cy="14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8753400" y="1646280"/>
                <a:ext cx="40320" cy="14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V="1">
                <a:off x="8794080" y="1642680"/>
                <a:ext cx="39960" cy="32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1644480" y="5272920"/>
                <a:ext cx="66240" cy="65160"/>
              </a:xfrm>
              <a:custGeom>
                <a:avLst/>
                <a:gdLst/>
                <a:ahLst/>
                <a:rect l="l" t="t" r="r" b="b"/>
                <a:pathLst>
                  <a:path w="38" h="39">
                    <a:moveTo>
                      <a:pt x="19" y="0"/>
                    </a:moveTo>
                    <a:lnTo>
                      <a:pt x="38" y="20"/>
                    </a:lnTo>
                    <a:lnTo>
                      <a:pt x="19" y="39"/>
                    </a:lnTo>
                    <a:lnTo>
                      <a:pt x="0" y="2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684440" y="5272920"/>
                <a:ext cx="66600" cy="65160"/>
              </a:xfrm>
              <a:custGeom>
                <a:avLst/>
                <a:gdLst/>
                <a:ahLst/>
                <a:rect l="l" t="t" r="r" b="b"/>
                <a:pathLst>
                  <a:path w="38" h="39">
                    <a:moveTo>
                      <a:pt x="19" y="0"/>
                    </a:moveTo>
                    <a:lnTo>
                      <a:pt x="38" y="20"/>
                    </a:lnTo>
                    <a:lnTo>
                      <a:pt x="19" y="39"/>
                    </a:lnTo>
                    <a:lnTo>
                      <a:pt x="0" y="2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1724760" y="5272920"/>
                <a:ext cx="66600" cy="65160"/>
              </a:xfrm>
              <a:custGeom>
                <a:avLst/>
                <a:gdLst/>
                <a:ahLst/>
                <a:rect l="l" t="t" r="r" b="b"/>
                <a:pathLst>
                  <a:path w="38" h="39">
                    <a:moveTo>
                      <a:pt x="19" y="0"/>
                    </a:moveTo>
                    <a:lnTo>
                      <a:pt x="38" y="20"/>
                    </a:lnTo>
                    <a:lnTo>
                      <a:pt x="19" y="39"/>
                    </a:lnTo>
                    <a:lnTo>
                      <a:pt x="0" y="2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765440" y="5272920"/>
                <a:ext cx="66240" cy="65160"/>
              </a:xfrm>
              <a:custGeom>
                <a:avLst/>
                <a:gdLst/>
                <a:ahLst/>
                <a:rect l="l" t="t" r="r" b="b"/>
                <a:pathLst>
                  <a:path w="38" h="39">
                    <a:moveTo>
                      <a:pt x="19" y="0"/>
                    </a:moveTo>
                    <a:lnTo>
                      <a:pt x="38" y="20"/>
                    </a:lnTo>
                    <a:lnTo>
                      <a:pt x="19" y="39"/>
                    </a:lnTo>
                    <a:lnTo>
                      <a:pt x="0" y="2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805760" y="5272920"/>
                <a:ext cx="66600" cy="65160"/>
              </a:xfrm>
              <a:custGeom>
                <a:avLst/>
                <a:gdLst/>
                <a:ahLst/>
                <a:rect l="l" t="t" r="r" b="b"/>
                <a:pathLst>
                  <a:path w="38" h="39">
                    <a:moveTo>
                      <a:pt x="19" y="0"/>
                    </a:moveTo>
                    <a:lnTo>
                      <a:pt x="38" y="20"/>
                    </a:lnTo>
                    <a:lnTo>
                      <a:pt x="19" y="39"/>
                    </a:lnTo>
                    <a:lnTo>
                      <a:pt x="0" y="2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842480" y="5272920"/>
                <a:ext cx="66240" cy="65160"/>
              </a:xfrm>
              <a:custGeom>
                <a:avLst/>
                <a:gdLst/>
                <a:ahLst/>
                <a:rect l="l" t="t" r="r" b="b"/>
                <a:pathLst>
                  <a:path w="38" h="39">
                    <a:moveTo>
                      <a:pt x="19" y="0"/>
                    </a:moveTo>
                    <a:lnTo>
                      <a:pt x="38" y="20"/>
                    </a:lnTo>
                    <a:lnTo>
                      <a:pt x="19" y="39"/>
                    </a:lnTo>
                    <a:lnTo>
                      <a:pt x="0" y="2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882800" y="5272920"/>
                <a:ext cx="68400" cy="65160"/>
              </a:xfrm>
              <a:custGeom>
                <a:avLst/>
                <a:gdLst/>
                <a:ahLst/>
                <a:rect l="l" t="t" r="r" b="b"/>
                <a:pathLst>
                  <a:path w="39" h="39">
                    <a:moveTo>
                      <a:pt x="19" y="0"/>
                    </a:moveTo>
                    <a:lnTo>
                      <a:pt x="39" y="20"/>
                    </a:lnTo>
                    <a:lnTo>
                      <a:pt x="19" y="39"/>
                    </a:lnTo>
                    <a:lnTo>
                      <a:pt x="0" y="2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923480" y="5272920"/>
                <a:ext cx="68400" cy="65160"/>
              </a:xfrm>
              <a:custGeom>
                <a:avLst/>
                <a:gdLst/>
                <a:ahLst/>
                <a:rect l="l" t="t" r="r" b="b"/>
                <a:pathLst>
                  <a:path w="39" h="39">
                    <a:moveTo>
                      <a:pt x="19" y="0"/>
                    </a:moveTo>
                    <a:lnTo>
                      <a:pt x="39" y="20"/>
                    </a:lnTo>
                    <a:lnTo>
                      <a:pt x="19" y="39"/>
                    </a:lnTo>
                    <a:lnTo>
                      <a:pt x="0" y="2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963800" y="5272920"/>
                <a:ext cx="68400" cy="65160"/>
              </a:xfrm>
              <a:custGeom>
                <a:avLst/>
                <a:gdLst/>
                <a:ahLst/>
                <a:rect l="l" t="t" r="r" b="b"/>
                <a:pathLst>
                  <a:path w="39" h="39">
                    <a:moveTo>
                      <a:pt x="19" y="0"/>
                    </a:moveTo>
                    <a:lnTo>
                      <a:pt x="39" y="20"/>
                    </a:lnTo>
                    <a:lnTo>
                      <a:pt x="19" y="39"/>
                    </a:lnTo>
                    <a:lnTo>
                      <a:pt x="0" y="2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004480" y="5272920"/>
                <a:ext cx="68400" cy="65160"/>
              </a:xfrm>
              <a:custGeom>
                <a:avLst/>
                <a:gdLst/>
                <a:ahLst/>
                <a:rect l="l" t="t" r="r" b="b"/>
                <a:pathLst>
                  <a:path w="39" h="39">
                    <a:moveTo>
                      <a:pt x="19" y="0"/>
                    </a:moveTo>
                    <a:lnTo>
                      <a:pt x="39" y="20"/>
                    </a:lnTo>
                    <a:lnTo>
                      <a:pt x="19" y="39"/>
                    </a:lnTo>
                    <a:lnTo>
                      <a:pt x="0" y="2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044440" y="5272920"/>
                <a:ext cx="68400" cy="65160"/>
              </a:xfrm>
              <a:custGeom>
                <a:avLst/>
                <a:gdLst/>
                <a:ahLst/>
                <a:rect l="l" t="t" r="r" b="b"/>
                <a:pathLst>
                  <a:path w="39" h="39">
                    <a:moveTo>
                      <a:pt x="19" y="0"/>
                    </a:moveTo>
                    <a:lnTo>
                      <a:pt x="39" y="20"/>
                    </a:lnTo>
                    <a:lnTo>
                      <a:pt x="19" y="39"/>
                    </a:lnTo>
                    <a:lnTo>
                      <a:pt x="0" y="2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084760" y="5272920"/>
                <a:ext cx="68400" cy="65160"/>
              </a:xfrm>
              <a:custGeom>
                <a:avLst/>
                <a:gdLst/>
                <a:ahLst/>
                <a:rect l="l" t="t" r="r" b="b"/>
                <a:pathLst>
                  <a:path w="39" h="39">
                    <a:moveTo>
                      <a:pt x="19" y="0"/>
                    </a:moveTo>
                    <a:lnTo>
                      <a:pt x="39" y="20"/>
                    </a:lnTo>
                    <a:lnTo>
                      <a:pt x="19" y="39"/>
                    </a:lnTo>
                    <a:lnTo>
                      <a:pt x="0" y="2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125440" y="5271120"/>
                <a:ext cx="68400" cy="6372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0" y="0"/>
                    </a:moveTo>
                    <a:lnTo>
                      <a:pt x="39" y="19"/>
                    </a:lnTo>
                    <a:lnTo>
                      <a:pt x="20" y="38"/>
                    </a:lnTo>
                    <a:lnTo>
                      <a:pt x="0" y="1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162160" y="5271120"/>
                <a:ext cx="68400" cy="6372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0" y="0"/>
                    </a:moveTo>
                    <a:lnTo>
                      <a:pt x="39" y="19"/>
                    </a:lnTo>
                    <a:lnTo>
                      <a:pt x="20" y="38"/>
                    </a:lnTo>
                    <a:lnTo>
                      <a:pt x="0" y="1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202840" y="5271120"/>
                <a:ext cx="68400" cy="6372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0" y="0"/>
                    </a:moveTo>
                    <a:lnTo>
                      <a:pt x="39" y="19"/>
                    </a:lnTo>
                    <a:lnTo>
                      <a:pt x="20" y="38"/>
                    </a:lnTo>
                    <a:lnTo>
                      <a:pt x="0" y="1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244960" y="5271120"/>
                <a:ext cx="66240" cy="6372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19" y="0"/>
                    </a:moveTo>
                    <a:lnTo>
                      <a:pt x="38" y="19"/>
                    </a:lnTo>
                    <a:lnTo>
                      <a:pt x="19" y="38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5" name=""/>
            <p:cNvGrpSpPr/>
            <p:nvPr/>
          </p:nvGrpSpPr>
          <p:grpSpPr>
            <a:xfrm>
              <a:off x="1644480" y="1495080"/>
              <a:ext cx="7223040" cy="3839760"/>
              <a:chOff x="1644480" y="1495080"/>
              <a:chExt cx="7223040" cy="3839760"/>
            </a:xfrm>
          </p:grpSpPr>
          <p:sp>
            <p:nvSpPr>
              <p:cNvPr id="446" name=""/>
              <p:cNvSpPr/>
              <p:nvPr/>
            </p:nvSpPr>
            <p:spPr>
              <a:xfrm>
                <a:off x="2285280" y="5271120"/>
                <a:ext cx="66600" cy="6372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19" y="0"/>
                    </a:moveTo>
                    <a:lnTo>
                      <a:pt x="38" y="19"/>
                    </a:lnTo>
                    <a:lnTo>
                      <a:pt x="19" y="38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325600" y="5271120"/>
                <a:ext cx="66240" cy="6372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19" y="0"/>
                    </a:moveTo>
                    <a:lnTo>
                      <a:pt x="38" y="19"/>
                    </a:lnTo>
                    <a:lnTo>
                      <a:pt x="19" y="38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365920" y="5271120"/>
                <a:ext cx="66600" cy="6372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19" y="0"/>
                    </a:moveTo>
                    <a:lnTo>
                      <a:pt x="38" y="19"/>
                    </a:lnTo>
                    <a:lnTo>
                      <a:pt x="19" y="38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2406240" y="5271120"/>
                <a:ext cx="66600" cy="6372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19" y="0"/>
                    </a:moveTo>
                    <a:lnTo>
                      <a:pt x="38" y="19"/>
                    </a:lnTo>
                    <a:lnTo>
                      <a:pt x="19" y="38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443320" y="5268240"/>
                <a:ext cx="66600" cy="6336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19" y="0"/>
                    </a:moveTo>
                    <a:lnTo>
                      <a:pt x="38" y="19"/>
                    </a:lnTo>
                    <a:lnTo>
                      <a:pt x="19" y="38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483280" y="5268240"/>
                <a:ext cx="66600" cy="6336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19" y="0"/>
                    </a:moveTo>
                    <a:lnTo>
                      <a:pt x="38" y="19"/>
                    </a:lnTo>
                    <a:lnTo>
                      <a:pt x="19" y="38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523960" y="5268240"/>
                <a:ext cx="66240" cy="6336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19" y="0"/>
                    </a:moveTo>
                    <a:lnTo>
                      <a:pt x="38" y="19"/>
                    </a:lnTo>
                    <a:lnTo>
                      <a:pt x="19" y="38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2564280" y="5268240"/>
                <a:ext cx="66600" cy="6336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19" y="0"/>
                    </a:moveTo>
                    <a:lnTo>
                      <a:pt x="38" y="19"/>
                    </a:lnTo>
                    <a:lnTo>
                      <a:pt x="19" y="38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2604960" y="5264640"/>
                <a:ext cx="66240" cy="6336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19" y="0"/>
                    </a:moveTo>
                    <a:lnTo>
                      <a:pt x="38" y="19"/>
                    </a:lnTo>
                    <a:lnTo>
                      <a:pt x="19" y="38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645280" y="5264640"/>
                <a:ext cx="66600" cy="6336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19" y="0"/>
                    </a:moveTo>
                    <a:lnTo>
                      <a:pt x="38" y="19"/>
                    </a:lnTo>
                    <a:lnTo>
                      <a:pt x="19" y="38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685600" y="5264640"/>
                <a:ext cx="66240" cy="6336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19" y="0"/>
                    </a:moveTo>
                    <a:lnTo>
                      <a:pt x="38" y="19"/>
                    </a:lnTo>
                    <a:lnTo>
                      <a:pt x="19" y="38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722320" y="5261400"/>
                <a:ext cx="66600" cy="6336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19" y="0"/>
                    </a:moveTo>
                    <a:lnTo>
                      <a:pt x="38" y="19"/>
                    </a:lnTo>
                    <a:lnTo>
                      <a:pt x="19" y="38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763000" y="5261400"/>
                <a:ext cx="68400" cy="6336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19" y="0"/>
                    </a:moveTo>
                    <a:lnTo>
                      <a:pt x="39" y="19"/>
                    </a:lnTo>
                    <a:lnTo>
                      <a:pt x="19" y="38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2803320" y="5257800"/>
                <a:ext cx="68400" cy="6372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19" y="0"/>
                    </a:moveTo>
                    <a:lnTo>
                      <a:pt x="39" y="19"/>
                    </a:lnTo>
                    <a:lnTo>
                      <a:pt x="19" y="38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843640" y="5257800"/>
                <a:ext cx="68400" cy="6372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19" y="0"/>
                    </a:moveTo>
                    <a:lnTo>
                      <a:pt x="39" y="19"/>
                    </a:lnTo>
                    <a:lnTo>
                      <a:pt x="19" y="38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2883960" y="5254200"/>
                <a:ext cx="68400" cy="6372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19" y="0"/>
                    </a:moveTo>
                    <a:lnTo>
                      <a:pt x="39" y="19"/>
                    </a:lnTo>
                    <a:lnTo>
                      <a:pt x="19" y="38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924280" y="5250960"/>
                <a:ext cx="68400" cy="6372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19" y="0"/>
                    </a:moveTo>
                    <a:lnTo>
                      <a:pt x="39" y="19"/>
                    </a:lnTo>
                    <a:lnTo>
                      <a:pt x="19" y="38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2964960" y="5248080"/>
                <a:ext cx="68400" cy="65160"/>
              </a:xfrm>
              <a:custGeom>
                <a:avLst/>
                <a:gdLst/>
                <a:ahLst/>
                <a:rect l="l" t="t" r="r" b="b"/>
                <a:pathLst>
                  <a:path w="39" h="39">
                    <a:moveTo>
                      <a:pt x="19" y="0"/>
                    </a:moveTo>
                    <a:lnTo>
                      <a:pt x="39" y="19"/>
                    </a:lnTo>
                    <a:lnTo>
                      <a:pt x="19" y="39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3001680" y="5248080"/>
                <a:ext cx="68400" cy="65160"/>
              </a:xfrm>
              <a:custGeom>
                <a:avLst/>
                <a:gdLst/>
                <a:ahLst/>
                <a:rect l="l" t="t" r="r" b="b"/>
                <a:pathLst>
                  <a:path w="39" h="39">
                    <a:moveTo>
                      <a:pt x="20" y="0"/>
                    </a:moveTo>
                    <a:lnTo>
                      <a:pt x="39" y="19"/>
                    </a:lnTo>
                    <a:lnTo>
                      <a:pt x="20" y="39"/>
                    </a:lnTo>
                    <a:lnTo>
                      <a:pt x="0" y="1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3042360" y="5241240"/>
                <a:ext cx="68400" cy="65160"/>
              </a:xfrm>
              <a:custGeom>
                <a:avLst/>
                <a:gdLst/>
                <a:ahLst/>
                <a:rect l="l" t="t" r="r" b="b"/>
                <a:pathLst>
                  <a:path w="39" h="39">
                    <a:moveTo>
                      <a:pt x="20" y="0"/>
                    </a:moveTo>
                    <a:lnTo>
                      <a:pt x="39" y="19"/>
                    </a:lnTo>
                    <a:lnTo>
                      <a:pt x="20" y="39"/>
                    </a:lnTo>
                    <a:lnTo>
                      <a:pt x="0" y="1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3082320" y="5237640"/>
                <a:ext cx="68400" cy="65160"/>
              </a:xfrm>
              <a:custGeom>
                <a:avLst/>
                <a:gdLst/>
                <a:ahLst/>
                <a:rect l="l" t="t" r="r" b="b"/>
                <a:pathLst>
                  <a:path w="39" h="39">
                    <a:moveTo>
                      <a:pt x="20" y="0"/>
                    </a:moveTo>
                    <a:lnTo>
                      <a:pt x="39" y="20"/>
                    </a:lnTo>
                    <a:lnTo>
                      <a:pt x="20" y="39"/>
                    </a:lnTo>
                    <a:lnTo>
                      <a:pt x="0" y="2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3124800" y="5234400"/>
                <a:ext cx="66600" cy="65160"/>
              </a:xfrm>
              <a:custGeom>
                <a:avLst/>
                <a:gdLst/>
                <a:ahLst/>
                <a:rect l="l" t="t" r="r" b="b"/>
                <a:pathLst>
                  <a:path w="38" h="39">
                    <a:moveTo>
                      <a:pt x="19" y="0"/>
                    </a:moveTo>
                    <a:lnTo>
                      <a:pt x="38" y="20"/>
                    </a:lnTo>
                    <a:lnTo>
                      <a:pt x="19" y="39"/>
                    </a:lnTo>
                    <a:lnTo>
                      <a:pt x="0" y="2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3164760" y="5229360"/>
                <a:ext cx="66600" cy="6372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19" y="0"/>
                    </a:moveTo>
                    <a:lnTo>
                      <a:pt x="38" y="19"/>
                    </a:lnTo>
                    <a:lnTo>
                      <a:pt x="19" y="38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205440" y="5225760"/>
                <a:ext cx="66240" cy="6372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19" y="0"/>
                    </a:moveTo>
                    <a:lnTo>
                      <a:pt x="38" y="19"/>
                    </a:lnTo>
                    <a:lnTo>
                      <a:pt x="19" y="38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245760" y="5219280"/>
                <a:ext cx="66600" cy="6336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19" y="0"/>
                    </a:moveTo>
                    <a:lnTo>
                      <a:pt x="38" y="19"/>
                    </a:lnTo>
                    <a:lnTo>
                      <a:pt x="19" y="38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3282840" y="5212440"/>
                <a:ext cx="66240" cy="6372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19" y="0"/>
                    </a:moveTo>
                    <a:lnTo>
                      <a:pt x="38" y="19"/>
                    </a:lnTo>
                    <a:lnTo>
                      <a:pt x="19" y="38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323160" y="5205600"/>
                <a:ext cx="66600" cy="65160"/>
              </a:xfrm>
              <a:custGeom>
                <a:avLst/>
                <a:gdLst/>
                <a:ahLst/>
                <a:rect l="l" t="t" r="r" b="b"/>
                <a:pathLst>
                  <a:path w="38" h="39">
                    <a:moveTo>
                      <a:pt x="19" y="0"/>
                    </a:moveTo>
                    <a:lnTo>
                      <a:pt x="38" y="19"/>
                    </a:lnTo>
                    <a:lnTo>
                      <a:pt x="19" y="39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363480" y="5195880"/>
                <a:ext cx="66240" cy="65160"/>
              </a:xfrm>
              <a:custGeom>
                <a:avLst/>
                <a:gdLst/>
                <a:ahLst/>
                <a:rect l="l" t="t" r="r" b="b"/>
                <a:pathLst>
                  <a:path w="38" h="39">
                    <a:moveTo>
                      <a:pt x="19" y="0"/>
                    </a:moveTo>
                    <a:lnTo>
                      <a:pt x="38" y="20"/>
                    </a:lnTo>
                    <a:lnTo>
                      <a:pt x="19" y="39"/>
                    </a:lnTo>
                    <a:lnTo>
                      <a:pt x="0" y="2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403800" y="5187600"/>
                <a:ext cx="66600" cy="6336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19" y="0"/>
                    </a:moveTo>
                    <a:lnTo>
                      <a:pt x="38" y="19"/>
                    </a:lnTo>
                    <a:lnTo>
                      <a:pt x="19" y="38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444480" y="5177160"/>
                <a:ext cx="66240" cy="6372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19" y="0"/>
                    </a:moveTo>
                    <a:lnTo>
                      <a:pt x="38" y="19"/>
                    </a:lnTo>
                    <a:lnTo>
                      <a:pt x="19" y="38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3484800" y="5163840"/>
                <a:ext cx="66600" cy="65160"/>
              </a:xfrm>
              <a:custGeom>
                <a:avLst/>
                <a:gdLst/>
                <a:ahLst/>
                <a:rect l="l" t="t" r="r" b="b"/>
                <a:pathLst>
                  <a:path w="38" h="39">
                    <a:moveTo>
                      <a:pt x="19" y="0"/>
                    </a:moveTo>
                    <a:lnTo>
                      <a:pt x="38" y="19"/>
                    </a:lnTo>
                    <a:lnTo>
                      <a:pt x="19" y="39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3524760" y="5151960"/>
                <a:ext cx="66600" cy="6372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19" y="0"/>
                    </a:moveTo>
                    <a:lnTo>
                      <a:pt x="38" y="19"/>
                    </a:lnTo>
                    <a:lnTo>
                      <a:pt x="19" y="38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3561840" y="5138640"/>
                <a:ext cx="66600" cy="6372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19" y="0"/>
                    </a:moveTo>
                    <a:lnTo>
                      <a:pt x="38" y="19"/>
                    </a:lnTo>
                    <a:lnTo>
                      <a:pt x="19" y="38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602160" y="5122080"/>
                <a:ext cx="66600" cy="65160"/>
              </a:xfrm>
              <a:custGeom>
                <a:avLst/>
                <a:gdLst/>
                <a:ahLst/>
                <a:rect l="l" t="t" r="r" b="b"/>
                <a:pathLst>
                  <a:path w="38" h="39">
                    <a:moveTo>
                      <a:pt x="19" y="0"/>
                    </a:moveTo>
                    <a:lnTo>
                      <a:pt x="38" y="19"/>
                    </a:lnTo>
                    <a:lnTo>
                      <a:pt x="19" y="39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642840" y="5103360"/>
                <a:ext cx="66240" cy="6372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19" y="0"/>
                    </a:moveTo>
                    <a:lnTo>
                      <a:pt x="38" y="19"/>
                    </a:lnTo>
                    <a:lnTo>
                      <a:pt x="19" y="38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683160" y="5083200"/>
                <a:ext cx="68400" cy="65160"/>
              </a:xfrm>
              <a:custGeom>
                <a:avLst/>
                <a:gdLst/>
                <a:ahLst/>
                <a:rect l="l" t="t" r="r" b="b"/>
                <a:pathLst>
                  <a:path w="39" h="39">
                    <a:moveTo>
                      <a:pt x="19" y="0"/>
                    </a:moveTo>
                    <a:lnTo>
                      <a:pt x="39" y="19"/>
                    </a:lnTo>
                    <a:lnTo>
                      <a:pt x="19" y="39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723480" y="5061600"/>
                <a:ext cx="68400" cy="6372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19" y="0"/>
                    </a:moveTo>
                    <a:lnTo>
                      <a:pt x="39" y="19"/>
                    </a:lnTo>
                    <a:lnTo>
                      <a:pt x="19" y="38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763800" y="5034960"/>
                <a:ext cx="68400" cy="65160"/>
              </a:xfrm>
              <a:custGeom>
                <a:avLst/>
                <a:gdLst/>
                <a:ahLst/>
                <a:rect l="l" t="t" r="r" b="b"/>
                <a:pathLst>
                  <a:path w="39" h="39">
                    <a:moveTo>
                      <a:pt x="19" y="0"/>
                    </a:moveTo>
                    <a:lnTo>
                      <a:pt x="39" y="20"/>
                    </a:lnTo>
                    <a:lnTo>
                      <a:pt x="19" y="39"/>
                    </a:lnTo>
                    <a:lnTo>
                      <a:pt x="0" y="2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3804480" y="5009400"/>
                <a:ext cx="68400" cy="6372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19" y="0"/>
                    </a:moveTo>
                    <a:lnTo>
                      <a:pt x="39" y="19"/>
                    </a:lnTo>
                    <a:lnTo>
                      <a:pt x="19" y="38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3841200" y="4980960"/>
                <a:ext cx="68400" cy="6372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0" y="0"/>
                    </a:moveTo>
                    <a:lnTo>
                      <a:pt x="39" y="19"/>
                    </a:lnTo>
                    <a:lnTo>
                      <a:pt x="20" y="38"/>
                    </a:lnTo>
                    <a:lnTo>
                      <a:pt x="0" y="1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3881880" y="4946040"/>
                <a:ext cx="68400" cy="6336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0" y="0"/>
                    </a:moveTo>
                    <a:lnTo>
                      <a:pt x="39" y="19"/>
                    </a:lnTo>
                    <a:lnTo>
                      <a:pt x="20" y="38"/>
                    </a:lnTo>
                    <a:lnTo>
                      <a:pt x="0" y="1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3921840" y="4910760"/>
                <a:ext cx="68400" cy="6372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0" y="0"/>
                    </a:moveTo>
                    <a:lnTo>
                      <a:pt x="39" y="19"/>
                    </a:lnTo>
                    <a:lnTo>
                      <a:pt x="20" y="38"/>
                    </a:lnTo>
                    <a:lnTo>
                      <a:pt x="0" y="1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3962160" y="4872240"/>
                <a:ext cx="68400" cy="6336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0" y="0"/>
                    </a:moveTo>
                    <a:lnTo>
                      <a:pt x="39" y="19"/>
                    </a:lnTo>
                    <a:lnTo>
                      <a:pt x="20" y="38"/>
                    </a:lnTo>
                    <a:lnTo>
                      <a:pt x="0" y="1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002840" y="4826880"/>
                <a:ext cx="68400" cy="6336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0" y="0"/>
                    </a:moveTo>
                    <a:lnTo>
                      <a:pt x="39" y="19"/>
                    </a:lnTo>
                    <a:lnTo>
                      <a:pt x="20" y="38"/>
                    </a:lnTo>
                    <a:lnTo>
                      <a:pt x="0" y="1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4044960" y="4778280"/>
                <a:ext cx="66240" cy="6336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19" y="0"/>
                    </a:moveTo>
                    <a:lnTo>
                      <a:pt x="38" y="19"/>
                    </a:lnTo>
                    <a:lnTo>
                      <a:pt x="19" y="38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085280" y="4726080"/>
                <a:ext cx="66600" cy="65160"/>
              </a:xfrm>
              <a:custGeom>
                <a:avLst/>
                <a:gdLst/>
                <a:ahLst/>
                <a:rect l="l" t="t" r="r" b="b"/>
                <a:pathLst>
                  <a:path w="38" h="39">
                    <a:moveTo>
                      <a:pt x="19" y="0"/>
                    </a:moveTo>
                    <a:lnTo>
                      <a:pt x="38" y="19"/>
                    </a:lnTo>
                    <a:lnTo>
                      <a:pt x="19" y="39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4125960" y="4672440"/>
                <a:ext cx="66240" cy="6372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19" y="0"/>
                    </a:moveTo>
                    <a:lnTo>
                      <a:pt x="38" y="19"/>
                    </a:lnTo>
                    <a:lnTo>
                      <a:pt x="19" y="38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162680" y="4610520"/>
                <a:ext cx="66600" cy="6336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19" y="0"/>
                    </a:moveTo>
                    <a:lnTo>
                      <a:pt x="38" y="19"/>
                    </a:lnTo>
                    <a:lnTo>
                      <a:pt x="19" y="38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4203000" y="4543560"/>
                <a:ext cx="66240" cy="6336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19" y="0"/>
                    </a:moveTo>
                    <a:lnTo>
                      <a:pt x="38" y="19"/>
                    </a:lnTo>
                    <a:lnTo>
                      <a:pt x="19" y="38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243320" y="4473000"/>
                <a:ext cx="66600" cy="6372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19" y="0"/>
                    </a:moveTo>
                    <a:lnTo>
                      <a:pt x="38" y="19"/>
                    </a:lnTo>
                    <a:lnTo>
                      <a:pt x="19" y="38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4283640" y="4397760"/>
                <a:ext cx="66600" cy="65160"/>
              </a:xfrm>
              <a:custGeom>
                <a:avLst/>
                <a:gdLst/>
                <a:ahLst/>
                <a:rect l="l" t="t" r="r" b="b"/>
                <a:pathLst>
                  <a:path w="38" h="39">
                    <a:moveTo>
                      <a:pt x="19" y="0"/>
                    </a:moveTo>
                    <a:lnTo>
                      <a:pt x="38" y="20"/>
                    </a:lnTo>
                    <a:lnTo>
                      <a:pt x="19" y="39"/>
                    </a:lnTo>
                    <a:lnTo>
                      <a:pt x="0" y="2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324320" y="4317120"/>
                <a:ext cx="66240" cy="65160"/>
              </a:xfrm>
              <a:custGeom>
                <a:avLst/>
                <a:gdLst/>
                <a:ahLst/>
                <a:rect l="l" t="t" r="r" b="b"/>
                <a:pathLst>
                  <a:path w="38" h="39">
                    <a:moveTo>
                      <a:pt x="19" y="0"/>
                    </a:moveTo>
                    <a:lnTo>
                      <a:pt x="38" y="20"/>
                    </a:lnTo>
                    <a:lnTo>
                      <a:pt x="19" y="39"/>
                    </a:lnTo>
                    <a:lnTo>
                      <a:pt x="0" y="2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364640" y="4231440"/>
                <a:ext cx="66600" cy="6372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19" y="0"/>
                    </a:moveTo>
                    <a:lnTo>
                      <a:pt x="38" y="19"/>
                    </a:lnTo>
                    <a:lnTo>
                      <a:pt x="19" y="38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404960" y="4141080"/>
                <a:ext cx="66240" cy="6372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19" y="0"/>
                    </a:moveTo>
                    <a:lnTo>
                      <a:pt x="38" y="19"/>
                    </a:lnTo>
                    <a:lnTo>
                      <a:pt x="19" y="38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4441680" y="4047120"/>
                <a:ext cx="66600" cy="65160"/>
              </a:xfrm>
              <a:custGeom>
                <a:avLst/>
                <a:gdLst/>
                <a:ahLst/>
                <a:rect l="l" t="t" r="r" b="b"/>
                <a:pathLst>
                  <a:path w="38" h="39">
                    <a:moveTo>
                      <a:pt x="19" y="0"/>
                    </a:moveTo>
                    <a:lnTo>
                      <a:pt x="38" y="19"/>
                    </a:lnTo>
                    <a:lnTo>
                      <a:pt x="19" y="39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4482360" y="3948120"/>
                <a:ext cx="66240" cy="6372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19" y="0"/>
                    </a:moveTo>
                    <a:lnTo>
                      <a:pt x="38" y="19"/>
                    </a:lnTo>
                    <a:lnTo>
                      <a:pt x="19" y="38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4522680" y="3847320"/>
                <a:ext cx="66600" cy="65160"/>
              </a:xfrm>
              <a:custGeom>
                <a:avLst/>
                <a:gdLst/>
                <a:ahLst/>
                <a:rect l="l" t="t" r="r" b="b"/>
                <a:pathLst>
                  <a:path w="38" h="39">
                    <a:moveTo>
                      <a:pt x="19" y="0"/>
                    </a:moveTo>
                    <a:lnTo>
                      <a:pt x="38" y="19"/>
                    </a:lnTo>
                    <a:lnTo>
                      <a:pt x="19" y="39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4563360" y="3741840"/>
                <a:ext cx="68400" cy="6336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19" y="0"/>
                    </a:moveTo>
                    <a:lnTo>
                      <a:pt x="39" y="19"/>
                    </a:lnTo>
                    <a:lnTo>
                      <a:pt x="19" y="38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4603320" y="3636360"/>
                <a:ext cx="68400" cy="6336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19" y="0"/>
                    </a:moveTo>
                    <a:lnTo>
                      <a:pt x="39" y="19"/>
                    </a:lnTo>
                    <a:lnTo>
                      <a:pt x="19" y="38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643640" y="3529080"/>
                <a:ext cx="68400" cy="65160"/>
              </a:xfrm>
              <a:custGeom>
                <a:avLst/>
                <a:gdLst/>
                <a:ahLst/>
                <a:rect l="l" t="t" r="r" b="b"/>
                <a:pathLst>
                  <a:path w="39" h="39">
                    <a:moveTo>
                      <a:pt x="19" y="0"/>
                    </a:moveTo>
                    <a:lnTo>
                      <a:pt x="39" y="19"/>
                    </a:lnTo>
                    <a:lnTo>
                      <a:pt x="19" y="39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4684320" y="3420000"/>
                <a:ext cx="68400" cy="6372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19" y="0"/>
                    </a:moveTo>
                    <a:lnTo>
                      <a:pt x="39" y="19"/>
                    </a:lnTo>
                    <a:lnTo>
                      <a:pt x="19" y="38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4721040" y="3310920"/>
                <a:ext cx="68400" cy="6372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0" y="0"/>
                    </a:moveTo>
                    <a:lnTo>
                      <a:pt x="39" y="19"/>
                    </a:lnTo>
                    <a:lnTo>
                      <a:pt x="20" y="38"/>
                    </a:lnTo>
                    <a:lnTo>
                      <a:pt x="0" y="1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761360" y="3200040"/>
                <a:ext cx="68400" cy="65160"/>
              </a:xfrm>
              <a:custGeom>
                <a:avLst/>
                <a:gdLst/>
                <a:ahLst/>
                <a:rect l="l" t="t" r="r" b="b"/>
                <a:pathLst>
                  <a:path w="39" h="39">
                    <a:moveTo>
                      <a:pt x="20" y="0"/>
                    </a:moveTo>
                    <a:lnTo>
                      <a:pt x="39" y="20"/>
                    </a:lnTo>
                    <a:lnTo>
                      <a:pt x="20" y="39"/>
                    </a:lnTo>
                    <a:lnTo>
                      <a:pt x="0" y="2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801680" y="3091320"/>
                <a:ext cx="68400" cy="65160"/>
              </a:xfrm>
              <a:custGeom>
                <a:avLst/>
                <a:gdLst/>
                <a:ahLst/>
                <a:rect l="l" t="t" r="r" b="b"/>
                <a:pathLst>
                  <a:path w="39" h="39">
                    <a:moveTo>
                      <a:pt x="20" y="0"/>
                    </a:moveTo>
                    <a:lnTo>
                      <a:pt x="39" y="19"/>
                    </a:lnTo>
                    <a:lnTo>
                      <a:pt x="20" y="39"/>
                    </a:lnTo>
                    <a:lnTo>
                      <a:pt x="0" y="1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842360" y="2985480"/>
                <a:ext cx="68400" cy="6336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0" y="0"/>
                    </a:moveTo>
                    <a:lnTo>
                      <a:pt x="39" y="19"/>
                    </a:lnTo>
                    <a:lnTo>
                      <a:pt x="20" y="38"/>
                    </a:lnTo>
                    <a:lnTo>
                      <a:pt x="0" y="1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882680" y="2881440"/>
                <a:ext cx="68400" cy="65160"/>
              </a:xfrm>
              <a:custGeom>
                <a:avLst/>
                <a:gdLst/>
                <a:ahLst/>
                <a:rect l="l" t="t" r="r" b="b"/>
                <a:pathLst>
                  <a:path w="39" h="39">
                    <a:moveTo>
                      <a:pt x="20" y="0"/>
                    </a:moveTo>
                    <a:lnTo>
                      <a:pt x="39" y="20"/>
                    </a:lnTo>
                    <a:lnTo>
                      <a:pt x="20" y="39"/>
                    </a:lnTo>
                    <a:lnTo>
                      <a:pt x="0" y="2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924800" y="2782440"/>
                <a:ext cx="66600" cy="6372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19" y="0"/>
                    </a:moveTo>
                    <a:lnTo>
                      <a:pt x="38" y="19"/>
                    </a:lnTo>
                    <a:lnTo>
                      <a:pt x="19" y="38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965120" y="2685600"/>
                <a:ext cx="66600" cy="65160"/>
              </a:xfrm>
              <a:custGeom>
                <a:avLst/>
                <a:gdLst/>
                <a:ahLst/>
                <a:rect l="l" t="t" r="r" b="b"/>
                <a:pathLst>
                  <a:path w="38" h="39">
                    <a:moveTo>
                      <a:pt x="19" y="0"/>
                    </a:moveTo>
                    <a:lnTo>
                      <a:pt x="38" y="19"/>
                    </a:lnTo>
                    <a:lnTo>
                      <a:pt x="19" y="39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5002200" y="2593080"/>
                <a:ext cx="66600" cy="6372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19" y="0"/>
                    </a:moveTo>
                    <a:lnTo>
                      <a:pt x="38" y="19"/>
                    </a:lnTo>
                    <a:lnTo>
                      <a:pt x="19" y="38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042160" y="2505960"/>
                <a:ext cx="66600" cy="6336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19" y="0"/>
                    </a:moveTo>
                    <a:lnTo>
                      <a:pt x="38" y="19"/>
                    </a:lnTo>
                    <a:lnTo>
                      <a:pt x="19" y="38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082840" y="2422080"/>
                <a:ext cx="66240" cy="6372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19" y="0"/>
                    </a:moveTo>
                    <a:lnTo>
                      <a:pt x="38" y="19"/>
                    </a:lnTo>
                    <a:lnTo>
                      <a:pt x="19" y="38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5123160" y="2344680"/>
                <a:ext cx="66600" cy="6372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19" y="0"/>
                    </a:moveTo>
                    <a:lnTo>
                      <a:pt x="38" y="19"/>
                    </a:lnTo>
                    <a:lnTo>
                      <a:pt x="19" y="38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163840" y="2270880"/>
                <a:ext cx="66240" cy="6372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19" y="0"/>
                    </a:moveTo>
                    <a:lnTo>
                      <a:pt x="38" y="19"/>
                    </a:lnTo>
                    <a:lnTo>
                      <a:pt x="19" y="38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204160" y="2199240"/>
                <a:ext cx="66600" cy="65160"/>
              </a:xfrm>
              <a:custGeom>
                <a:avLst/>
                <a:gdLst/>
                <a:ahLst/>
                <a:rect l="l" t="t" r="r" b="b"/>
                <a:pathLst>
                  <a:path w="38" h="39">
                    <a:moveTo>
                      <a:pt x="19" y="0"/>
                    </a:moveTo>
                    <a:lnTo>
                      <a:pt x="38" y="20"/>
                    </a:lnTo>
                    <a:lnTo>
                      <a:pt x="19" y="39"/>
                    </a:lnTo>
                    <a:lnTo>
                      <a:pt x="0" y="2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244480" y="2135160"/>
                <a:ext cx="66240" cy="6372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19" y="0"/>
                    </a:moveTo>
                    <a:lnTo>
                      <a:pt x="38" y="19"/>
                    </a:lnTo>
                    <a:lnTo>
                      <a:pt x="19" y="38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281200" y="2078280"/>
                <a:ext cx="66600" cy="6372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19" y="0"/>
                    </a:moveTo>
                    <a:lnTo>
                      <a:pt x="38" y="19"/>
                    </a:lnTo>
                    <a:lnTo>
                      <a:pt x="19" y="38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5321880" y="2023200"/>
                <a:ext cx="66240" cy="6336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19" y="0"/>
                    </a:moveTo>
                    <a:lnTo>
                      <a:pt x="38" y="19"/>
                    </a:lnTo>
                    <a:lnTo>
                      <a:pt x="19" y="38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5362200" y="1971000"/>
                <a:ext cx="66600" cy="65160"/>
              </a:xfrm>
              <a:custGeom>
                <a:avLst/>
                <a:gdLst/>
                <a:ahLst/>
                <a:rect l="l" t="t" r="r" b="b"/>
                <a:pathLst>
                  <a:path w="38" h="39">
                    <a:moveTo>
                      <a:pt x="19" y="0"/>
                    </a:moveTo>
                    <a:lnTo>
                      <a:pt x="38" y="19"/>
                    </a:lnTo>
                    <a:lnTo>
                      <a:pt x="19" y="39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5402520" y="1925640"/>
                <a:ext cx="66600" cy="65160"/>
              </a:xfrm>
              <a:custGeom>
                <a:avLst/>
                <a:gdLst/>
                <a:ahLst/>
                <a:rect l="l" t="t" r="r" b="b"/>
                <a:pathLst>
                  <a:path w="38" h="39">
                    <a:moveTo>
                      <a:pt x="19" y="0"/>
                    </a:moveTo>
                    <a:lnTo>
                      <a:pt x="38" y="20"/>
                    </a:lnTo>
                    <a:lnTo>
                      <a:pt x="19" y="39"/>
                    </a:lnTo>
                    <a:lnTo>
                      <a:pt x="0" y="2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442840" y="1883880"/>
                <a:ext cx="68400" cy="65160"/>
              </a:xfrm>
              <a:custGeom>
                <a:avLst/>
                <a:gdLst/>
                <a:ahLst/>
                <a:rect l="l" t="t" r="r" b="b"/>
                <a:pathLst>
                  <a:path w="39" h="39">
                    <a:moveTo>
                      <a:pt x="19" y="0"/>
                    </a:moveTo>
                    <a:lnTo>
                      <a:pt x="39" y="20"/>
                    </a:lnTo>
                    <a:lnTo>
                      <a:pt x="19" y="39"/>
                    </a:lnTo>
                    <a:lnTo>
                      <a:pt x="0" y="2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483160" y="1845000"/>
                <a:ext cx="68400" cy="65160"/>
              </a:xfrm>
              <a:custGeom>
                <a:avLst/>
                <a:gdLst/>
                <a:ahLst/>
                <a:rect l="l" t="t" r="r" b="b"/>
                <a:pathLst>
                  <a:path w="39" h="39">
                    <a:moveTo>
                      <a:pt x="19" y="0"/>
                    </a:moveTo>
                    <a:lnTo>
                      <a:pt x="39" y="20"/>
                    </a:lnTo>
                    <a:lnTo>
                      <a:pt x="19" y="39"/>
                    </a:lnTo>
                    <a:lnTo>
                      <a:pt x="0" y="2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523840" y="1810080"/>
                <a:ext cx="68400" cy="65160"/>
              </a:xfrm>
              <a:custGeom>
                <a:avLst/>
                <a:gdLst/>
                <a:ahLst/>
                <a:rect l="l" t="t" r="r" b="b"/>
                <a:pathLst>
                  <a:path w="39" h="39">
                    <a:moveTo>
                      <a:pt x="19" y="0"/>
                    </a:moveTo>
                    <a:lnTo>
                      <a:pt x="39" y="19"/>
                    </a:lnTo>
                    <a:lnTo>
                      <a:pt x="19" y="39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560560" y="1778040"/>
                <a:ext cx="68400" cy="6336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19" y="0"/>
                    </a:moveTo>
                    <a:lnTo>
                      <a:pt x="39" y="19"/>
                    </a:lnTo>
                    <a:lnTo>
                      <a:pt x="19" y="38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601240" y="1749600"/>
                <a:ext cx="68400" cy="6336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0" y="0"/>
                    </a:moveTo>
                    <a:lnTo>
                      <a:pt x="39" y="19"/>
                    </a:lnTo>
                    <a:lnTo>
                      <a:pt x="20" y="38"/>
                    </a:lnTo>
                    <a:lnTo>
                      <a:pt x="0" y="1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641200" y="1722600"/>
                <a:ext cx="68400" cy="65160"/>
              </a:xfrm>
              <a:custGeom>
                <a:avLst/>
                <a:gdLst/>
                <a:ahLst/>
                <a:rect l="l" t="t" r="r" b="b"/>
                <a:pathLst>
                  <a:path w="39" h="39">
                    <a:moveTo>
                      <a:pt x="20" y="0"/>
                    </a:moveTo>
                    <a:lnTo>
                      <a:pt x="39" y="20"/>
                    </a:lnTo>
                    <a:lnTo>
                      <a:pt x="20" y="39"/>
                    </a:lnTo>
                    <a:lnTo>
                      <a:pt x="0" y="2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681880" y="1697760"/>
                <a:ext cx="68400" cy="6372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0" y="0"/>
                    </a:moveTo>
                    <a:lnTo>
                      <a:pt x="39" y="19"/>
                    </a:lnTo>
                    <a:lnTo>
                      <a:pt x="20" y="38"/>
                    </a:lnTo>
                    <a:lnTo>
                      <a:pt x="0" y="1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722200" y="1679400"/>
                <a:ext cx="68400" cy="6336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0" y="0"/>
                    </a:moveTo>
                    <a:lnTo>
                      <a:pt x="39" y="19"/>
                    </a:lnTo>
                    <a:lnTo>
                      <a:pt x="20" y="38"/>
                    </a:lnTo>
                    <a:lnTo>
                      <a:pt x="0" y="1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762520" y="1659240"/>
                <a:ext cx="68400" cy="6336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0" y="0"/>
                    </a:moveTo>
                    <a:lnTo>
                      <a:pt x="39" y="19"/>
                    </a:lnTo>
                    <a:lnTo>
                      <a:pt x="20" y="38"/>
                    </a:lnTo>
                    <a:lnTo>
                      <a:pt x="0" y="1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5802840" y="1639080"/>
                <a:ext cx="68400" cy="65160"/>
              </a:xfrm>
              <a:custGeom>
                <a:avLst/>
                <a:gdLst/>
                <a:ahLst/>
                <a:rect l="l" t="t" r="r" b="b"/>
                <a:pathLst>
                  <a:path w="39" h="39">
                    <a:moveTo>
                      <a:pt x="20" y="0"/>
                    </a:moveTo>
                    <a:lnTo>
                      <a:pt x="39" y="20"/>
                    </a:lnTo>
                    <a:lnTo>
                      <a:pt x="20" y="39"/>
                    </a:lnTo>
                    <a:lnTo>
                      <a:pt x="0" y="2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845320" y="1627200"/>
                <a:ext cx="66240" cy="6372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19" y="0"/>
                    </a:moveTo>
                    <a:lnTo>
                      <a:pt x="38" y="19"/>
                    </a:lnTo>
                    <a:lnTo>
                      <a:pt x="19" y="38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881680" y="1610640"/>
                <a:ext cx="66600" cy="65160"/>
              </a:xfrm>
              <a:custGeom>
                <a:avLst/>
                <a:gdLst/>
                <a:ahLst/>
                <a:rect l="l" t="t" r="r" b="b"/>
                <a:pathLst>
                  <a:path w="38" h="39">
                    <a:moveTo>
                      <a:pt x="19" y="0"/>
                    </a:moveTo>
                    <a:lnTo>
                      <a:pt x="38" y="19"/>
                    </a:lnTo>
                    <a:lnTo>
                      <a:pt x="19" y="39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922360" y="1598760"/>
                <a:ext cx="66240" cy="6372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19" y="0"/>
                    </a:moveTo>
                    <a:lnTo>
                      <a:pt x="38" y="19"/>
                    </a:lnTo>
                    <a:lnTo>
                      <a:pt x="19" y="38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962680" y="1588680"/>
                <a:ext cx="66600" cy="6336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19" y="0"/>
                    </a:moveTo>
                    <a:lnTo>
                      <a:pt x="38" y="19"/>
                    </a:lnTo>
                    <a:lnTo>
                      <a:pt x="19" y="38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003360" y="1578600"/>
                <a:ext cx="66240" cy="6372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19" y="0"/>
                    </a:moveTo>
                    <a:lnTo>
                      <a:pt x="38" y="19"/>
                    </a:lnTo>
                    <a:lnTo>
                      <a:pt x="19" y="38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6043680" y="1568520"/>
                <a:ext cx="66600" cy="65160"/>
              </a:xfrm>
              <a:custGeom>
                <a:avLst/>
                <a:gdLst/>
                <a:ahLst/>
                <a:rect l="l" t="t" r="r" b="b"/>
                <a:pathLst>
                  <a:path w="38" h="39">
                    <a:moveTo>
                      <a:pt x="19" y="0"/>
                    </a:moveTo>
                    <a:lnTo>
                      <a:pt x="38" y="19"/>
                    </a:lnTo>
                    <a:lnTo>
                      <a:pt x="19" y="39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6083640" y="1561680"/>
                <a:ext cx="66600" cy="65160"/>
              </a:xfrm>
              <a:custGeom>
                <a:avLst/>
                <a:gdLst/>
                <a:ahLst/>
                <a:rect l="l" t="t" r="r" b="b"/>
                <a:pathLst>
                  <a:path w="38" h="39">
                    <a:moveTo>
                      <a:pt x="19" y="0"/>
                    </a:moveTo>
                    <a:lnTo>
                      <a:pt x="38" y="20"/>
                    </a:lnTo>
                    <a:lnTo>
                      <a:pt x="19" y="39"/>
                    </a:lnTo>
                    <a:lnTo>
                      <a:pt x="0" y="2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6124320" y="1553400"/>
                <a:ext cx="66240" cy="6372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19" y="0"/>
                    </a:moveTo>
                    <a:lnTo>
                      <a:pt x="38" y="19"/>
                    </a:lnTo>
                    <a:lnTo>
                      <a:pt x="19" y="38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6161040" y="1546560"/>
                <a:ext cx="66600" cy="6372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19" y="0"/>
                    </a:moveTo>
                    <a:lnTo>
                      <a:pt x="38" y="19"/>
                    </a:lnTo>
                    <a:lnTo>
                      <a:pt x="19" y="38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6201720" y="1543680"/>
                <a:ext cx="66240" cy="6336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19" y="0"/>
                    </a:moveTo>
                    <a:lnTo>
                      <a:pt x="38" y="19"/>
                    </a:lnTo>
                    <a:lnTo>
                      <a:pt x="19" y="38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6242040" y="1536840"/>
                <a:ext cx="66600" cy="6336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19" y="0"/>
                    </a:moveTo>
                    <a:lnTo>
                      <a:pt x="38" y="19"/>
                    </a:lnTo>
                    <a:lnTo>
                      <a:pt x="19" y="38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282360" y="1533240"/>
                <a:ext cx="66240" cy="65160"/>
              </a:xfrm>
              <a:custGeom>
                <a:avLst/>
                <a:gdLst/>
                <a:ahLst/>
                <a:rect l="l" t="t" r="r" b="b"/>
                <a:pathLst>
                  <a:path w="38" h="39">
                    <a:moveTo>
                      <a:pt x="19" y="0"/>
                    </a:moveTo>
                    <a:lnTo>
                      <a:pt x="38" y="19"/>
                    </a:lnTo>
                    <a:lnTo>
                      <a:pt x="19" y="39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6322680" y="1526400"/>
                <a:ext cx="66600" cy="65160"/>
              </a:xfrm>
              <a:custGeom>
                <a:avLst/>
                <a:gdLst/>
                <a:ahLst/>
                <a:rect l="l" t="t" r="r" b="b"/>
                <a:pathLst>
                  <a:path w="38" h="39">
                    <a:moveTo>
                      <a:pt x="19" y="0"/>
                    </a:moveTo>
                    <a:lnTo>
                      <a:pt x="38" y="20"/>
                    </a:lnTo>
                    <a:lnTo>
                      <a:pt x="19" y="39"/>
                    </a:lnTo>
                    <a:lnTo>
                      <a:pt x="0" y="2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6363360" y="1523520"/>
                <a:ext cx="68400" cy="65160"/>
              </a:xfrm>
              <a:custGeom>
                <a:avLst/>
                <a:gdLst/>
                <a:ahLst/>
                <a:rect l="l" t="t" r="r" b="b"/>
                <a:pathLst>
                  <a:path w="39" h="39">
                    <a:moveTo>
                      <a:pt x="19" y="0"/>
                    </a:moveTo>
                    <a:lnTo>
                      <a:pt x="39" y="20"/>
                    </a:lnTo>
                    <a:lnTo>
                      <a:pt x="19" y="39"/>
                    </a:lnTo>
                    <a:lnTo>
                      <a:pt x="0" y="2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6403680" y="1519920"/>
                <a:ext cx="68400" cy="65160"/>
              </a:xfrm>
              <a:custGeom>
                <a:avLst/>
                <a:gdLst/>
                <a:ahLst/>
                <a:rect l="l" t="t" r="r" b="b"/>
                <a:pathLst>
                  <a:path w="39" h="39">
                    <a:moveTo>
                      <a:pt x="19" y="0"/>
                    </a:moveTo>
                    <a:lnTo>
                      <a:pt x="39" y="20"/>
                    </a:lnTo>
                    <a:lnTo>
                      <a:pt x="19" y="39"/>
                    </a:lnTo>
                    <a:lnTo>
                      <a:pt x="0" y="2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6440760" y="1518120"/>
                <a:ext cx="68400" cy="6372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19" y="0"/>
                    </a:moveTo>
                    <a:lnTo>
                      <a:pt x="39" y="19"/>
                    </a:lnTo>
                    <a:lnTo>
                      <a:pt x="19" y="38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6480720" y="1518120"/>
                <a:ext cx="68400" cy="6372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0" y="0"/>
                    </a:moveTo>
                    <a:lnTo>
                      <a:pt x="39" y="19"/>
                    </a:lnTo>
                    <a:lnTo>
                      <a:pt x="20" y="38"/>
                    </a:lnTo>
                    <a:lnTo>
                      <a:pt x="0" y="1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6521040" y="1514880"/>
                <a:ext cx="68400" cy="6336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0" y="0"/>
                    </a:moveTo>
                    <a:lnTo>
                      <a:pt x="39" y="19"/>
                    </a:lnTo>
                    <a:lnTo>
                      <a:pt x="20" y="38"/>
                    </a:lnTo>
                    <a:lnTo>
                      <a:pt x="0" y="1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6561720" y="1511640"/>
                <a:ext cx="68400" cy="6336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0" y="0"/>
                    </a:moveTo>
                    <a:lnTo>
                      <a:pt x="39" y="19"/>
                    </a:lnTo>
                    <a:lnTo>
                      <a:pt x="20" y="38"/>
                    </a:lnTo>
                    <a:lnTo>
                      <a:pt x="0" y="1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6602040" y="1511640"/>
                <a:ext cx="68400" cy="6336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0" y="0"/>
                    </a:moveTo>
                    <a:lnTo>
                      <a:pt x="39" y="19"/>
                    </a:lnTo>
                    <a:lnTo>
                      <a:pt x="20" y="38"/>
                    </a:lnTo>
                    <a:lnTo>
                      <a:pt x="0" y="1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642720" y="1508040"/>
                <a:ext cx="68400" cy="6336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0" y="0"/>
                    </a:moveTo>
                    <a:lnTo>
                      <a:pt x="39" y="19"/>
                    </a:lnTo>
                    <a:lnTo>
                      <a:pt x="20" y="38"/>
                    </a:lnTo>
                    <a:lnTo>
                      <a:pt x="0" y="1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6682680" y="1508040"/>
                <a:ext cx="68400" cy="6336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0" y="0"/>
                    </a:moveTo>
                    <a:lnTo>
                      <a:pt x="39" y="19"/>
                    </a:lnTo>
                    <a:lnTo>
                      <a:pt x="20" y="38"/>
                    </a:lnTo>
                    <a:lnTo>
                      <a:pt x="0" y="1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6721560" y="1504800"/>
                <a:ext cx="66600" cy="6372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19" y="0"/>
                    </a:moveTo>
                    <a:lnTo>
                      <a:pt x="38" y="19"/>
                    </a:lnTo>
                    <a:lnTo>
                      <a:pt x="19" y="38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6761880" y="1504800"/>
                <a:ext cx="66240" cy="6372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19" y="0"/>
                    </a:moveTo>
                    <a:lnTo>
                      <a:pt x="38" y="19"/>
                    </a:lnTo>
                    <a:lnTo>
                      <a:pt x="19" y="38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802200" y="1504800"/>
                <a:ext cx="66600" cy="6372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19" y="0"/>
                    </a:moveTo>
                    <a:lnTo>
                      <a:pt x="38" y="19"/>
                    </a:lnTo>
                    <a:lnTo>
                      <a:pt x="19" y="38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842520" y="1501200"/>
                <a:ext cx="66600" cy="6372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19" y="0"/>
                    </a:moveTo>
                    <a:lnTo>
                      <a:pt x="38" y="19"/>
                    </a:lnTo>
                    <a:lnTo>
                      <a:pt x="19" y="38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883200" y="1501200"/>
                <a:ext cx="66240" cy="6372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19" y="0"/>
                    </a:moveTo>
                    <a:lnTo>
                      <a:pt x="38" y="19"/>
                    </a:lnTo>
                    <a:lnTo>
                      <a:pt x="19" y="38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923160" y="1501200"/>
                <a:ext cx="66600" cy="6372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19" y="0"/>
                    </a:moveTo>
                    <a:lnTo>
                      <a:pt x="38" y="19"/>
                    </a:lnTo>
                    <a:lnTo>
                      <a:pt x="19" y="38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6963840" y="1501200"/>
                <a:ext cx="66240" cy="6372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19" y="0"/>
                    </a:moveTo>
                    <a:lnTo>
                      <a:pt x="38" y="19"/>
                    </a:lnTo>
                    <a:lnTo>
                      <a:pt x="19" y="38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7000560" y="1497960"/>
                <a:ext cx="66600" cy="6372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19" y="0"/>
                    </a:moveTo>
                    <a:lnTo>
                      <a:pt x="38" y="19"/>
                    </a:lnTo>
                    <a:lnTo>
                      <a:pt x="19" y="38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041240" y="1497960"/>
                <a:ext cx="66240" cy="6372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19" y="0"/>
                    </a:moveTo>
                    <a:lnTo>
                      <a:pt x="38" y="19"/>
                    </a:lnTo>
                    <a:lnTo>
                      <a:pt x="19" y="38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081560" y="1497960"/>
                <a:ext cx="66600" cy="6372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19" y="0"/>
                    </a:moveTo>
                    <a:lnTo>
                      <a:pt x="38" y="19"/>
                    </a:lnTo>
                    <a:lnTo>
                      <a:pt x="19" y="38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121880" y="1497960"/>
                <a:ext cx="66240" cy="6372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19" y="0"/>
                    </a:moveTo>
                    <a:lnTo>
                      <a:pt x="38" y="19"/>
                    </a:lnTo>
                    <a:lnTo>
                      <a:pt x="19" y="38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7162200" y="1497960"/>
                <a:ext cx="66600" cy="6372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19" y="0"/>
                    </a:moveTo>
                    <a:lnTo>
                      <a:pt x="38" y="19"/>
                    </a:lnTo>
                    <a:lnTo>
                      <a:pt x="19" y="38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202520" y="1497960"/>
                <a:ext cx="66600" cy="6372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19" y="0"/>
                    </a:moveTo>
                    <a:lnTo>
                      <a:pt x="38" y="19"/>
                    </a:lnTo>
                    <a:lnTo>
                      <a:pt x="19" y="38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243200" y="1497960"/>
                <a:ext cx="68400" cy="6372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19" y="0"/>
                    </a:moveTo>
                    <a:lnTo>
                      <a:pt x="39" y="19"/>
                    </a:lnTo>
                    <a:lnTo>
                      <a:pt x="19" y="38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7279920" y="1497960"/>
                <a:ext cx="68400" cy="6372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19" y="0"/>
                    </a:moveTo>
                    <a:lnTo>
                      <a:pt x="39" y="19"/>
                    </a:lnTo>
                    <a:lnTo>
                      <a:pt x="19" y="38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7320240" y="1497960"/>
                <a:ext cx="68400" cy="6372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19" y="0"/>
                    </a:moveTo>
                    <a:lnTo>
                      <a:pt x="39" y="19"/>
                    </a:lnTo>
                    <a:lnTo>
                      <a:pt x="19" y="38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7360560" y="1495080"/>
                <a:ext cx="68400" cy="65160"/>
              </a:xfrm>
              <a:custGeom>
                <a:avLst/>
                <a:gdLst/>
                <a:ahLst/>
                <a:rect l="l" t="t" r="r" b="b"/>
                <a:pathLst>
                  <a:path w="39" h="39">
                    <a:moveTo>
                      <a:pt x="19" y="0"/>
                    </a:moveTo>
                    <a:lnTo>
                      <a:pt x="39" y="19"/>
                    </a:lnTo>
                    <a:lnTo>
                      <a:pt x="19" y="39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401240" y="1495080"/>
                <a:ext cx="68400" cy="65160"/>
              </a:xfrm>
              <a:custGeom>
                <a:avLst/>
                <a:gdLst/>
                <a:ahLst/>
                <a:rect l="l" t="t" r="r" b="b"/>
                <a:pathLst>
                  <a:path w="39" h="39">
                    <a:moveTo>
                      <a:pt x="20" y="0"/>
                    </a:moveTo>
                    <a:lnTo>
                      <a:pt x="39" y="19"/>
                    </a:lnTo>
                    <a:lnTo>
                      <a:pt x="20" y="39"/>
                    </a:lnTo>
                    <a:lnTo>
                      <a:pt x="0" y="1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7441560" y="1495080"/>
                <a:ext cx="68400" cy="65160"/>
              </a:xfrm>
              <a:custGeom>
                <a:avLst/>
                <a:gdLst/>
                <a:ahLst/>
                <a:rect l="l" t="t" r="r" b="b"/>
                <a:pathLst>
                  <a:path w="39" h="39">
                    <a:moveTo>
                      <a:pt x="20" y="0"/>
                    </a:moveTo>
                    <a:lnTo>
                      <a:pt x="39" y="19"/>
                    </a:lnTo>
                    <a:lnTo>
                      <a:pt x="20" y="39"/>
                    </a:lnTo>
                    <a:lnTo>
                      <a:pt x="0" y="1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482240" y="1495080"/>
                <a:ext cx="68040" cy="65160"/>
              </a:xfrm>
              <a:custGeom>
                <a:avLst/>
                <a:gdLst/>
                <a:ahLst/>
                <a:rect l="l" t="t" r="r" b="b"/>
                <a:pathLst>
                  <a:path w="39" h="39">
                    <a:moveTo>
                      <a:pt x="20" y="0"/>
                    </a:moveTo>
                    <a:lnTo>
                      <a:pt x="39" y="19"/>
                    </a:lnTo>
                    <a:lnTo>
                      <a:pt x="20" y="39"/>
                    </a:lnTo>
                    <a:lnTo>
                      <a:pt x="0" y="1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522200" y="1495080"/>
                <a:ext cx="68400" cy="65160"/>
              </a:xfrm>
              <a:custGeom>
                <a:avLst/>
                <a:gdLst/>
                <a:ahLst/>
                <a:rect l="l" t="t" r="r" b="b"/>
                <a:pathLst>
                  <a:path w="39" h="39">
                    <a:moveTo>
                      <a:pt x="20" y="0"/>
                    </a:moveTo>
                    <a:lnTo>
                      <a:pt x="39" y="19"/>
                    </a:lnTo>
                    <a:lnTo>
                      <a:pt x="20" y="39"/>
                    </a:lnTo>
                    <a:lnTo>
                      <a:pt x="0" y="1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7561080" y="1495080"/>
                <a:ext cx="66600" cy="65160"/>
              </a:xfrm>
              <a:custGeom>
                <a:avLst/>
                <a:gdLst/>
                <a:ahLst/>
                <a:rect l="l" t="t" r="r" b="b"/>
                <a:pathLst>
                  <a:path w="38" h="39">
                    <a:moveTo>
                      <a:pt x="19" y="0"/>
                    </a:moveTo>
                    <a:lnTo>
                      <a:pt x="38" y="19"/>
                    </a:lnTo>
                    <a:lnTo>
                      <a:pt x="19" y="39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01040" y="1495080"/>
                <a:ext cx="66600" cy="65160"/>
              </a:xfrm>
              <a:custGeom>
                <a:avLst/>
                <a:gdLst/>
                <a:ahLst/>
                <a:rect l="l" t="t" r="r" b="b"/>
                <a:pathLst>
                  <a:path w="38" h="39">
                    <a:moveTo>
                      <a:pt x="19" y="0"/>
                    </a:moveTo>
                    <a:lnTo>
                      <a:pt x="38" y="19"/>
                    </a:lnTo>
                    <a:lnTo>
                      <a:pt x="19" y="39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7641720" y="1495080"/>
                <a:ext cx="66240" cy="65160"/>
              </a:xfrm>
              <a:custGeom>
                <a:avLst/>
                <a:gdLst/>
                <a:ahLst/>
                <a:rect l="l" t="t" r="r" b="b"/>
                <a:pathLst>
                  <a:path w="38" h="39">
                    <a:moveTo>
                      <a:pt x="19" y="0"/>
                    </a:moveTo>
                    <a:lnTo>
                      <a:pt x="38" y="19"/>
                    </a:lnTo>
                    <a:lnTo>
                      <a:pt x="19" y="39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7682040" y="1495080"/>
                <a:ext cx="66600" cy="65160"/>
              </a:xfrm>
              <a:custGeom>
                <a:avLst/>
                <a:gdLst/>
                <a:ahLst/>
                <a:rect l="l" t="t" r="r" b="b"/>
                <a:pathLst>
                  <a:path w="38" h="39">
                    <a:moveTo>
                      <a:pt x="19" y="0"/>
                    </a:moveTo>
                    <a:lnTo>
                      <a:pt x="38" y="19"/>
                    </a:lnTo>
                    <a:lnTo>
                      <a:pt x="19" y="39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722720" y="1495080"/>
                <a:ext cx="66240" cy="65160"/>
              </a:xfrm>
              <a:custGeom>
                <a:avLst/>
                <a:gdLst/>
                <a:ahLst/>
                <a:rect l="l" t="t" r="r" b="b"/>
                <a:pathLst>
                  <a:path w="38" h="39">
                    <a:moveTo>
                      <a:pt x="19" y="0"/>
                    </a:moveTo>
                    <a:lnTo>
                      <a:pt x="38" y="19"/>
                    </a:lnTo>
                    <a:lnTo>
                      <a:pt x="19" y="39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763040" y="1495080"/>
                <a:ext cx="66600" cy="65160"/>
              </a:xfrm>
              <a:custGeom>
                <a:avLst/>
                <a:gdLst/>
                <a:ahLst/>
                <a:rect l="l" t="t" r="r" b="b"/>
                <a:pathLst>
                  <a:path w="38" h="39">
                    <a:moveTo>
                      <a:pt x="19" y="0"/>
                    </a:moveTo>
                    <a:lnTo>
                      <a:pt x="38" y="19"/>
                    </a:lnTo>
                    <a:lnTo>
                      <a:pt x="19" y="39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7803000" y="1495080"/>
                <a:ext cx="66600" cy="65160"/>
              </a:xfrm>
              <a:custGeom>
                <a:avLst/>
                <a:gdLst/>
                <a:ahLst/>
                <a:rect l="l" t="t" r="r" b="b"/>
                <a:pathLst>
                  <a:path w="38" h="39">
                    <a:moveTo>
                      <a:pt x="19" y="0"/>
                    </a:moveTo>
                    <a:lnTo>
                      <a:pt x="38" y="19"/>
                    </a:lnTo>
                    <a:lnTo>
                      <a:pt x="19" y="39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7840080" y="1495080"/>
                <a:ext cx="66600" cy="65160"/>
              </a:xfrm>
              <a:custGeom>
                <a:avLst/>
                <a:gdLst/>
                <a:ahLst/>
                <a:rect l="l" t="t" r="r" b="b"/>
                <a:pathLst>
                  <a:path w="38" h="39">
                    <a:moveTo>
                      <a:pt x="19" y="0"/>
                    </a:moveTo>
                    <a:lnTo>
                      <a:pt x="38" y="19"/>
                    </a:lnTo>
                    <a:lnTo>
                      <a:pt x="19" y="39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80760" y="1495080"/>
                <a:ext cx="66240" cy="65160"/>
              </a:xfrm>
              <a:custGeom>
                <a:avLst/>
                <a:gdLst/>
                <a:ahLst/>
                <a:rect l="l" t="t" r="r" b="b"/>
                <a:pathLst>
                  <a:path w="38" h="39">
                    <a:moveTo>
                      <a:pt x="19" y="0"/>
                    </a:moveTo>
                    <a:lnTo>
                      <a:pt x="38" y="19"/>
                    </a:lnTo>
                    <a:lnTo>
                      <a:pt x="19" y="39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1080" y="1495080"/>
                <a:ext cx="66600" cy="65160"/>
              </a:xfrm>
              <a:custGeom>
                <a:avLst/>
                <a:gdLst/>
                <a:ahLst/>
                <a:rect l="l" t="t" r="r" b="b"/>
                <a:pathLst>
                  <a:path w="38" h="39">
                    <a:moveTo>
                      <a:pt x="19" y="0"/>
                    </a:moveTo>
                    <a:lnTo>
                      <a:pt x="38" y="19"/>
                    </a:lnTo>
                    <a:lnTo>
                      <a:pt x="19" y="39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7961040" y="1495080"/>
                <a:ext cx="66600" cy="65160"/>
              </a:xfrm>
              <a:custGeom>
                <a:avLst/>
                <a:gdLst/>
                <a:ahLst/>
                <a:rect l="l" t="t" r="r" b="b"/>
                <a:pathLst>
                  <a:path w="38" h="39">
                    <a:moveTo>
                      <a:pt x="19" y="0"/>
                    </a:moveTo>
                    <a:lnTo>
                      <a:pt x="38" y="19"/>
                    </a:lnTo>
                    <a:lnTo>
                      <a:pt x="19" y="39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8001720" y="1495080"/>
                <a:ext cx="66240" cy="65160"/>
              </a:xfrm>
              <a:custGeom>
                <a:avLst/>
                <a:gdLst/>
                <a:ahLst/>
                <a:rect l="l" t="t" r="r" b="b"/>
                <a:pathLst>
                  <a:path w="38" h="39">
                    <a:moveTo>
                      <a:pt x="19" y="0"/>
                    </a:moveTo>
                    <a:lnTo>
                      <a:pt x="38" y="19"/>
                    </a:lnTo>
                    <a:lnTo>
                      <a:pt x="19" y="39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8042040" y="1495080"/>
                <a:ext cx="66600" cy="65160"/>
              </a:xfrm>
              <a:custGeom>
                <a:avLst/>
                <a:gdLst/>
                <a:ahLst/>
                <a:rect l="l" t="t" r="r" b="b"/>
                <a:pathLst>
                  <a:path w="38" h="39">
                    <a:moveTo>
                      <a:pt x="19" y="0"/>
                    </a:moveTo>
                    <a:lnTo>
                      <a:pt x="38" y="19"/>
                    </a:lnTo>
                    <a:lnTo>
                      <a:pt x="19" y="39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082720" y="1495080"/>
                <a:ext cx="66240" cy="65160"/>
              </a:xfrm>
              <a:custGeom>
                <a:avLst/>
                <a:gdLst/>
                <a:ahLst/>
                <a:rect l="l" t="t" r="r" b="b"/>
                <a:pathLst>
                  <a:path w="38" h="39">
                    <a:moveTo>
                      <a:pt x="19" y="0"/>
                    </a:moveTo>
                    <a:lnTo>
                      <a:pt x="38" y="19"/>
                    </a:lnTo>
                    <a:lnTo>
                      <a:pt x="19" y="39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123040" y="1495080"/>
                <a:ext cx="66600" cy="65160"/>
              </a:xfrm>
              <a:custGeom>
                <a:avLst/>
                <a:gdLst/>
                <a:ahLst/>
                <a:rect l="l" t="t" r="r" b="b"/>
                <a:pathLst>
                  <a:path w="38" h="39">
                    <a:moveTo>
                      <a:pt x="19" y="0"/>
                    </a:moveTo>
                    <a:lnTo>
                      <a:pt x="38" y="19"/>
                    </a:lnTo>
                    <a:lnTo>
                      <a:pt x="19" y="39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160120" y="1495080"/>
                <a:ext cx="68400" cy="65160"/>
              </a:xfrm>
              <a:custGeom>
                <a:avLst/>
                <a:gdLst/>
                <a:ahLst/>
                <a:rect l="l" t="t" r="r" b="b"/>
                <a:pathLst>
                  <a:path w="39" h="39">
                    <a:moveTo>
                      <a:pt x="19" y="0"/>
                    </a:moveTo>
                    <a:lnTo>
                      <a:pt x="39" y="19"/>
                    </a:lnTo>
                    <a:lnTo>
                      <a:pt x="19" y="39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8200080" y="1495080"/>
                <a:ext cx="68400" cy="65160"/>
              </a:xfrm>
              <a:custGeom>
                <a:avLst/>
                <a:gdLst/>
                <a:ahLst/>
                <a:rect l="l" t="t" r="r" b="b"/>
                <a:pathLst>
                  <a:path w="39" h="39">
                    <a:moveTo>
                      <a:pt x="19" y="0"/>
                    </a:moveTo>
                    <a:lnTo>
                      <a:pt x="39" y="19"/>
                    </a:lnTo>
                    <a:lnTo>
                      <a:pt x="19" y="39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240760" y="1495080"/>
                <a:ext cx="68040" cy="65160"/>
              </a:xfrm>
              <a:custGeom>
                <a:avLst/>
                <a:gdLst/>
                <a:ahLst/>
                <a:rect l="l" t="t" r="r" b="b"/>
                <a:pathLst>
                  <a:path w="39" h="39">
                    <a:moveTo>
                      <a:pt x="19" y="0"/>
                    </a:moveTo>
                    <a:lnTo>
                      <a:pt x="39" y="19"/>
                    </a:lnTo>
                    <a:lnTo>
                      <a:pt x="19" y="39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281080" y="1495080"/>
                <a:ext cx="68400" cy="65160"/>
              </a:xfrm>
              <a:custGeom>
                <a:avLst/>
                <a:gdLst/>
                <a:ahLst/>
                <a:rect l="l" t="t" r="r" b="b"/>
                <a:pathLst>
                  <a:path w="39" h="39">
                    <a:moveTo>
                      <a:pt x="20" y="0"/>
                    </a:moveTo>
                    <a:lnTo>
                      <a:pt x="39" y="19"/>
                    </a:lnTo>
                    <a:lnTo>
                      <a:pt x="20" y="39"/>
                    </a:lnTo>
                    <a:lnTo>
                      <a:pt x="0" y="1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321400" y="1495080"/>
                <a:ext cx="68400" cy="65160"/>
              </a:xfrm>
              <a:custGeom>
                <a:avLst/>
                <a:gdLst/>
                <a:ahLst/>
                <a:rect l="l" t="t" r="r" b="b"/>
                <a:pathLst>
                  <a:path w="39" h="39">
                    <a:moveTo>
                      <a:pt x="20" y="0"/>
                    </a:moveTo>
                    <a:lnTo>
                      <a:pt x="39" y="19"/>
                    </a:lnTo>
                    <a:lnTo>
                      <a:pt x="20" y="39"/>
                    </a:lnTo>
                    <a:lnTo>
                      <a:pt x="0" y="1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361720" y="1495080"/>
                <a:ext cx="68400" cy="65160"/>
              </a:xfrm>
              <a:custGeom>
                <a:avLst/>
                <a:gdLst/>
                <a:ahLst/>
                <a:rect l="l" t="t" r="r" b="b"/>
                <a:pathLst>
                  <a:path w="39" h="39">
                    <a:moveTo>
                      <a:pt x="20" y="0"/>
                    </a:moveTo>
                    <a:lnTo>
                      <a:pt x="39" y="19"/>
                    </a:lnTo>
                    <a:lnTo>
                      <a:pt x="20" y="39"/>
                    </a:lnTo>
                    <a:lnTo>
                      <a:pt x="0" y="1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8402040" y="1495080"/>
                <a:ext cx="68400" cy="65160"/>
              </a:xfrm>
              <a:custGeom>
                <a:avLst/>
                <a:gdLst/>
                <a:ahLst/>
                <a:rect l="l" t="t" r="r" b="b"/>
                <a:pathLst>
                  <a:path w="39" h="39">
                    <a:moveTo>
                      <a:pt x="20" y="0"/>
                    </a:moveTo>
                    <a:lnTo>
                      <a:pt x="39" y="19"/>
                    </a:lnTo>
                    <a:lnTo>
                      <a:pt x="20" y="39"/>
                    </a:lnTo>
                    <a:lnTo>
                      <a:pt x="0" y="1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440560" y="1495080"/>
                <a:ext cx="66600" cy="65160"/>
              </a:xfrm>
              <a:custGeom>
                <a:avLst/>
                <a:gdLst/>
                <a:ahLst/>
                <a:rect l="l" t="t" r="r" b="b"/>
                <a:pathLst>
                  <a:path w="38" h="39">
                    <a:moveTo>
                      <a:pt x="19" y="0"/>
                    </a:moveTo>
                    <a:lnTo>
                      <a:pt x="38" y="19"/>
                    </a:lnTo>
                    <a:lnTo>
                      <a:pt x="19" y="39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481240" y="1495080"/>
                <a:ext cx="66240" cy="65160"/>
              </a:xfrm>
              <a:custGeom>
                <a:avLst/>
                <a:gdLst/>
                <a:ahLst/>
                <a:rect l="l" t="t" r="r" b="b"/>
                <a:pathLst>
                  <a:path w="38" h="39">
                    <a:moveTo>
                      <a:pt x="19" y="0"/>
                    </a:moveTo>
                    <a:lnTo>
                      <a:pt x="38" y="19"/>
                    </a:lnTo>
                    <a:lnTo>
                      <a:pt x="19" y="39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521560" y="1495080"/>
                <a:ext cx="66600" cy="65160"/>
              </a:xfrm>
              <a:custGeom>
                <a:avLst/>
                <a:gdLst/>
                <a:ahLst/>
                <a:rect l="l" t="t" r="r" b="b"/>
                <a:pathLst>
                  <a:path w="38" h="39">
                    <a:moveTo>
                      <a:pt x="19" y="0"/>
                    </a:moveTo>
                    <a:lnTo>
                      <a:pt x="38" y="19"/>
                    </a:lnTo>
                    <a:lnTo>
                      <a:pt x="19" y="39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561880" y="1495080"/>
                <a:ext cx="66600" cy="65160"/>
              </a:xfrm>
              <a:custGeom>
                <a:avLst/>
                <a:gdLst/>
                <a:ahLst/>
                <a:rect l="l" t="t" r="r" b="b"/>
                <a:pathLst>
                  <a:path w="38" h="39">
                    <a:moveTo>
                      <a:pt x="19" y="0"/>
                    </a:moveTo>
                    <a:lnTo>
                      <a:pt x="38" y="19"/>
                    </a:lnTo>
                    <a:lnTo>
                      <a:pt x="19" y="39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8602560" y="1495080"/>
                <a:ext cx="66240" cy="65160"/>
              </a:xfrm>
              <a:custGeom>
                <a:avLst/>
                <a:gdLst/>
                <a:ahLst/>
                <a:rect l="l" t="t" r="r" b="b"/>
                <a:pathLst>
                  <a:path w="38" h="39">
                    <a:moveTo>
                      <a:pt x="19" y="0"/>
                    </a:moveTo>
                    <a:lnTo>
                      <a:pt x="38" y="19"/>
                    </a:lnTo>
                    <a:lnTo>
                      <a:pt x="19" y="39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642520" y="1495080"/>
                <a:ext cx="66600" cy="65160"/>
              </a:xfrm>
              <a:custGeom>
                <a:avLst/>
                <a:gdLst/>
                <a:ahLst/>
                <a:rect l="l" t="t" r="r" b="b"/>
                <a:pathLst>
                  <a:path w="38" h="39">
                    <a:moveTo>
                      <a:pt x="19" y="0"/>
                    </a:moveTo>
                    <a:lnTo>
                      <a:pt x="38" y="19"/>
                    </a:lnTo>
                    <a:lnTo>
                      <a:pt x="19" y="39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683200" y="1495080"/>
                <a:ext cx="66240" cy="65160"/>
              </a:xfrm>
              <a:custGeom>
                <a:avLst/>
                <a:gdLst/>
                <a:ahLst/>
                <a:rect l="l" t="t" r="r" b="b"/>
                <a:pathLst>
                  <a:path w="38" h="39">
                    <a:moveTo>
                      <a:pt x="19" y="0"/>
                    </a:moveTo>
                    <a:lnTo>
                      <a:pt x="38" y="19"/>
                    </a:lnTo>
                    <a:lnTo>
                      <a:pt x="19" y="39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719920" y="1495080"/>
                <a:ext cx="66600" cy="65160"/>
              </a:xfrm>
              <a:custGeom>
                <a:avLst/>
                <a:gdLst/>
                <a:ahLst/>
                <a:rect l="l" t="t" r="r" b="b"/>
                <a:pathLst>
                  <a:path w="38" h="39">
                    <a:moveTo>
                      <a:pt x="19" y="0"/>
                    </a:moveTo>
                    <a:lnTo>
                      <a:pt x="38" y="19"/>
                    </a:lnTo>
                    <a:lnTo>
                      <a:pt x="19" y="39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760600" y="1495080"/>
                <a:ext cx="66240" cy="65160"/>
              </a:xfrm>
              <a:custGeom>
                <a:avLst/>
                <a:gdLst/>
                <a:ahLst/>
                <a:rect l="l" t="t" r="r" b="b"/>
                <a:pathLst>
                  <a:path w="38" h="39">
                    <a:moveTo>
                      <a:pt x="19" y="0"/>
                    </a:moveTo>
                    <a:lnTo>
                      <a:pt x="38" y="19"/>
                    </a:lnTo>
                    <a:lnTo>
                      <a:pt x="19" y="39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8800920" y="1495080"/>
                <a:ext cx="66600" cy="65160"/>
              </a:xfrm>
              <a:custGeom>
                <a:avLst/>
                <a:gdLst/>
                <a:ahLst/>
                <a:rect l="l" t="t" r="r" b="b"/>
                <a:pathLst>
                  <a:path w="38" h="39">
                    <a:moveTo>
                      <a:pt x="19" y="0"/>
                    </a:moveTo>
                    <a:lnTo>
                      <a:pt x="38" y="19"/>
                    </a:lnTo>
                    <a:lnTo>
                      <a:pt x="19" y="39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1644480" y="5271120"/>
                <a:ext cx="62640" cy="6012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1684440" y="5264640"/>
                <a:ext cx="63000" cy="5976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724760" y="5261400"/>
                <a:ext cx="63000" cy="6012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765440" y="5254200"/>
                <a:ext cx="63000" cy="6012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1805760" y="5248080"/>
                <a:ext cx="63000" cy="6192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1842480" y="5241240"/>
                <a:ext cx="64800" cy="6192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882800" y="5234400"/>
                <a:ext cx="64800" cy="6192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1923480" y="5229360"/>
                <a:ext cx="64800" cy="6012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1963800" y="5222520"/>
                <a:ext cx="64800" cy="6012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004480" y="5216040"/>
                <a:ext cx="64800" cy="6012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044440" y="5205600"/>
                <a:ext cx="64800" cy="6228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2084760" y="5199120"/>
                <a:ext cx="65160" cy="6192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2125440" y="5190840"/>
                <a:ext cx="64800" cy="5976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2162160" y="5180760"/>
                <a:ext cx="65160" cy="6012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2202840" y="5170680"/>
                <a:ext cx="64800" cy="6192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2244960" y="5160600"/>
                <a:ext cx="62640" cy="6192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2285280" y="5151960"/>
                <a:ext cx="63000" cy="6012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2325600" y="5142240"/>
                <a:ext cx="62640" cy="6012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2365920" y="5128920"/>
                <a:ext cx="63000" cy="6192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2406240" y="5118480"/>
                <a:ext cx="63000" cy="6192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2443320" y="5106960"/>
                <a:ext cx="63000" cy="6012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2483280" y="5093640"/>
                <a:ext cx="63000" cy="6012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2523960" y="5080320"/>
                <a:ext cx="63000" cy="6192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2564280" y="5064840"/>
                <a:ext cx="63000" cy="6012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2604960" y="5051520"/>
                <a:ext cx="62640" cy="6192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2645280" y="5034960"/>
                <a:ext cx="63000" cy="6192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2685600" y="5019840"/>
                <a:ext cx="62640" cy="6012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2722320" y="5002920"/>
                <a:ext cx="64800" cy="6192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2763000" y="4987800"/>
                <a:ext cx="64800" cy="6012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2803320" y="4971240"/>
                <a:ext cx="64800" cy="6192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2843640" y="4952520"/>
                <a:ext cx="65160" cy="6012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2883960" y="4932720"/>
                <a:ext cx="64800" cy="6192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924280" y="4914000"/>
                <a:ext cx="64800" cy="6012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2964960" y="4890600"/>
                <a:ext cx="64800" cy="6192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001680" y="4872240"/>
                <a:ext cx="64800" cy="6012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3042360" y="4848480"/>
                <a:ext cx="64800" cy="6192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6" name=""/>
            <p:cNvSpPr/>
            <p:nvPr/>
          </p:nvSpPr>
          <p:spPr>
            <a:xfrm>
              <a:off x="3083040" y="4827240"/>
              <a:ext cx="64800" cy="6048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124080" y="4800240"/>
              <a:ext cx="63720" cy="61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165480" y="4775040"/>
              <a:ext cx="63360" cy="601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205080" y="4749480"/>
              <a:ext cx="63720" cy="6048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246480" y="4722480"/>
              <a:ext cx="63360" cy="61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282840" y="4697280"/>
              <a:ext cx="63720" cy="601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322800" y="4668480"/>
              <a:ext cx="63360" cy="6048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363840" y="4638600"/>
              <a:ext cx="63720" cy="61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403440" y="4609800"/>
              <a:ext cx="63720" cy="61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444840" y="4578120"/>
              <a:ext cx="63360" cy="6048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484440" y="4546440"/>
              <a:ext cx="63720" cy="601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525840" y="4514760"/>
              <a:ext cx="63360" cy="601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562200" y="4478040"/>
              <a:ext cx="65160" cy="61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602160" y="4446360"/>
              <a:ext cx="64800" cy="61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643200" y="4411440"/>
              <a:ext cx="65160" cy="61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683160" y="4371840"/>
              <a:ext cx="64800" cy="6336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724200" y="4336920"/>
              <a:ext cx="65160" cy="601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763800" y="4298760"/>
              <a:ext cx="65160" cy="6048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805200" y="4260600"/>
              <a:ext cx="65160" cy="6048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841920" y="4221000"/>
              <a:ext cx="64800" cy="601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881520" y="4179600"/>
              <a:ext cx="65160" cy="6048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22560" y="4138560"/>
              <a:ext cx="65160" cy="601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962520" y="4095360"/>
              <a:ext cx="64800" cy="6048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003560" y="4054320"/>
              <a:ext cx="65160" cy="61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044960" y="4011480"/>
              <a:ext cx="63360" cy="61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086360" y="3966840"/>
              <a:ext cx="61920" cy="61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125960" y="3920760"/>
              <a:ext cx="63360" cy="61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162320" y="3876480"/>
              <a:ext cx="63720" cy="61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203720" y="3831840"/>
              <a:ext cx="63360" cy="6048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243320" y="3787560"/>
              <a:ext cx="63720" cy="6048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284720" y="3738240"/>
              <a:ext cx="61920" cy="6048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324320" y="3693960"/>
              <a:ext cx="63360" cy="61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365720" y="3644640"/>
              <a:ext cx="61920" cy="61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05320" y="3600360"/>
              <a:ext cx="63360" cy="61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41680" y="3552480"/>
              <a:ext cx="63720" cy="6048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83080" y="3508200"/>
              <a:ext cx="65160" cy="601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522680" y="3458880"/>
              <a:ext cx="65160" cy="6048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564080" y="3409560"/>
              <a:ext cx="63360" cy="61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603680" y="3365280"/>
              <a:ext cx="65160" cy="61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643280" y="3315960"/>
              <a:ext cx="65160" cy="61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684680" y="3269880"/>
              <a:ext cx="65160" cy="6048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721400" y="3224160"/>
              <a:ext cx="64800" cy="601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762440" y="3179520"/>
              <a:ext cx="63720" cy="6048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802040" y="3130200"/>
              <a:ext cx="65160" cy="61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842000" y="3084480"/>
              <a:ext cx="64800" cy="6336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883040" y="3039840"/>
              <a:ext cx="65160" cy="61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924440" y="2998440"/>
              <a:ext cx="63360" cy="61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965840" y="2954160"/>
              <a:ext cx="63360" cy="601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002200" y="2912760"/>
              <a:ext cx="63360" cy="6048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043600" y="2866680"/>
              <a:ext cx="61920" cy="6048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083200" y="2825640"/>
              <a:ext cx="63360" cy="601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122800" y="2787480"/>
              <a:ext cx="63720" cy="601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164200" y="2744640"/>
              <a:ext cx="63360" cy="601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203800" y="2706480"/>
              <a:ext cx="63360" cy="6048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245200" y="2668320"/>
              <a:ext cx="63360" cy="6048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281560" y="2628720"/>
              <a:ext cx="63720" cy="601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321160" y="2590560"/>
              <a:ext cx="63720" cy="6048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362560" y="2555640"/>
              <a:ext cx="65160" cy="6048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402160" y="2519280"/>
              <a:ext cx="65160" cy="61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443560" y="2482560"/>
              <a:ext cx="65160" cy="61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483160" y="2450880"/>
              <a:ext cx="65160" cy="61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524560" y="2419200"/>
              <a:ext cx="65160" cy="601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560920" y="2387520"/>
              <a:ext cx="65160" cy="601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600880" y="2355480"/>
              <a:ext cx="64800" cy="6048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641920" y="2325600"/>
              <a:ext cx="65160" cy="61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681520" y="2296800"/>
              <a:ext cx="65160" cy="61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722920" y="2268360"/>
              <a:ext cx="65160" cy="601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762520" y="2241360"/>
              <a:ext cx="65160" cy="61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803920" y="2215800"/>
              <a:ext cx="65160" cy="637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845320" y="2192040"/>
              <a:ext cx="63360" cy="6048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881680" y="2165040"/>
              <a:ext cx="63360" cy="61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923080" y="2143080"/>
              <a:ext cx="63360" cy="601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962680" y="2118960"/>
              <a:ext cx="63360" cy="61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004080" y="2097000"/>
              <a:ext cx="63360" cy="6336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043680" y="2076120"/>
              <a:ext cx="63360" cy="6048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084720" y="2055600"/>
              <a:ext cx="61920" cy="61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124680" y="2036520"/>
              <a:ext cx="63360" cy="6048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161040" y="2017440"/>
              <a:ext cx="63720" cy="61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202440" y="1998360"/>
              <a:ext cx="63360" cy="6048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242040" y="1979280"/>
              <a:ext cx="63360" cy="6048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283440" y="1962000"/>
              <a:ext cx="64800" cy="61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323040" y="1946160"/>
              <a:ext cx="65160" cy="601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362640" y="1930320"/>
              <a:ext cx="65160" cy="61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404040" y="1919160"/>
              <a:ext cx="65160" cy="601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440400" y="1901520"/>
              <a:ext cx="65160" cy="6048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481800" y="1888920"/>
              <a:ext cx="65160" cy="61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521400" y="1876320"/>
              <a:ext cx="65160" cy="601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562800" y="1863360"/>
              <a:ext cx="63360" cy="6048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602400" y="1849320"/>
              <a:ext cx="65160" cy="61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642000" y="1838160"/>
              <a:ext cx="65160" cy="601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683400" y="1827000"/>
              <a:ext cx="65160" cy="61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721560" y="1817640"/>
              <a:ext cx="63360" cy="61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762600" y="1807920"/>
              <a:ext cx="61920" cy="61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802560" y="1800000"/>
              <a:ext cx="63360" cy="6048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843600" y="1788840"/>
              <a:ext cx="61920" cy="6048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883560" y="1779480"/>
              <a:ext cx="63360" cy="601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923160" y="1769760"/>
              <a:ext cx="63360" cy="61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964200" y="1761840"/>
              <a:ext cx="63720" cy="61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000920" y="1753920"/>
              <a:ext cx="63360" cy="6048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042320" y="1747800"/>
              <a:ext cx="61920" cy="601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81920" y="1741320"/>
              <a:ext cx="63360" cy="601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121520" y="1733400"/>
              <a:ext cx="63360" cy="61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162920" y="1726920"/>
              <a:ext cx="64800" cy="61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202520" y="1720800"/>
              <a:ext cx="65160" cy="61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243920" y="1715760"/>
              <a:ext cx="64800" cy="6048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280280" y="1709640"/>
              <a:ext cx="65160" cy="601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319880" y="1701720"/>
              <a:ext cx="65160" cy="601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361280" y="1698480"/>
              <a:ext cx="65160" cy="61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400880" y="1692000"/>
              <a:ext cx="65160" cy="61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442280" y="1688760"/>
              <a:ext cx="65160" cy="61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481880" y="1685880"/>
              <a:ext cx="65160" cy="61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523280" y="1680840"/>
              <a:ext cx="64800" cy="6048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561440" y="1676160"/>
              <a:ext cx="63360" cy="6048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601040" y="1672920"/>
              <a:ext cx="63360" cy="6048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642080" y="1669680"/>
              <a:ext cx="63720" cy="6048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682040" y="1666800"/>
              <a:ext cx="63360" cy="601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723080" y="1663560"/>
              <a:ext cx="63720" cy="601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763040" y="1660320"/>
              <a:ext cx="63360" cy="6048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804080" y="1657080"/>
              <a:ext cx="63720" cy="61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840800" y="1653840"/>
              <a:ext cx="63360" cy="61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880400" y="1650960"/>
              <a:ext cx="63360" cy="61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921800" y="1645920"/>
              <a:ext cx="63360" cy="637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961400" y="1642680"/>
              <a:ext cx="63360" cy="61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8002440" y="1642680"/>
              <a:ext cx="63720" cy="61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8042400" y="1639800"/>
              <a:ext cx="64800" cy="61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8083440" y="1638000"/>
              <a:ext cx="65160" cy="6048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8123400" y="1638000"/>
              <a:ext cx="64800" cy="6048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8159760" y="1634760"/>
              <a:ext cx="65160" cy="6048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8201160" y="1631880"/>
              <a:ext cx="64800" cy="601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8240760" y="1631880"/>
              <a:ext cx="65160" cy="601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8282160" y="1628640"/>
              <a:ext cx="64800" cy="601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8321760" y="1628640"/>
              <a:ext cx="65160" cy="601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8361360" y="1625400"/>
              <a:ext cx="65160" cy="6048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8402760" y="1625400"/>
              <a:ext cx="64800" cy="6048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440560" y="1622160"/>
              <a:ext cx="63720" cy="6048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8481960" y="1622160"/>
              <a:ext cx="63720" cy="6048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8521560" y="1622160"/>
              <a:ext cx="63720" cy="6048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8562960" y="1617480"/>
              <a:ext cx="61920" cy="6336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8602560" y="1617480"/>
              <a:ext cx="63720" cy="6336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8643960" y="1617480"/>
              <a:ext cx="61920" cy="6336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8683560" y="1614240"/>
              <a:ext cx="63720" cy="61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8720280" y="1614240"/>
              <a:ext cx="63360" cy="61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8761320" y="1614240"/>
              <a:ext cx="61920" cy="61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8801280" y="1611000"/>
              <a:ext cx="63360" cy="61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53400" y="5810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09760" y="531324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,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53400" y="4813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09760" y="431604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,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53400" y="3816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09760" y="331920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,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53400" y="2822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09760" y="23223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,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53400" y="1823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09760" y="13255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,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53400" y="826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56000" y="6048000"/>
              <a:ext cx="22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602000" y="6048000"/>
              <a:ext cx="13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402640" y="6048000"/>
              <a:ext cx="13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205080" y="6048000"/>
              <a:ext cx="13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002840" y="6048000"/>
              <a:ext cx="13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830120" y="6048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628600" y="6048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427800" y="6048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228800" y="6048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8027280" y="6048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8778960" y="60480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93680" y="765000"/>
              <a:ext cx="203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496280" y="4481280"/>
              <a:ext cx="1193760" cy="8366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550280" y="4603680"/>
              <a:ext cx="28260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658280" y="4571640"/>
              <a:ext cx="68040" cy="63720"/>
            </a:xfrm>
            <a:custGeom>
              <a:avLst/>
              <a:gdLst/>
              <a:ahLst/>
              <a:rect l="l" t="t" r="r" b="b"/>
              <a:pathLst>
                <a:path w="39" h="38">
                  <a:moveTo>
                    <a:pt x="19" y="0"/>
                  </a:moveTo>
                  <a:lnTo>
                    <a:pt x="39" y="19"/>
                  </a:lnTo>
                  <a:lnTo>
                    <a:pt x="19" y="38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869960" y="4511520"/>
              <a:ext cx="655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ol rou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871400" y="4697280"/>
              <a:ext cx="604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T faib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550280" y="5022720"/>
              <a:ext cx="28260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658280" y="4991040"/>
              <a:ext cx="64800" cy="601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871760" y="4929120"/>
              <a:ext cx="518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ol ver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872120" y="5114880"/>
              <a:ext cx="697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T moy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482840" y="5389200"/>
              <a:ext cx="2884320" cy="45720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512720" y="5402160"/>
              <a:ext cx="26845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uvoir tampon fort du à l’altération  des minéraux (aluminosilicate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7048440" y="1814400"/>
              <a:ext cx="164304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127640" y="1834920"/>
              <a:ext cx="1335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uvoir tampon for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170480" y="2036520"/>
              <a:ext cx="1261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u aux carbona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842000" y="3493800"/>
              <a:ext cx="2698560" cy="80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4871880" y="3514680"/>
              <a:ext cx="2408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uvoir tampon moyen à faible, du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4874040" y="3717720"/>
              <a:ext cx="1898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à la matière organique, aux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873680" y="3917880"/>
              <a:ext cx="1888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ordures des argiles et aux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4875480" y="4120920"/>
              <a:ext cx="170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oxyhydroxydes d'Al et F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2" name=""/>
            <p:cNvGrpSpPr/>
            <p:nvPr/>
          </p:nvGrpSpPr>
          <p:grpSpPr>
            <a:xfrm>
              <a:off x="1370160" y="6433920"/>
              <a:ext cx="2348640" cy="107640"/>
              <a:chOff x="1370160" y="6433920"/>
              <a:chExt cx="2348640" cy="107640"/>
            </a:xfrm>
          </p:grpSpPr>
          <p:sp>
            <p:nvSpPr>
              <p:cNvPr id="833" name=""/>
              <p:cNvSpPr/>
              <p:nvPr/>
            </p:nvSpPr>
            <p:spPr>
              <a:xfrm flipH="1">
                <a:off x="1471320" y="6485760"/>
                <a:ext cx="2247480" cy="32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370160" y="6433920"/>
                <a:ext cx="108360" cy="107640"/>
              </a:xfrm>
              <a:custGeom>
                <a:avLst/>
                <a:gdLst/>
                <a:ahLst/>
                <a:rect l="l" t="t" r="r" b="b"/>
                <a:pathLst>
                  <a:path w="62" h="64">
                    <a:moveTo>
                      <a:pt x="62" y="0"/>
                    </a:moveTo>
                    <a:lnTo>
                      <a:pt x="0" y="33"/>
                    </a:lnTo>
                    <a:lnTo>
                      <a:pt x="62" y="64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5" name=""/>
            <p:cNvGrpSpPr/>
            <p:nvPr/>
          </p:nvGrpSpPr>
          <p:grpSpPr>
            <a:xfrm>
              <a:off x="5641920" y="6437160"/>
              <a:ext cx="2187360" cy="107640"/>
              <a:chOff x="5641920" y="6437160"/>
              <a:chExt cx="2187360" cy="107640"/>
            </a:xfrm>
          </p:grpSpPr>
          <p:sp>
            <p:nvSpPr>
              <p:cNvPr id="836" name=""/>
              <p:cNvSpPr/>
              <p:nvPr/>
            </p:nvSpPr>
            <p:spPr>
              <a:xfrm>
                <a:off x="5641920" y="6485760"/>
                <a:ext cx="2087280" cy="32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7722360" y="6437160"/>
                <a:ext cx="106920" cy="107640"/>
              </a:xfrm>
              <a:custGeom>
                <a:avLst/>
                <a:gdLst/>
                <a:ahLst/>
                <a:rect l="l" t="t" r="r" b="b"/>
                <a:pathLst>
                  <a:path w="61" h="64">
                    <a:moveTo>
                      <a:pt x="0" y="64"/>
                    </a:moveTo>
                    <a:lnTo>
                      <a:pt x="61" y="31"/>
                    </a:lnTo>
                    <a:lnTo>
                      <a:pt x="0" y="0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8" name=""/>
            <p:cNvSpPr/>
            <p:nvPr/>
          </p:nvSpPr>
          <p:spPr>
            <a:xfrm>
              <a:off x="1482840" y="6248160"/>
              <a:ext cx="25146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517040" y="6268680"/>
              <a:ext cx="20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pports d’acide croissant (H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632560" y="6251400"/>
              <a:ext cx="247176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664960" y="6271920"/>
              <a:ext cx="1116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pport de bas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901200" y="62974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944400" y="6271920"/>
              <a:ext cx="1046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oissant (OH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 flipV="1">
              <a:off x="852480" y="3072960"/>
              <a:ext cx="3989520" cy="468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842000" y="3073320"/>
              <a:ext cx="7920" cy="277632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922400" y="2192040"/>
              <a:ext cx="47196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500120" y="4605120"/>
              <a:ext cx="42991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8" name=""/>
          <p:cNvSpPr/>
          <p:nvPr/>
        </p:nvSpPr>
        <p:spPr>
          <a:xfrm>
            <a:off x="6294960" y="6540480"/>
            <a:ext cx="290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D’après N. Damay, J-L.Julien, 2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0T09:27:51Z</dcterms:created>
  <dc:creator>_</dc:creator>
  <dc:description/>
  <dc:language>en-US</dc:language>
  <cp:lastModifiedBy>_</cp:lastModifiedBy>
  <dcterms:modified xsi:type="dcterms:W3CDTF">2006-04-20T06:59:00Z</dcterms:modified>
  <cp:revision>3</cp:revision>
  <dc:subject/>
  <dc:title>Diapositive 1</dc:title>
</cp:coreProperties>
</file>