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431-B55B-4C18-ADDF-16D7B471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336-F555-4FE4-B281-F4D3DB9B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62D-8B94-4C32-81FB-1113F4BE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807-3E36-4ABA-9887-9F6D4EF8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E0E-C49A-4FCD-8A22-DE4BC556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625-F0E9-4D04-B9AA-4DD1C4AF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5BE-0FA3-4864-9D05-83D79683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A02-7FF0-4CC6-904A-171BAE89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F56-5963-4860-80B0-E162060D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5D4-D1D1-47F4-ADE6-66373702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0C5-9952-4908-85B7-251319AF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E0A-C50C-4E83-B50F-9097FEFD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20F9-34AE-4B61-89D0-90AE42CC4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1523880"/>
            <a:ext cx="8790120" cy="5168160"/>
            <a:chOff x="152280" y="1523880"/>
            <a:chExt cx="8790120" cy="5168160"/>
          </a:xfrm>
        </p:grpSpPr>
        <p:sp>
          <p:nvSpPr>
            <p:cNvPr id="42" name=""/>
            <p:cNvSpPr/>
            <p:nvPr/>
          </p:nvSpPr>
          <p:spPr>
            <a:xfrm>
              <a:off x="6933960" y="632376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.-L. Julien 200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2490840" y="3557520"/>
              <a:ext cx="3259080" cy="111240"/>
              <a:chOff x="2490840" y="3557520"/>
              <a:chExt cx="3259080" cy="111240"/>
            </a:xfrm>
          </p:grpSpPr>
          <p:sp>
            <p:nvSpPr>
              <p:cNvPr id="44" name=""/>
              <p:cNvSpPr/>
              <p:nvPr/>
            </p:nvSpPr>
            <p:spPr>
              <a:xfrm>
                <a:off x="2544840" y="3613320"/>
                <a:ext cx="7873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332160" y="3613320"/>
                <a:ext cx="7891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121280" y="3613320"/>
                <a:ext cx="7873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8600" y="3613320"/>
                <a:ext cx="7873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490840" y="355752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4" y="0"/>
                    </a:moveTo>
                    <a:lnTo>
                      <a:pt x="69" y="35"/>
                    </a:lnTo>
                    <a:lnTo>
                      <a:pt x="34" y="70"/>
                    </a:lnTo>
                    <a:lnTo>
                      <a:pt x="0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80"/>
              </a:solidFill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78160" y="355752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4" y="0"/>
                    </a:moveTo>
                    <a:lnTo>
                      <a:pt x="69" y="35"/>
                    </a:lnTo>
                    <a:lnTo>
                      <a:pt x="34" y="70"/>
                    </a:lnTo>
                    <a:lnTo>
                      <a:pt x="0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80"/>
              </a:solidFill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065480" y="3557520"/>
                <a:ext cx="109800" cy="11124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69" y="35"/>
                    </a:lnTo>
                    <a:lnTo>
                      <a:pt x="35" y="70"/>
                    </a:lnTo>
                    <a:lnTo>
                      <a:pt x="0" y="3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853160" y="355752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69" y="35"/>
                    </a:lnTo>
                    <a:lnTo>
                      <a:pt x="35" y="70"/>
                    </a:lnTo>
                    <a:lnTo>
                      <a:pt x="0" y="3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40480" y="355752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69" y="35"/>
                    </a:lnTo>
                    <a:lnTo>
                      <a:pt x="35" y="70"/>
                    </a:lnTo>
                    <a:lnTo>
                      <a:pt x="0" y="3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2490840" y="4089240"/>
              <a:ext cx="3259080" cy="459000"/>
              <a:chOff x="2490840" y="4089240"/>
              <a:chExt cx="3259080" cy="459000"/>
            </a:xfrm>
          </p:grpSpPr>
          <p:sp>
            <p:nvSpPr>
              <p:cNvPr id="54" name=""/>
              <p:cNvSpPr/>
              <p:nvPr/>
            </p:nvSpPr>
            <p:spPr>
              <a:xfrm flipV="1">
                <a:off x="2544840" y="4402080"/>
                <a:ext cx="787320" cy="9216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3332160" y="4309920"/>
                <a:ext cx="789120" cy="9216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4121280" y="4237200"/>
                <a:ext cx="787320" cy="727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4908600" y="4145040"/>
                <a:ext cx="787320" cy="9216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0840" y="44388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69" y="69"/>
                    </a:lnTo>
                    <a:lnTo>
                      <a:pt x="0" y="6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ff00"/>
              </a:solidFill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78160" y="4346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69" y="69"/>
                    </a:lnTo>
                    <a:lnTo>
                      <a:pt x="0" y="6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ff00"/>
              </a:solidFill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065480" y="4254480"/>
                <a:ext cx="109800" cy="11124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69" y="70"/>
                    </a:lnTo>
                    <a:lnTo>
                      <a:pt x="0" y="7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ff00"/>
              </a:solidFill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53160" y="4181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5" y="0"/>
                    </a:moveTo>
                    <a:lnTo>
                      <a:pt x="69" y="69"/>
                    </a:lnTo>
                    <a:lnTo>
                      <a:pt x="0" y="6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ff00"/>
              </a:solidFill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0480" y="408924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69" y="70"/>
                    </a:lnTo>
                    <a:lnTo>
                      <a:pt x="0" y="7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ff00"/>
              </a:solidFill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2471760" y="2824200"/>
              <a:ext cx="3314520" cy="696960"/>
              <a:chOff x="2471760" y="2824200"/>
              <a:chExt cx="3314520" cy="69696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2544840" y="3300120"/>
                <a:ext cx="787320" cy="12852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3332160" y="3171600"/>
                <a:ext cx="789120" cy="12852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121280" y="3044520"/>
                <a:ext cx="787320" cy="1270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908600" y="2897280"/>
                <a:ext cx="787320" cy="1476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471760" y="3355920"/>
                <a:ext cx="165240" cy="1652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2490840" y="3375000"/>
                <a:ext cx="54000" cy="540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44840" y="3429000"/>
                <a:ext cx="55440" cy="5544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490840" y="3429000"/>
                <a:ext cx="54000" cy="5544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2544840" y="3375000"/>
                <a:ext cx="55440" cy="540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259080" y="3227400"/>
                <a:ext cx="165240" cy="1652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flipV="1">
                <a:off x="3278160" y="3246480"/>
                <a:ext cx="54000" cy="540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332160" y="3300480"/>
                <a:ext cx="55440" cy="5544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3278160" y="3300480"/>
                <a:ext cx="54000" cy="5544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3332160" y="3246480"/>
                <a:ext cx="55440" cy="540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46400" y="3098880"/>
                <a:ext cx="165240" cy="16488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4065120" y="3117960"/>
                <a:ext cx="55800" cy="540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21280" y="3171960"/>
                <a:ext cx="54000" cy="5544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4065120" y="3171960"/>
                <a:ext cx="55800" cy="5544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4121280" y="3117960"/>
                <a:ext cx="54000" cy="540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834080" y="2970360"/>
                <a:ext cx="164880" cy="16488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flipV="1">
                <a:off x="4853160" y="2989440"/>
                <a:ext cx="55440" cy="5544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8600" y="3044880"/>
                <a:ext cx="54000" cy="540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4853160" y="3044880"/>
                <a:ext cx="55440" cy="540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4908600" y="2989440"/>
                <a:ext cx="54000" cy="5544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21400" y="2824200"/>
                <a:ext cx="164880" cy="1652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 flipV="1">
                <a:off x="5640480" y="2841120"/>
                <a:ext cx="55440" cy="558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95920" y="2897280"/>
                <a:ext cx="54000" cy="5544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5640480" y="2897280"/>
                <a:ext cx="55440" cy="5544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695920" y="2841120"/>
                <a:ext cx="54000" cy="558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814760" y="5172120"/>
              <a:ext cx="215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70000" y="4713120"/>
              <a:ext cx="73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43080" y="4713120"/>
              <a:ext cx="3936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143080" y="4713120"/>
              <a:ext cx="1800" cy="7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080040" y="4713120"/>
              <a:ext cx="1800" cy="7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490840" y="4530600"/>
              <a:ext cx="3241800" cy="274680"/>
              <a:chOff x="2490840" y="4530600"/>
              <a:chExt cx="3241800" cy="27468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2544840" y="4712760"/>
                <a:ext cx="1440" cy="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3332160" y="4712760"/>
                <a:ext cx="1440" cy="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4121280" y="4712760"/>
                <a:ext cx="1440" cy="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908600" y="4712760"/>
                <a:ext cx="1440" cy="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5695920" y="4712760"/>
                <a:ext cx="1440" cy="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2930400" y="4713120"/>
                <a:ext cx="1800" cy="74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3718080" y="4713120"/>
                <a:ext cx="1440" cy="74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4505400" y="4713120"/>
                <a:ext cx="1440" cy="74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292720" y="4713120"/>
                <a:ext cx="1440" cy="74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544840" y="4712760"/>
                <a:ext cx="787320" cy="55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3332160" y="4676400"/>
                <a:ext cx="789120" cy="3636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490840" y="4713120"/>
                <a:ext cx="92160" cy="92160"/>
              </a:xfrm>
              <a:prstGeom prst="rect">
                <a:avLst/>
              </a:prstGeom>
              <a:solidFill>
                <a:srgbClr val="ff00ff"/>
              </a:solidFill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8160" y="4659480"/>
                <a:ext cx="92160" cy="90360"/>
              </a:xfrm>
              <a:prstGeom prst="rect">
                <a:avLst/>
              </a:prstGeom>
              <a:solidFill>
                <a:srgbClr val="ff00ff"/>
              </a:solidFill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65480" y="4622760"/>
                <a:ext cx="92160" cy="90360"/>
              </a:xfrm>
              <a:prstGeom prst="rect">
                <a:avLst/>
              </a:prstGeom>
              <a:solidFill>
                <a:srgbClr val="ff00ff"/>
              </a:solidFill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121280" y="4622760"/>
                <a:ext cx="787320" cy="54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4908600" y="4584600"/>
                <a:ext cx="787320" cy="3816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853160" y="4567320"/>
                <a:ext cx="91800" cy="92160"/>
              </a:xfrm>
              <a:prstGeom prst="rect">
                <a:avLst/>
              </a:prstGeom>
              <a:solidFill>
                <a:srgbClr val="ff00ff"/>
              </a:solidFill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40480" y="4530600"/>
                <a:ext cx="92160" cy="92160"/>
              </a:xfrm>
              <a:prstGeom prst="rect">
                <a:avLst/>
              </a:prstGeom>
              <a:solidFill>
                <a:srgbClr val="ff00ff"/>
              </a:solidFill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882800" y="4567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752120" y="2181240"/>
              <a:ext cx="392760" cy="3139920"/>
              <a:chOff x="1752120" y="2181240"/>
              <a:chExt cx="392760" cy="3139920"/>
            </a:xfrm>
          </p:grpSpPr>
          <p:sp>
            <p:nvSpPr>
              <p:cNvPr id="119" name=""/>
              <p:cNvSpPr/>
              <p:nvPr/>
            </p:nvSpPr>
            <p:spPr>
              <a:xfrm>
                <a:off x="2143080" y="2328840"/>
                <a:ext cx="1800" cy="299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70000" y="5319720"/>
                <a:ext cx="73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70000" y="4125960"/>
                <a:ext cx="73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70000" y="3521160"/>
                <a:ext cx="73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70000" y="2933640"/>
                <a:ext cx="73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70000" y="2328840"/>
                <a:ext cx="73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83520" y="39798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752120" y="3375000"/>
                <a:ext cx="268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752120" y="2787480"/>
                <a:ext cx="268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120" y="2181240"/>
                <a:ext cx="268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542320" y="49150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0560" y="491508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,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6960" y="49150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95200" y="491508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,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91960" y="49150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4040" y="4970520"/>
              <a:ext cx="32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8880" y="1631880"/>
              <a:ext cx="2576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harges en cmolc</a:t>
              </a:r>
              <a:r>
                <a:rPr b="1" lang="fr-FR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/kg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6372360" y="1887480"/>
              <a:ext cx="2053080" cy="305280"/>
              <a:chOff x="6372360" y="1887480"/>
              <a:chExt cx="2053080" cy="305280"/>
            </a:xfrm>
          </p:grpSpPr>
          <p:sp>
            <p:nvSpPr>
              <p:cNvPr id="137" name=""/>
              <p:cNvSpPr/>
              <p:nvPr/>
            </p:nvSpPr>
            <p:spPr>
              <a:xfrm>
                <a:off x="6372360" y="2035080"/>
                <a:ext cx="49500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556320" y="197964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4" y="0"/>
                    </a:moveTo>
                    <a:lnTo>
                      <a:pt x="69" y="35"/>
                    </a:lnTo>
                    <a:lnTo>
                      <a:pt x="34" y="70"/>
                    </a:lnTo>
                    <a:lnTo>
                      <a:pt x="0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80"/>
              </a:solidFill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65560" y="1887480"/>
                <a:ext cx="1559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arges fix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372360" y="2530440"/>
              <a:ext cx="2511000" cy="579960"/>
              <a:chOff x="6372360" y="2530440"/>
              <a:chExt cx="2511000" cy="579960"/>
            </a:xfrm>
          </p:grpSpPr>
          <p:sp>
            <p:nvSpPr>
              <p:cNvPr id="141" name=""/>
              <p:cNvSpPr/>
              <p:nvPr/>
            </p:nvSpPr>
            <p:spPr>
              <a:xfrm>
                <a:off x="6372360" y="2676600"/>
                <a:ext cx="4950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56320" y="2622600"/>
                <a:ext cx="90720" cy="92160"/>
              </a:xfrm>
              <a:prstGeom prst="rect">
                <a:avLst/>
              </a:prstGeom>
              <a:solidFill>
                <a:srgbClr val="ff00ff"/>
              </a:solidFill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826680" y="2530440"/>
                <a:ext cx="20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arges variabl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924240" y="2805120"/>
                <a:ext cx="65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rgi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372360" y="3171960"/>
              <a:ext cx="2511000" cy="581400"/>
              <a:chOff x="6372360" y="3171960"/>
              <a:chExt cx="2511000" cy="581400"/>
            </a:xfrm>
          </p:grpSpPr>
          <p:sp>
            <p:nvSpPr>
              <p:cNvPr id="146" name=""/>
              <p:cNvSpPr/>
              <p:nvPr/>
            </p:nvSpPr>
            <p:spPr>
              <a:xfrm>
                <a:off x="6372360" y="3319560"/>
                <a:ext cx="495000" cy="144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556320" y="326376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4" y="0"/>
                    </a:moveTo>
                    <a:lnTo>
                      <a:pt x="69" y="70"/>
                    </a:lnTo>
                    <a:lnTo>
                      <a:pt x="0" y="7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ff00"/>
              </a:solidFill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26680" y="3171960"/>
                <a:ext cx="20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arges variabl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98680" y="3448080"/>
                <a:ext cx="979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rb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372360" y="3814920"/>
              <a:ext cx="2072880" cy="305280"/>
              <a:chOff x="6372360" y="3814920"/>
              <a:chExt cx="2072880" cy="305280"/>
            </a:xfrm>
          </p:grpSpPr>
          <p:sp>
            <p:nvSpPr>
              <p:cNvPr id="151" name=""/>
              <p:cNvSpPr/>
              <p:nvPr/>
            </p:nvSpPr>
            <p:spPr>
              <a:xfrm>
                <a:off x="6372360" y="3960720"/>
                <a:ext cx="495000" cy="18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537240" y="3887640"/>
                <a:ext cx="165240" cy="1652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6556320" y="3906720"/>
                <a:ext cx="54000" cy="540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610320" y="3960720"/>
                <a:ext cx="55440" cy="558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556320" y="3960720"/>
                <a:ext cx="54000" cy="558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610320" y="3906720"/>
                <a:ext cx="55440" cy="540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61240" y="3814920"/>
                <a:ext cx="1584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EC Effect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152280" y="1523880"/>
              <a:ext cx="8790120" cy="4586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2880" y="5561640"/>
              <a:ext cx="502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 à 20% d ’argile et 1,5 % de carb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91840" y="35100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e des charges négatives de la capacité d’é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9:29:10Z</dcterms:created>
  <dc:creator>_</dc:creator>
  <dc:description/>
  <dc:language>en-US</dc:language>
  <cp:lastModifiedBy>_</cp:lastModifiedBy>
  <dcterms:modified xsi:type="dcterms:W3CDTF">2006-02-28T14:49:23Z</dcterms:modified>
  <cp:revision>3</cp:revision>
  <dc:subject/>
  <dc:title>Diapositive 1</dc:title>
</cp:coreProperties>
</file>