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4D1-E2AD-4747-B797-1C3BD046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BE1-35DC-429A-A98D-A0DEF39F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C58-8A23-4D8A-A534-7722AEEA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B18-A75B-40FF-9016-34D04639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7997-C7B5-4B56-B490-EA854B3F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E0A-4152-48FF-B78A-53216976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AEA-18EE-42CA-B75E-643C0B7B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07E-C97A-4418-B31E-B795651B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8FD-B1F8-436A-BE75-B6B1B254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636-F883-4B4B-A9E0-6AA803C4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CDD-5BB0-403E-806F-B5969ACD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F8E-BC2E-43AD-8BDA-FDC3350F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BF7C-4483-48B0-A458-4CDDF3610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6028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76200" y="135000"/>
            <a:ext cx="549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lation pH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eau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et Al échangeable sur différents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83080" y="6553080"/>
            <a:ext cx="28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. Bouthier et P. Castillon,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3:08:25Z</dcterms:created>
  <dc:creator>_</dc:creator>
  <dc:description/>
  <dc:language>en-US</dc:language>
  <cp:lastModifiedBy>_</cp:lastModifiedBy>
  <dcterms:modified xsi:type="dcterms:W3CDTF">2006-02-28T15:34:34Z</dcterms:modified>
  <cp:revision>3</cp:revision>
  <dc:subject/>
  <dc:title>Diapositive 1</dc:title>
</cp:coreProperties>
</file>