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D13C-EB94-4DA1-AB98-9CC937134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A52C-20C8-4093-A526-D003399C3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1383-4B21-49AA-BB21-82248DC03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A7C4-8DF1-4C4C-A4AB-CEDB7D1E9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C471-D238-4EE9-8FE1-5BFB88F40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6915-95F1-41E7-8107-CDB98DF86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6C57-B9CF-4C75-AF33-15AB95CE5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3C21-6493-4A70-ADE5-41A3880F4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4DF4-2D70-46B9-817F-11ACF5D25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BEE9-56EB-4D7D-A13E-C00437D46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0306-DED2-4706-AC61-5481AF15C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4B13-8C90-482A-BC0D-095E29B4B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42571-D671-4210-90EA-561A1FC22D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539640" y="692280"/>
            <a:ext cx="8283240" cy="5851440"/>
            <a:chOff x="539640" y="692280"/>
            <a:chExt cx="8283240" cy="5851440"/>
          </a:xfrm>
        </p:grpSpPr>
        <p:sp>
          <p:nvSpPr>
            <p:cNvPr id="42" name=""/>
            <p:cNvSpPr/>
            <p:nvPr/>
          </p:nvSpPr>
          <p:spPr>
            <a:xfrm>
              <a:off x="4647960" y="692280"/>
              <a:ext cx="1713240" cy="1671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7866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39640" y="2528640"/>
              <a:ext cx="1932840" cy="1837800"/>
            </a:xfrm>
            <a:prstGeom prst="ellipse">
              <a:avLst/>
            </a:prstGeom>
            <a:gradFill rotWithShape="0">
              <a:gsLst>
                <a:gs pos="0">
                  <a:srgbClr val="2f9f62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427840" y="2654640"/>
              <a:ext cx="528480" cy="55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78663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888840" y="3005640"/>
              <a:ext cx="1287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omplex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dsorba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517120" y="282564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8080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6880" y="1508400"/>
              <a:ext cx="824040" cy="85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7866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450760" y="3277080"/>
              <a:ext cx="824040" cy="85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7866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rot="13243200">
              <a:off x="2972160" y="1604880"/>
              <a:ext cx="2352600" cy="232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227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227449"/>
                </a:path>
              </a:pathLst>
            </a:custGeom>
            <a:noFill/>
            <a:ln w="63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4046400" y="1691280"/>
              <a:ext cx="587160" cy="15732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520240" y="2393640"/>
              <a:ext cx="279720" cy="81612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162240" y="1614600"/>
              <a:ext cx="846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n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Ba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379480" y="348120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20338800">
              <a:off x="2235600" y="2943720"/>
              <a:ext cx="295200" cy="1846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677480" y="1323720"/>
              <a:ext cx="1683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mend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basiq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420360" y="2734200"/>
              <a:ext cx="2523240" cy="52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83000"/>
            </a:bodyPr>
            <a:p>
              <a:pPr marL="284400" indent="-28440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66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- Arrachement des 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153880" y="3958200"/>
              <a:ext cx="2954880" cy="94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Arial"/>
                </a:rPr>
                <a:t>Neutralis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Arial"/>
                </a:rPr>
                <a:t>H</a:t>
              </a:r>
              <a:r>
                <a:rPr b="0" lang="en-US" sz="2000" spc="-1" strike="noStrike" baseline="30000">
                  <a:solidFill>
                    <a:srgbClr val="ff3300"/>
                  </a:solidFill>
                  <a:latin typeface="Arial"/>
                </a:rPr>
                <a:t>+</a:t>
              </a:r>
              <a:r>
                <a:rPr b="0" lang="en-US" sz="2000" spc="-1" strike="noStrike">
                  <a:solidFill>
                    <a:srgbClr val="ff3300"/>
                  </a:solidFill>
                  <a:latin typeface="Arial"/>
                </a:rPr>
                <a:t> + HO</a:t>
              </a:r>
              <a:r>
                <a:rPr b="0" lang="en-US" sz="2000" spc="-1" strike="noStrike" baseline="30000">
                  <a:solidFill>
                    <a:srgbClr val="ff3300"/>
                  </a:solidFill>
                  <a:latin typeface="Arial"/>
                </a:rPr>
                <a:t>-</a:t>
              </a:r>
              <a:r>
                <a:rPr b="0" lang="en-US" sz="20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</a:t>
              </a:r>
              <a:r>
                <a:rPr b="0" lang="en-US" sz="2000" spc="-1" strike="noStrike">
                  <a:solidFill>
                    <a:srgbClr val="ff3300"/>
                  </a:solidFill>
                  <a:latin typeface="Arial"/>
                </a:rPr>
                <a:t> H</a:t>
              </a:r>
              <a:r>
                <a:rPr b="0" lang="en-US" sz="2000" spc="-1" strike="noStrike" baseline="-25000">
                  <a:solidFill>
                    <a:srgbClr val="ff3300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ff33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19600" y="842760"/>
              <a:ext cx="200520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-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ssoci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046760" y="4682880"/>
              <a:ext cx="1697400" cy="1674000"/>
            </a:xfrm>
            <a:prstGeom prst="ellipse">
              <a:avLst/>
            </a:prstGeom>
            <a:gradFill rotWithShape="0">
              <a:gsLst>
                <a:gs pos="0">
                  <a:srgbClr val="2f9f62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321080" y="5302440"/>
              <a:ext cx="1287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omplex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dsorba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rot="3520200">
              <a:off x="5490360" y="5136120"/>
              <a:ext cx="92520" cy="464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607000" y="5241240"/>
              <a:ext cx="745200" cy="58032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032160" y="5841360"/>
              <a:ext cx="233784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ouveau site négati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712560" y="2756880"/>
              <a:ext cx="211032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Le cation n’a pas de rôle sur l’acidité sur les propriétés physiques du so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5661000" y="4298760"/>
              <a:ext cx="138960" cy="679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5715000" y="4419720"/>
            <a:ext cx="342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- Adsorption du cation sur le nouveau site négat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37280" y="-7920"/>
            <a:ext cx="527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des amendements bas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5880" y="6307200"/>
            <a:ext cx="23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Groupe Chaulage Comif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5T14:10:17Z</dcterms:created>
  <dc:creator>_</dc:creator>
  <dc:description/>
  <dc:language>en-US</dc:language>
  <cp:lastModifiedBy>_</cp:lastModifiedBy>
  <dcterms:modified xsi:type="dcterms:W3CDTF">2006-02-28T15:05:57Z</dcterms:modified>
  <cp:revision>4</cp:revision>
  <dc:subject/>
  <dc:title>Diapositive 1</dc:title>
</cp:coreProperties>
</file>