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4C0-DA21-4741-AACA-AEE75B9E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73D-EC94-4299-9E1D-1B60CE8A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6A9-2035-43DC-B842-98AAE5CB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04D-1BBC-44F2-A991-961B40A3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6F9-DD26-4943-9F70-A7E8C49D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01A-F2B1-4167-BAC5-CA911EFE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28B-E637-4E8B-A474-AB25E137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163-6F31-4939-89AB-D52F8F4F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D1B-B40F-4B64-9F75-365AD7C0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E66-CDFB-4EF3-80C6-74D9CC53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A7F-5D39-40C1-B5E1-C4BF2B1C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B82-5FE5-42C5-AF69-997FFA34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6ACF-A666-43D6-A3D6-6DF6666E1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836640"/>
            <a:ext cx="8991720" cy="5411880"/>
            <a:chOff x="0" y="836640"/>
            <a:chExt cx="8991720" cy="5411880"/>
          </a:xfrm>
        </p:grpSpPr>
        <p:sp>
          <p:nvSpPr>
            <p:cNvPr id="42" name=""/>
            <p:cNvSpPr/>
            <p:nvPr/>
          </p:nvSpPr>
          <p:spPr>
            <a:xfrm>
              <a:off x="7112160" y="4444920"/>
              <a:ext cx="17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d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112160" y="5778360"/>
              <a:ext cx="17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iq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2954160"/>
              <a:ext cx="30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ifications des propriétés physiq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5541840"/>
              <a:ext cx="253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stoire cultur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464080"/>
              <a:ext cx="2533680" cy="62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33680" y="57783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2954160"/>
              <a:ext cx="3106800" cy="86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571680" y="1150920"/>
              <a:ext cx="1961640" cy="3920760"/>
              <a:chOff x="571680" y="1150920"/>
              <a:chExt cx="1961640" cy="3920760"/>
            </a:xfrm>
          </p:grpSpPr>
          <p:sp>
            <p:nvSpPr>
              <p:cNvPr id="50" name=""/>
              <p:cNvSpPr/>
              <p:nvPr/>
            </p:nvSpPr>
            <p:spPr>
              <a:xfrm>
                <a:off x="571680" y="1150920"/>
                <a:ext cx="1961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valuation par analy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34760" y="4523040"/>
                <a:ext cx="147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aulag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53040" y="4523040"/>
                <a:ext cx="1635120" cy="5486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552320" y="3817440"/>
                <a:ext cx="0" cy="70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71680" y="1150920"/>
                <a:ext cx="1961640" cy="862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552320" y="2091960"/>
                <a:ext cx="0" cy="78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3106800" y="311148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97120" y="1071720"/>
              <a:ext cx="39229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aluation de l ’extériorisation au cha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70240" y="5229360"/>
              <a:ext cx="343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tats initiaux : hydrique, acido-basique, structural,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70240" y="5229360"/>
              <a:ext cx="3432240" cy="86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56240" y="4915080"/>
              <a:ext cx="84240" cy="234720"/>
            </a:xfrm>
            <a:prstGeom prst="downArrow">
              <a:avLst>
                <a:gd name="adj1" fmla="val 50000"/>
                <a:gd name="adj2" fmla="val 69658"/>
              </a:avLst>
            </a:prstGeom>
            <a:solidFill>
              <a:srgbClr val="00cc99"/>
            </a:solidFill>
            <a:ln w="9360">
              <a:solidFill>
                <a:srgbClr val="2f9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3433320" y="3188880"/>
              <a:ext cx="1800" cy="20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12160" y="4444920"/>
              <a:ext cx="1879560" cy="47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92800" y="5778360"/>
              <a:ext cx="1635120" cy="47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7800">
              <a:off x="7929360" y="4914720"/>
              <a:ext cx="171360" cy="706320"/>
            </a:xfrm>
            <a:prstGeom prst="upArrow">
              <a:avLst>
                <a:gd name="adj1" fmla="val 50000"/>
                <a:gd name="adj2" fmla="val 103046"/>
              </a:avLst>
            </a:prstGeom>
            <a:solidFill>
              <a:srgbClr val="2f9f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70240" y="2092320"/>
              <a:ext cx="1144440" cy="861840"/>
            </a:xfrm>
            <a:custGeom>
              <a:avLst/>
              <a:gdLst>
                <a:gd name="textAreaLeft" fmla="*/ 153360 w 1144440"/>
                <a:gd name="textAreaRight" fmla="*/ 991080 w 1144440"/>
                <a:gd name="textAreaTop" fmla="*/ 150840 h 861840"/>
                <a:gd name="textAreaBottom" fmla="*/ 624960 h 86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95680" y="2641680"/>
              <a:ext cx="73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81880" y="318924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c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22000" y="436572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m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86360" y="4365720"/>
              <a:ext cx="1144440" cy="54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40480" y="3189240"/>
              <a:ext cx="1225440" cy="4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95680" y="2562120"/>
              <a:ext cx="736560" cy="54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78120" y="2327400"/>
              <a:ext cx="3924360" cy="1568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0800000">
              <a:off x="5231160" y="2719080"/>
              <a:ext cx="1716120" cy="314280"/>
            </a:xfrm>
            <a:custGeom>
              <a:avLst/>
              <a:gdLst>
                <a:gd name="textAreaLeft" fmla="*/ 572040 w 1716120"/>
                <a:gd name="textAreaRight" fmla="*/ 1296000 w 1716120"/>
                <a:gd name="textAreaTop" fmla="*/ 181800 h 314280"/>
                <a:gd name="textAreaBottom" fmla="*/ 237600 h 3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776"/>
                  </a:moveTo>
                  <a:lnTo>
                    <a:pt x="12488" y="17776"/>
                  </a:lnTo>
                  <a:lnTo>
                    <a:pt x="12488" y="7200"/>
                  </a:lnTo>
                  <a:lnTo>
                    <a:pt x="7200" y="7200"/>
                  </a:lnTo>
                  <a:lnTo>
                    <a:pt x="14400" y="0"/>
                  </a:lnTo>
                  <a:lnTo>
                    <a:pt x="21600" y="7200"/>
                  </a:lnTo>
                  <a:lnTo>
                    <a:pt x="16312" y="7200"/>
                  </a:lnTo>
                  <a:lnTo>
                    <a:pt x="1631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6240" y="4052880"/>
              <a:ext cx="84240" cy="312840"/>
            </a:xfrm>
            <a:prstGeom prst="upArrow">
              <a:avLst>
                <a:gd name="adj1" fmla="val 50000"/>
                <a:gd name="adj2" fmla="val 92842"/>
              </a:avLst>
            </a:prstGeom>
            <a:solidFill>
              <a:srgbClr val="00cc99"/>
            </a:solidFill>
            <a:ln w="9360">
              <a:solidFill>
                <a:srgbClr val="2f9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192800" y="1935000"/>
              <a:ext cx="981360" cy="1646280"/>
            </a:xfrm>
            <a:custGeom>
              <a:avLst/>
              <a:gdLst>
                <a:gd name="textAreaLeft" fmla="*/ 131400 w 981360"/>
                <a:gd name="textAreaRight" fmla="*/ 849960 w 981360"/>
                <a:gd name="textAreaTop" fmla="*/ 329040 h 1646280"/>
                <a:gd name="textAreaBottom" fmla="*/ 1152720 h 16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634" stAng="-5400000" swAng="-5400000"/>
                  <a:lnTo>
                    <a:pt x="0" y="10807"/>
                  </a:lnTo>
                  <a:arcTo wR="21600" hR="8634" stAng="10800000" swAng="-2910340"/>
                  <a:lnTo>
                    <a:pt x="14400" y="21106"/>
                  </a:lnTo>
                  <a:lnTo>
                    <a:pt x="21600" y="18354"/>
                  </a:lnTo>
                  <a:lnTo>
                    <a:pt x="14400" y="14613"/>
                  </a:lnTo>
                  <a:lnTo>
                    <a:pt x="14400" y="16773"/>
                  </a:lnTo>
                  <a:arcTo wR="21600" hR="8634" stAng="7889660" swAng="2736182"/>
                  <a:lnTo>
                    <a:pt x="172" y="9720"/>
                  </a:lnTo>
                  <a:arcTo wR="21600" hR="8634" stAng="-10625841" swAng="5225841"/>
                  <a:close/>
                </a:path>
                <a:path fill="darkenLess" w="21600" h="21600">
                  <a:moveTo>
                    <a:pt x="21600" y="0"/>
                  </a:moveTo>
                  <a:arcTo wR="21600" hR="8634" stAng="-5400000" swAng="-5400000"/>
                  <a:lnTo>
                    <a:pt x="0" y="8634"/>
                  </a:lnTo>
                  <a:arcTo wR="21600" hR="8634" stAng="10800000" swAng="-174159"/>
                  <a:lnTo>
                    <a:pt x="172" y="9720"/>
                  </a:lnTo>
                  <a:arcTo wR="21600" hR="8634" stAng="-10625841" swAng="5225841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3838800">
              <a:off x="6518520" y="3901320"/>
              <a:ext cx="165240" cy="779400"/>
            </a:xfrm>
            <a:prstGeom prst="upArrow">
              <a:avLst>
                <a:gd name="adj1" fmla="val 50000"/>
                <a:gd name="adj2" fmla="val 117919"/>
              </a:avLst>
            </a:prstGeom>
            <a:solidFill>
              <a:srgbClr val="00cc99"/>
            </a:solidFill>
            <a:ln w="9360">
              <a:solidFill>
                <a:srgbClr val="2f9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29360" y="3816360"/>
              <a:ext cx="817560" cy="628560"/>
            </a:xfrm>
            <a:prstGeom prst="line">
              <a:avLst/>
            </a:prstGeom>
            <a:ln w="57240">
              <a:solidFill>
                <a:srgbClr val="2f9f62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7683480" y="836640"/>
            <a:ext cx="1073160" cy="1216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83480" y="836640"/>
                      <a:ext cx="107316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7755840" y="630864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abre B.,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1680" y="208080"/>
            <a:ext cx="73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 d’extériorisation des effets phys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3:37:24Z</dcterms:created>
  <dc:creator>_</dc:creator>
  <dc:description/>
  <dc:language>en-US</dc:language>
  <cp:lastModifiedBy>_</cp:lastModifiedBy>
  <dcterms:modified xsi:type="dcterms:W3CDTF">2006-04-20T07:17:42Z</dcterms:modified>
  <cp:revision>3</cp:revision>
  <dc:subject/>
  <dc:title>Diapositive 1</dc:title>
</cp:coreProperties>
</file>