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27A-1DBA-4FEF-A79B-EF2D2248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CD0-2FB7-4595-9AA4-89B217FD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F34-D2BA-4F33-AB4A-CC9E165A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A53-41BB-4870-98EA-86060363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520-941F-4B89-9EDC-9386822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D56-2250-4A16-B2B5-401E52A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CC9-6F1B-49A5-B52B-96595AB8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543-DC91-4C49-BFC2-E23BE08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A44-EC3C-45D4-871B-A5E4E61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EEF-AD5E-4B43-B3E6-E8D9995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744-2902-4F9A-86DB-7D06CD9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978-A78A-45F5-A1BF-4E0D88C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2C5-B0F8-410C-A632-6338752D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4054320"/>
            <a:ext cx="6372360" cy="280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1800" y="4149720"/>
            <a:ext cx="5492520" cy="19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1800" y="5322960"/>
            <a:ext cx="5492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4589640"/>
            <a:ext cx="5492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1800" y="4149720"/>
            <a:ext cx="1440" cy="1906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4840" y="6056280"/>
            <a:ext cx="66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74840" y="5322960"/>
            <a:ext cx="66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4840" y="4589640"/>
            <a:ext cx="66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1800" y="6056280"/>
            <a:ext cx="5492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41800" y="6056280"/>
            <a:ext cx="144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049640" y="6056280"/>
            <a:ext cx="180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56040" y="6056280"/>
            <a:ext cx="180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664240" y="6056280"/>
            <a:ext cx="144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73880" y="6056280"/>
            <a:ext cx="144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278840" y="6056280"/>
            <a:ext cx="144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088480" y="6056280"/>
            <a:ext cx="144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1800" y="4441680"/>
            <a:ext cx="5305320" cy="1543320"/>
          </a:xfrm>
          <a:custGeom>
            <a:avLst/>
            <a:gdLst/>
            <a:ahLst/>
            <a:rect l="l" t="t" r="r" b="b"/>
            <a:pathLst>
              <a:path w="1528" h="473">
                <a:moveTo>
                  <a:pt x="0" y="0"/>
                </a:moveTo>
                <a:lnTo>
                  <a:pt x="38" y="0"/>
                </a:lnTo>
                <a:lnTo>
                  <a:pt x="121" y="45"/>
                </a:lnTo>
                <a:lnTo>
                  <a:pt x="177" y="180"/>
                </a:lnTo>
                <a:lnTo>
                  <a:pt x="285" y="135"/>
                </a:lnTo>
                <a:lnTo>
                  <a:pt x="351" y="270"/>
                </a:lnTo>
                <a:lnTo>
                  <a:pt x="453" y="45"/>
                </a:lnTo>
                <a:lnTo>
                  <a:pt x="509" y="315"/>
                </a:lnTo>
                <a:lnTo>
                  <a:pt x="626" y="270"/>
                </a:lnTo>
                <a:lnTo>
                  <a:pt x="684" y="225"/>
                </a:lnTo>
                <a:lnTo>
                  <a:pt x="802" y="270"/>
                </a:lnTo>
                <a:lnTo>
                  <a:pt x="854" y="225"/>
                </a:lnTo>
                <a:lnTo>
                  <a:pt x="974" y="270"/>
                </a:lnTo>
                <a:lnTo>
                  <a:pt x="1017" y="270"/>
                </a:lnTo>
                <a:lnTo>
                  <a:pt x="1140" y="360"/>
                </a:lnTo>
                <a:lnTo>
                  <a:pt x="1203" y="360"/>
                </a:lnTo>
                <a:lnTo>
                  <a:pt x="1365" y="473"/>
                </a:lnTo>
                <a:lnTo>
                  <a:pt x="1528" y="27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30720" y="4589640"/>
            <a:ext cx="4316400" cy="1319040"/>
          </a:xfrm>
          <a:custGeom>
            <a:avLst/>
            <a:gdLst/>
            <a:ahLst/>
            <a:rect l="l" t="t" r="r" b="b"/>
            <a:pathLst>
              <a:path w="1243" h="405">
                <a:moveTo>
                  <a:pt x="0" y="0"/>
                </a:moveTo>
                <a:lnTo>
                  <a:pt x="66" y="0"/>
                </a:lnTo>
                <a:lnTo>
                  <a:pt x="168" y="0"/>
                </a:lnTo>
                <a:lnTo>
                  <a:pt x="224" y="45"/>
                </a:lnTo>
                <a:lnTo>
                  <a:pt x="341" y="90"/>
                </a:lnTo>
                <a:lnTo>
                  <a:pt x="399" y="90"/>
                </a:lnTo>
                <a:lnTo>
                  <a:pt x="517" y="90"/>
                </a:lnTo>
                <a:lnTo>
                  <a:pt x="569" y="90"/>
                </a:lnTo>
                <a:lnTo>
                  <a:pt x="689" y="135"/>
                </a:lnTo>
                <a:lnTo>
                  <a:pt x="732" y="90"/>
                </a:lnTo>
                <a:lnTo>
                  <a:pt x="855" y="405"/>
                </a:lnTo>
                <a:lnTo>
                  <a:pt x="918" y="360"/>
                </a:lnTo>
                <a:lnTo>
                  <a:pt x="1080" y="180"/>
                </a:lnTo>
                <a:lnTo>
                  <a:pt x="1243" y="1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1800" y="4295880"/>
            <a:ext cx="5305320" cy="1027080"/>
          </a:xfrm>
          <a:custGeom>
            <a:avLst/>
            <a:gdLst/>
            <a:ahLst/>
            <a:rect l="l" t="t" r="r" b="b"/>
            <a:pathLst>
              <a:path w="1528" h="315">
                <a:moveTo>
                  <a:pt x="0" y="45"/>
                </a:moveTo>
                <a:lnTo>
                  <a:pt x="38" y="90"/>
                </a:lnTo>
                <a:lnTo>
                  <a:pt x="121" y="45"/>
                </a:lnTo>
                <a:lnTo>
                  <a:pt x="177" y="90"/>
                </a:lnTo>
                <a:lnTo>
                  <a:pt x="285" y="180"/>
                </a:lnTo>
                <a:lnTo>
                  <a:pt x="351" y="135"/>
                </a:lnTo>
                <a:lnTo>
                  <a:pt x="453" y="225"/>
                </a:lnTo>
                <a:lnTo>
                  <a:pt x="509" y="90"/>
                </a:lnTo>
                <a:lnTo>
                  <a:pt x="626" y="135"/>
                </a:lnTo>
                <a:lnTo>
                  <a:pt x="684" y="90"/>
                </a:lnTo>
                <a:lnTo>
                  <a:pt x="802" y="270"/>
                </a:lnTo>
                <a:lnTo>
                  <a:pt x="854" y="135"/>
                </a:lnTo>
                <a:lnTo>
                  <a:pt x="974" y="90"/>
                </a:lnTo>
                <a:lnTo>
                  <a:pt x="1017" y="0"/>
                </a:lnTo>
                <a:lnTo>
                  <a:pt x="1140" y="270"/>
                </a:lnTo>
                <a:lnTo>
                  <a:pt x="1203" y="180"/>
                </a:lnTo>
                <a:lnTo>
                  <a:pt x="1365" y="315"/>
                </a:lnTo>
                <a:lnTo>
                  <a:pt x="1528" y="9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02600" y="591660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2600" y="518148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2600" y="444816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9600" y="62485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94480" y="624852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9400" y="62485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57600" y="62485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6880" y="62485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71840" y="62485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81480" y="62485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4880" y="6550200"/>
            <a:ext cx="202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s après chaul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4560" y="3786120"/>
            <a:ext cx="72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 eau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553896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-5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4320" y="4167360"/>
            <a:ext cx="66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-10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33680" y="432108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0-20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52560" y="333360"/>
            <a:ext cx="6391440" cy="33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799720" y="455760"/>
            <a:ext cx="5937840" cy="2930400"/>
            <a:chOff x="2799720" y="455760"/>
            <a:chExt cx="5937840" cy="2930400"/>
          </a:xfrm>
        </p:grpSpPr>
        <p:sp>
          <p:nvSpPr>
            <p:cNvPr id="77" name=""/>
            <p:cNvSpPr/>
            <p:nvPr/>
          </p:nvSpPr>
          <p:spPr>
            <a:xfrm>
              <a:off x="3255840" y="866520"/>
              <a:ext cx="5481720" cy="20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55840" y="2491200"/>
              <a:ext cx="54817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55840" y="2066400"/>
              <a:ext cx="548172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5840" y="1637280"/>
              <a:ext cx="548172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55840" y="1207440"/>
              <a:ext cx="548172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55840" y="866520"/>
              <a:ext cx="1800" cy="2054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87800" y="2920680"/>
              <a:ext cx="680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87800" y="2491200"/>
              <a:ext cx="6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87800" y="2066400"/>
              <a:ext cx="680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87800" y="1637280"/>
              <a:ext cx="680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87800" y="1207440"/>
              <a:ext cx="680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55840" y="2920680"/>
              <a:ext cx="548172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255840" y="2920680"/>
              <a:ext cx="180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060800" y="2920680"/>
              <a:ext cx="144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867200" y="2920680"/>
              <a:ext cx="180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672160" y="2920680"/>
              <a:ext cx="144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478560" y="2920680"/>
              <a:ext cx="144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88200" y="2920680"/>
              <a:ext cx="144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093160" y="2920680"/>
              <a:ext cx="1440" cy="72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866520"/>
              <a:ext cx="5294520" cy="1540800"/>
            </a:xfrm>
            <a:custGeom>
              <a:avLst/>
              <a:gdLst/>
              <a:ahLst/>
              <a:rect l="l" t="t" r="r" b="b"/>
              <a:pathLst>
                <a:path w="1472" h="402">
                  <a:moveTo>
                    <a:pt x="0" y="402"/>
                  </a:moveTo>
                  <a:lnTo>
                    <a:pt x="37" y="313"/>
                  </a:lnTo>
                  <a:lnTo>
                    <a:pt x="117" y="268"/>
                  </a:lnTo>
                  <a:lnTo>
                    <a:pt x="170" y="156"/>
                  </a:lnTo>
                  <a:lnTo>
                    <a:pt x="275" y="134"/>
                  </a:lnTo>
                  <a:lnTo>
                    <a:pt x="338" y="179"/>
                  </a:lnTo>
                  <a:lnTo>
                    <a:pt x="437" y="22"/>
                  </a:lnTo>
                  <a:lnTo>
                    <a:pt x="490" y="89"/>
                  </a:lnTo>
                  <a:lnTo>
                    <a:pt x="603" y="0"/>
                  </a:lnTo>
                  <a:lnTo>
                    <a:pt x="659" y="45"/>
                  </a:lnTo>
                  <a:lnTo>
                    <a:pt x="773" y="67"/>
                  </a:lnTo>
                  <a:lnTo>
                    <a:pt x="823" y="112"/>
                  </a:lnTo>
                  <a:lnTo>
                    <a:pt x="939" y="246"/>
                  </a:lnTo>
                  <a:lnTo>
                    <a:pt x="980" y="179"/>
                  </a:lnTo>
                  <a:lnTo>
                    <a:pt x="1098" y="313"/>
                  </a:lnTo>
                  <a:lnTo>
                    <a:pt x="1159" y="402"/>
                  </a:lnTo>
                  <a:lnTo>
                    <a:pt x="1315" y="357"/>
                  </a:lnTo>
                  <a:lnTo>
                    <a:pt x="1472" y="402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5120" y="1207440"/>
              <a:ext cx="4305240" cy="770400"/>
            </a:xfrm>
            <a:custGeom>
              <a:avLst/>
              <a:gdLst/>
              <a:ahLst/>
              <a:rect l="l" t="t" r="r" b="b"/>
              <a:pathLst>
                <a:path w="1197" h="201">
                  <a:moveTo>
                    <a:pt x="0" y="201"/>
                  </a:moveTo>
                  <a:lnTo>
                    <a:pt x="63" y="201"/>
                  </a:lnTo>
                  <a:lnTo>
                    <a:pt x="162" y="67"/>
                  </a:lnTo>
                  <a:lnTo>
                    <a:pt x="215" y="67"/>
                  </a:lnTo>
                  <a:lnTo>
                    <a:pt x="328" y="0"/>
                  </a:lnTo>
                  <a:lnTo>
                    <a:pt x="384" y="0"/>
                  </a:lnTo>
                  <a:lnTo>
                    <a:pt x="498" y="67"/>
                  </a:lnTo>
                  <a:lnTo>
                    <a:pt x="548" y="23"/>
                  </a:lnTo>
                  <a:lnTo>
                    <a:pt x="664" y="0"/>
                  </a:lnTo>
                  <a:lnTo>
                    <a:pt x="705" y="23"/>
                  </a:lnTo>
                  <a:lnTo>
                    <a:pt x="823" y="157"/>
                  </a:lnTo>
                  <a:lnTo>
                    <a:pt x="884" y="157"/>
                  </a:lnTo>
                  <a:lnTo>
                    <a:pt x="1040" y="67"/>
                  </a:lnTo>
                  <a:lnTo>
                    <a:pt x="1197" y="157"/>
                  </a:lnTo>
                </a:path>
              </a:pathLst>
            </a:custGeom>
            <a:noFill/>
            <a:ln w="42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1207440"/>
              <a:ext cx="5294520" cy="1283400"/>
            </a:xfrm>
            <a:custGeom>
              <a:avLst/>
              <a:gdLst/>
              <a:ahLst/>
              <a:rect l="l" t="t" r="r" b="b"/>
              <a:pathLst>
                <a:path w="1472" h="335">
                  <a:moveTo>
                    <a:pt x="0" y="313"/>
                  </a:moveTo>
                  <a:lnTo>
                    <a:pt x="37" y="335"/>
                  </a:lnTo>
                  <a:lnTo>
                    <a:pt x="117" y="291"/>
                  </a:lnTo>
                  <a:lnTo>
                    <a:pt x="170" y="268"/>
                  </a:lnTo>
                  <a:lnTo>
                    <a:pt x="275" y="335"/>
                  </a:lnTo>
                  <a:lnTo>
                    <a:pt x="338" y="268"/>
                  </a:lnTo>
                  <a:lnTo>
                    <a:pt x="437" y="268"/>
                  </a:lnTo>
                  <a:lnTo>
                    <a:pt x="490" y="246"/>
                  </a:lnTo>
                  <a:lnTo>
                    <a:pt x="603" y="157"/>
                  </a:lnTo>
                  <a:lnTo>
                    <a:pt x="659" y="201"/>
                  </a:lnTo>
                  <a:lnTo>
                    <a:pt x="773" y="134"/>
                  </a:lnTo>
                  <a:lnTo>
                    <a:pt x="823" y="134"/>
                  </a:lnTo>
                  <a:lnTo>
                    <a:pt x="939" y="0"/>
                  </a:lnTo>
                  <a:lnTo>
                    <a:pt x="980" y="90"/>
                  </a:lnTo>
                  <a:lnTo>
                    <a:pt x="1098" y="157"/>
                  </a:lnTo>
                  <a:lnTo>
                    <a:pt x="1159" y="112"/>
                  </a:lnTo>
                  <a:lnTo>
                    <a:pt x="1315" y="112"/>
                  </a:lnTo>
                  <a:lnTo>
                    <a:pt x="1472" y="157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9720" y="27626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9720" y="23346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99720" y="19083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6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99720" y="147888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6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9720" y="10494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2560" y="3142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00960" y="3142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2640" y="3142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57600" y="3142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64000" y="3142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3640" y="3142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78240" y="3142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2680" y="455760"/>
              <a:ext cx="77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H eau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8560" y="831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-5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4440" y="124956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5-10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1120" y="222300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10-20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57200" y="1374840"/>
            <a:ext cx="1981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ort de 6t CaO h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74920"/>
            <a:ext cx="2666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airie permanente ayant reçu 3120kg N h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n 9 ans Padiès (8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5520" y="4948200"/>
            <a:ext cx="1384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chau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120" y="63817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. Castil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6516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volution du pH sous prairie chaulée et non chau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21:30:33Z</dcterms:created>
  <dc:creator>Bernard</dc:creator>
  <dc:description/>
  <dc:language>en-US</dc:language>
  <cp:lastModifiedBy>_</cp:lastModifiedBy>
  <dcterms:modified xsi:type="dcterms:W3CDTF">2006-04-20T07:30:33Z</dcterms:modified>
  <cp:revision>4</cp:revision>
  <dc:subject/>
  <dc:title>Présentation PowerPoint</dc:title>
</cp:coreProperties>
</file>