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DBD-2B9B-457C-97BB-A0478A8E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7EE-6690-45D3-8827-AF182C42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E32-8697-4343-8828-1A1B6D94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90D-1FDF-49E6-B54A-CBE98E40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C15-BAB2-432C-A78E-43C2F003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85E-80A9-498F-BE36-D6D5BAA4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E0F-57D6-460F-8D6D-BEF6F550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C3C-76EA-4B41-9605-2166A54D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57C-259D-4170-86C7-68D9F088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502-4A7D-4501-8520-47AC099D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635-B3D6-4445-898C-854F8594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73B-41B9-4815-BD8F-137295DB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4170-241F-415D-99CB-29EA74846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4360" y="1628640"/>
            <a:ext cx="8242200" cy="4319640"/>
            <a:chOff x="684360" y="1628640"/>
            <a:chExt cx="8242200" cy="4319640"/>
          </a:xfrm>
        </p:grpSpPr>
        <p:sp>
          <p:nvSpPr>
            <p:cNvPr id="42" name=""/>
            <p:cNvSpPr/>
            <p:nvPr/>
          </p:nvSpPr>
          <p:spPr>
            <a:xfrm>
              <a:off x="5797440" y="2222280"/>
              <a:ext cx="1219320" cy="32767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021440" y="3098520"/>
              <a:ext cx="1905120" cy="1524240"/>
            </a:xfrm>
            <a:custGeom>
              <a:avLst/>
              <a:gdLst>
                <a:gd name="textAreaLeft" fmla="*/ 297720 w 1905120"/>
                <a:gd name="textAreaRight" fmla="*/ 1667160 w 1905120"/>
                <a:gd name="textAreaTop" fmla="*/ 380880 h 1524240"/>
                <a:gd name="textAreaBottom" fmla="*/ 114336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EB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Entreti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140360" y="2060280"/>
              <a:ext cx="1752480" cy="914400"/>
            </a:xfrm>
            <a:prstGeom prst="rightArrow">
              <a:avLst>
                <a:gd name="adj1" fmla="val 50000"/>
                <a:gd name="adj2" fmla="val 4791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ESSIV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78400" y="3251160"/>
              <a:ext cx="2146320" cy="914400"/>
            </a:xfrm>
            <a:prstGeom prst="rightArrow">
              <a:avLst>
                <a:gd name="adj1" fmla="val 50000"/>
                <a:gd name="adj2" fmla="val 58681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PORTATIONS(*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65440" y="4546440"/>
              <a:ext cx="2303640" cy="1401840"/>
            </a:xfrm>
            <a:prstGeom prst="rightArrow">
              <a:avLst>
                <a:gd name="adj1" fmla="val 50000"/>
                <a:gd name="adj2" fmla="val 41082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IDIFICATION PAR le SYSTEME DE CUL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4360" y="1628640"/>
              <a:ext cx="2743200" cy="600120"/>
            </a:xfrm>
            <a:prstGeom prst="rightArrow">
              <a:avLst>
                <a:gd name="adj1" fmla="val 50000"/>
                <a:gd name="adj2" fmla="val 1142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uviosit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4360" y="2205000"/>
              <a:ext cx="2743200" cy="573120"/>
            </a:xfrm>
            <a:prstGeom prst="rightArrow">
              <a:avLst>
                <a:gd name="adj1" fmla="val 50000"/>
                <a:gd name="adj2" fmla="val 11966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B init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4360" y="2492280"/>
              <a:ext cx="2671560" cy="1368360"/>
            </a:xfrm>
            <a:prstGeom prst="rightArrow">
              <a:avLst>
                <a:gd name="adj1" fmla="val 50000"/>
                <a:gd name="adj2" fmla="val 4881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iveau intensific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nitrates) et nature 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gra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4360" y="3644640"/>
              <a:ext cx="2881080" cy="1079640"/>
            </a:xfrm>
            <a:prstGeom prst="rightArrow">
              <a:avLst>
                <a:gd name="adj1" fmla="val 50000"/>
                <a:gd name="adj2" fmla="val 6671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ractère filtra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flux, potentie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4360" y="4508280"/>
              <a:ext cx="2743200" cy="539640"/>
            </a:xfrm>
            <a:prstGeom prst="rightArrow">
              <a:avLst>
                <a:gd name="adj1" fmla="val 50000"/>
                <a:gd name="adj2" fmla="val 12708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ésence légumineu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4360" y="5084640"/>
              <a:ext cx="2743200" cy="576360"/>
            </a:xfrm>
            <a:prstGeom prst="rightArrow">
              <a:avLst>
                <a:gd name="adj1" fmla="val 50000"/>
                <a:gd name="adj2" fmla="val 11898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té eau irrig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93680" y="351000"/>
            <a:ext cx="73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sonnement du besoin en base pour l’entret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1:27:14Z</dcterms:created>
  <dc:creator>Cécile TESSIER</dc:creator>
  <dc:description/>
  <dc:language>en-US</dc:language>
  <cp:lastModifiedBy>_</cp:lastModifiedBy>
  <dcterms:modified xsi:type="dcterms:W3CDTF">2006-02-28T16:55:07Z</dcterms:modified>
  <cp:revision>5</cp:revision>
  <dc:subject/>
  <dc:title>Diapositive 1</dc:title>
</cp:coreProperties>
</file>