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ACD-A86D-43B6-9968-7C8B868B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BE2-44CD-4354-BFD9-4BE88DC1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863-C98C-4241-9A17-CC252B7C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430-0C50-4034-AD88-71B4E108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B2A-D286-4DA8-8D32-9DDD8BE4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427-C83F-47D9-A7DD-61BB37A6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7FE-6A10-4B22-B8A3-4116570E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A88-494D-48CB-AE75-6C1A3427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E4A-1BBD-4EF6-9B5A-FB4238D5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AE7-86A9-49B7-8F30-B3836543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9AB-6FCF-42FE-986C-69AB6C27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BED-2577-4AFC-A4DB-7AEE3956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B4C8-9F47-4300-ADA9-463EE5607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42920"/>
            <a:ext cx="6265800" cy="788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1040" y="27000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riabilité horizontale du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6:30:45Z</dcterms:created>
  <dc:creator>_</dc:creator>
  <dc:description/>
  <dc:language>en-US</dc:language>
  <cp:lastModifiedBy>_</cp:lastModifiedBy>
  <dcterms:modified xsi:type="dcterms:W3CDTF">2006-02-28T16:32:48Z</dcterms:modified>
  <cp:revision>1</cp:revision>
  <dc:subject/>
  <dc:title>Diapositive 1</dc:title>
</cp:coreProperties>
</file>