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47A-7F82-485C-94FD-E95571C1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96C-967D-4A08-8CF1-170C52D0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D28-FC83-4D35-8C4E-2A2AC600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F76-ACF6-4EB4-8B27-0F77348F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D2A-20B5-4E93-BFC4-5964B9E0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538-662D-448B-BE2C-111CF72F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AA0-9419-4F24-8DD2-A2E2BC47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889-3D9A-4C15-9A6D-91D89289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331-C48B-4DE6-AF0A-D4DC5AAC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8B1-0235-445E-AC78-23953F4F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484-C8BE-462A-BE9B-378F3CEF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4F9-14A0-402D-96F8-F9BF9DA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6E0D-C21E-4C1A-88E3-E61EDDC86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6160" y="955800"/>
            <a:ext cx="8737200" cy="5904360"/>
            <a:chOff x="236160" y="955800"/>
            <a:chExt cx="8737200" cy="5904360"/>
          </a:xfrm>
        </p:grpSpPr>
        <p:sp>
          <p:nvSpPr>
            <p:cNvPr id="42" name=""/>
            <p:cNvSpPr/>
            <p:nvPr/>
          </p:nvSpPr>
          <p:spPr>
            <a:xfrm>
              <a:off x="5249880" y="3822480"/>
              <a:ext cx="826920" cy="82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99cc"/>
                  </a:solidFill>
                  <a:latin typeface="Arial"/>
                </a:rPr>
                <a:t>H</a:t>
              </a:r>
              <a:r>
                <a:rPr b="1" lang="en-US" sz="4800" spc="-1" strike="noStrike" baseline="30000">
                  <a:solidFill>
                    <a:srgbClr val="ff99cc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15840" y="2217600"/>
              <a:ext cx="433440" cy="4032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078080" y="1536480"/>
              <a:ext cx="609840" cy="1599840"/>
            </a:xfrm>
            <a:prstGeom prst="cube">
              <a:avLst>
                <a:gd name="adj" fmla="val 6406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890360" y="1284120"/>
              <a:ext cx="31644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20920" y="2217600"/>
              <a:ext cx="0" cy="40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76880" y="1689120"/>
              <a:ext cx="1197360" cy="29595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7508880" y="2246040"/>
              <a:ext cx="152280" cy="304560"/>
              <a:chOff x="7508880" y="2246040"/>
              <a:chExt cx="152280" cy="304560"/>
            </a:xfrm>
          </p:grpSpPr>
          <p:sp>
            <p:nvSpPr>
              <p:cNvPr id="49" name=""/>
              <p:cNvSpPr/>
              <p:nvPr/>
            </p:nvSpPr>
            <p:spPr>
              <a:xfrm>
                <a:off x="7508880" y="224604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61160" y="224604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7508880" y="3060720"/>
              <a:ext cx="152280" cy="304200"/>
              <a:chOff x="7508880" y="3060720"/>
              <a:chExt cx="152280" cy="304200"/>
            </a:xfrm>
          </p:grpSpPr>
          <p:sp>
            <p:nvSpPr>
              <p:cNvPr id="52" name=""/>
              <p:cNvSpPr/>
              <p:nvPr/>
            </p:nvSpPr>
            <p:spPr>
              <a:xfrm>
                <a:off x="7508880" y="3060720"/>
                <a:ext cx="0" cy="30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61160" y="3060720"/>
                <a:ext cx="0" cy="30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508880" y="3822480"/>
              <a:ext cx="152280" cy="304560"/>
              <a:chOff x="7508880" y="3822480"/>
              <a:chExt cx="15228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7508880" y="382248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61160" y="382248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4459320" y="1536480"/>
              <a:ext cx="2315880" cy="15998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Al)-silic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ir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argi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3506040" y="2410200"/>
              <a:ext cx="13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Oxyhydroxy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7280" y="955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442000" y="1716120"/>
              <a:ext cx="322560" cy="40579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99440" y="3517920"/>
              <a:ext cx="609480" cy="685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3040" y="1841400"/>
              <a:ext cx="7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25640" y="2604960"/>
              <a:ext cx="5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25640" y="344160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25280" y="413532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36080" y="490068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36080" y="5665680"/>
              <a:ext cx="86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507760" y="2770200"/>
              <a:ext cx="304920" cy="151920"/>
              <a:chOff x="2507760" y="2770200"/>
              <a:chExt cx="304920" cy="151920"/>
            </a:xfrm>
          </p:grpSpPr>
          <p:sp>
            <p:nvSpPr>
              <p:cNvPr id="69" name=""/>
              <p:cNvSpPr/>
              <p:nvPr/>
            </p:nvSpPr>
            <p:spPr>
              <a:xfrm flipH="1">
                <a:off x="2507760" y="27702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2507760" y="29221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507760" y="3547800"/>
              <a:ext cx="304920" cy="152280"/>
              <a:chOff x="2507760" y="3547800"/>
              <a:chExt cx="304920" cy="152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2507760" y="35478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2507760" y="37000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507760" y="4324320"/>
              <a:ext cx="304920" cy="151920"/>
              <a:chOff x="2507760" y="4324320"/>
              <a:chExt cx="304920" cy="151920"/>
            </a:xfrm>
          </p:grpSpPr>
          <p:sp>
            <p:nvSpPr>
              <p:cNvPr id="75" name=""/>
              <p:cNvSpPr/>
              <p:nvPr/>
            </p:nvSpPr>
            <p:spPr>
              <a:xfrm flipH="1">
                <a:off x="2507760" y="43243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2507760" y="44762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507760" y="5102280"/>
              <a:ext cx="304920" cy="151920"/>
              <a:chOff x="2507760" y="5102280"/>
              <a:chExt cx="304920" cy="151920"/>
            </a:xfrm>
          </p:grpSpPr>
          <p:sp>
            <p:nvSpPr>
              <p:cNvPr id="78" name=""/>
              <p:cNvSpPr/>
              <p:nvPr/>
            </p:nvSpPr>
            <p:spPr>
              <a:xfrm flipH="1">
                <a:off x="2507760" y="51022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2507760" y="52542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507760" y="5879880"/>
              <a:ext cx="304920" cy="152280"/>
              <a:chOff x="2507760" y="5879880"/>
              <a:chExt cx="304920" cy="152280"/>
            </a:xfrm>
          </p:grpSpPr>
          <p:sp>
            <p:nvSpPr>
              <p:cNvPr id="81" name=""/>
              <p:cNvSpPr/>
              <p:nvPr/>
            </p:nvSpPr>
            <p:spPr>
              <a:xfrm flipH="1">
                <a:off x="2507760" y="5879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2507760" y="60321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574440" y="1993680"/>
              <a:ext cx="304920" cy="152280"/>
              <a:chOff x="3574440" y="1993680"/>
              <a:chExt cx="304920" cy="1522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3574440" y="19936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3574440" y="21459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2888640" y="1841400"/>
              <a:ext cx="381240" cy="5331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526560" y="3285720"/>
              <a:ext cx="1061280" cy="810720"/>
              <a:chOff x="3526560" y="3285720"/>
              <a:chExt cx="1061280" cy="81072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3641760" y="3456000"/>
                <a:ext cx="946080" cy="64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526560" y="3285720"/>
                <a:ext cx="946080" cy="64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H="1">
              <a:off x="7460640" y="4051080"/>
              <a:ext cx="38124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8000" y="4584600"/>
              <a:ext cx="93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r>
                <a:rPr b="1" lang="fr-FR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30680" y="5118120"/>
              <a:ext cx="228600" cy="609120"/>
            </a:xfrm>
            <a:custGeom>
              <a:avLst/>
              <a:gdLst/>
              <a:ahLst/>
              <a:rect l="l" t="t" r="r" b="b"/>
              <a:pathLst>
                <a:path w="233" h="2267">
                  <a:moveTo>
                    <a:pt x="168" y="0"/>
                  </a:moveTo>
                  <a:cubicBezTo>
                    <a:pt x="109" y="41"/>
                    <a:pt x="64" y="97"/>
                    <a:pt x="24" y="156"/>
                  </a:cubicBezTo>
                  <a:cubicBezTo>
                    <a:pt x="0" y="246"/>
                    <a:pt x="22" y="344"/>
                    <a:pt x="68" y="422"/>
                  </a:cubicBezTo>
                  <a:cubicBezTo>
                    <a:pt x="80" y="442"/>
                    <a:pt x="96" y="460"/>
                    <a:pt x="112" y="478"/>
                  </a:cubicBezTo>
                  <a:cubicBezTo>
                    <a:pt x="129" y="498"/>
                    <a:pt x="168" y="534"/>
                    <a:pt x="168" y="534"/>
                  </a:cubicBezTo>
                  <a:cubicBezTo>
                    <a:pt x="184" y="583"/>
                    <a:pt x="206" y="629"/>
                    <a:pt x="224" y="678"/>
                  </a:cubicBezTo>
                  <a:cubicBezTo>
                    <a:pt x="219" y="760"/>
                    <a:pt x="233" y="847"/>
                    <a:pt x="201" y="922"/>
                  </a:cubicBezTo>
                  <a:cubicBezTo>
                    <a:pt x="197" y="932"/>
                    <a:pt x="185" y="936"/>
                    <a:pt x="179" y="945"/>
                  </a:cubicBezTo>
                  <a:cubicBezTo>
                    <a:pt x="134" y="1006"/>
                    <a:pt x="46" y="1111"/>
                    <a:pt x="24" y="1178"/>
                  </a:cubicBezTo>
                  <a:cubicBezTo>
                    <a:pt x="28" y="1256"/>
                    <a:pt x="22" y="1334"/>
                    <a:pt x="35" y="1411"/>
                  </a:cubicBezTo>
                  <a:cubicBezTo>
                    <a:pt x="38" y="1427"/>
                    <a:pt x="60" y="1431"/>
                    <a:pt x="68" y="1445"/>
                  </a:cubicBezTo>
                  <a:cubicBezTo>
                    <a:pt x="95" y="1493"/>
                    <a:pt x="84" y="1540"/>
                    <a:pt x="124" y="1578"/>
                  </a:cubicBezTo>
                  <a:cubicBezTo>
                    <a:pt x="128" y="1589"/>
                    <a:pt x="129" y="1601"/>
                    <a:pt x="135" y="1611"/>
                  </a:cubicBezTo>
                  <a:cubicBezTo>
                    <a:pt x="148" y="1634"/>
                    <a:pt x="179" y="1678"/>
                    <a:pt x="179" y="1678"/>
                  </a:cubicBezTo>
                  <a:cubicBezTo>
                    <a:pt x="185" y="1708"/>
                    <a:pt x="201" y="1736"/>
                    <a:pt x="201" y="1767"/>
                  </a:cubicBezTo>
                  <a:cubicBezTo>
                    <a:pt x="201" y="1846"/>
                    <a:pt x="175" y="1892"/>
                    <a:pt x="124" y="1945"/>
                  </a:cubicBezTo>
                  <a:cubicBezTo>
                    <a:pt x="79" y="2069"/>
                    <a:pt x="112" y="1966"/>
                    <a:pt x="112" y="226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10968000">
              <a:off x="3723840" y="3317040"/>
              <a:ext cx="2287440" cy="837720"/>
            </a:xfrm>
            <a:custGeom>
              <a:avLst/>
              <a:gdLst>
                <a:gd name="textAreaLeft" fmla="*/ 0 w 2287440"/>
                <a:gd name="textAreaRight" fmla="*/ 2287800 w 2287440"/>
                <a:gd name="textAreaTop" fmla="*/ -360 h 837720"/>
                <a:gd name="textAreaBottom" fmla="*/ 8377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122" y="11583"/>
                  </a:moveTo>
                  <a:arcTo wR="-7718" hR="-7718" stAng="10450672" swAng="-11767462"/>
                  <a:lnTo>
                    <a:pt x="783" y="14836"/>
                  </a:lnTo>
                  <a:arcTo wR="10800" hR="10800" stAng="9483210" swAng="11767462"/>
                  <a:lnTo>
                    <a:pt x="24230" y="9431"/>
                  </a:lnTo>
                  <a:lnTo>
                    <a:pt x="20441" y="14080"/>
                  </a:lnTo>
                  <a:lnTo>
                    <a:pt x="15792" y="10291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3400" y="5118120"/>
              <a:ext cx="228600" cy="609120"/>
            </a:xfrm>
            <a:custGeom>
              <a:avLst/>
              <a:gdLst/>
              <a:ahLst/>
              <a:rect l="l" t="t" r="r" b="b"/>
              <a:pathLst>
                <a:path w="233" h="2267">
                  <a:moveTo>
                    <a:pt x="168" y="0"/>
                  </a:moveTo>
                  <a:cubicBezTo>
                    <a:pt x="109" y="41"/>
                    <a:pt x="64" y="97"/>
                    <a:pt x="24" y="156"/>
                  </a:cubicBezTo>
                  <a:cubicBezTo>
                    <a:pt x="0" y="246"/>
                    <a:pt x="22" y="344"/>
                    <a:pt x="68" y="422"/>
                  </a:cubicBezTo>
                  <a:cubicBezTo>
                    <a:pt x="80" y="442"/>
                    <a:pt x="96" y="460"/>
                    <a:pt x="112" y="478"/>
                  </a:cubicBezTo>
                  <a:cubicBezTo>
                    <a:pt x="129" y="498"/>
                    <a:pt x="168" y="534"/>
                    <a:pt x="168" y="534"/>
                  </a:cubicBezTo>
                  <a:cubicBezTo>
                    <a:pt x="184" y="583"/>
                    <a:pt x="206" y="629"/>
                    <a:pt x="224" y="678"/>
                  </a:cubicBezTo>
                  <a:cubicBezTo>
                    <a:pt x="219" y="760"/>
                    <a:pt x="233" y="847"/>
                    <a:pt x="201" y="922"/>
                  </a:cubicBezTo>
                  <a:cubicBezTo>
                    <a:pt x="197" y="932"/>
                    <a:pt x="185" y="936"/>
                    <a:pt x="179" y="945"/>
                  </a:cubicBezTo>
                  <a:cubicBezTo>
                    <a:pt x="134" y="1006"/>
                    <a:pt x="46" y="1111"/>
                    <a:pt x="24" y="1178"/>
                  </a:cubicBezTo>
                  <a:cubicBezTo>
                    <a:pt x="28" y="1256"/>
                    <a:pt x="22" y="1334"/>
                    <a:pt x="35" y="1411"/>
                  </a:cubicBezTo>
                  <a:cubicBezTo>
                    <a:pt x="38" y="1427"/>
                    <a:pt x="60" y="1431"/>
                    <a:pt x="68" y="1445"/>
                  </a:cubicBezTo>
                  <a:cubicBezTo>
                    <a:pt x="95" y="1493"/>
                    <a:pt x="84" y="1540"/>
                    <a:pt x="124" y="1578"/>
                  </a:cubicBezTo>
                  <a:cubicBezTo>
                    <a:pt x="128" y="1589"/>
                    <a:pt x="129" y="1601"/>
                    <a:pt x="135" y="1611"/>
                  </a:cubicBezTo>
                  <a:cubicBezTo>
                    <a:pt x="148" y="1634"/>
                    <a:pt x="179" y="1678"/>
                    <a:pt x="179" y="1678"/>
                  </a:cubicBezTo>
                  <a:cubicBezTo>
                    <a:pt x="185" y="1708"/>
                    <a:pt x="201" y="1736"/>
                    <a:pt x="201" y="1767"/>
                  </a:cubicBezTo>
                  <a:cubicBezTo>
                    <a:pt x="201" y="1846"/>
                    <a:pt x="175" y="1892"/>
                    <a:pt x="124" y="1945"/>
                  </a:cubicBezTo>
                  <a:cubicBezTo>
                    <a:pt x="79" y="2069"/>
                    <a:pt x="112" y="1966"/>
                    <a:pt x="112" y="226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27440" y="6032520"/>
              <a:ext cx="228600" cy="609120"/>
            </a:xfrm>
            <a:custGeom>
              <a:avLst/>
              <a:gdLst/>
              <a:ahLst/>
              <a:rect l="l" t="t" r="r" b="b"/>
              <a:pathLst>
                <a:path w="233" h="2267">
                  <a:moveTo>
                    <a:pt x="168" y="0"/>
                  </a:moveTo>
                  <a:cubicBezTo>
                    <a:pt x="109" y="41"/>
                    <a:pt x="64" y="97"/>
                    <a:pt x="24" y="156"/>
                  </a:cubicBezTo>
                  <a:cubicBezTo>
                    <a:pt x="0" y="246"/>
                    <a:pt x="22" y="344"/>
                    <a:pt x="68" y="422"/>
                  </a:cubicBezTo>
                  <a:cubicBezTo>
                    <a:pt x="80" y="442"/>
                    <a:pt x="96" y="460"/>
                    <a:pt x="112" y="478"/>
                  </a:cubicBezTo>
                  <a:cubicBezTo>
                    <a:pt x="129" y="498"/>
                    <a:pt x="168" y="534"/>
                    <a:pt x="168" y="534"/>
                  </a:cubicBezTo>
                  <a:cubicBezTo>
                    <a:pt x="184" y="583"/>
                    <a:pt x="206" y="629"/>
                    <a:pt x="224" y="678"/>
                  </a:cubicBezTo>
                  <a:cubicBezTo>
                    <a:pt x="219" y="760"/>
                    <a:pt x="233" y="847"/>
                    <a:pt x="201" y="922"/>
                  </a:cubicBezTo>
                  <a:cubicBezTo>
                    <a:pt x="197" y="932"/>
                    <a:pt x="185" y="936"/>
                    <a:pt x="179" y="945"/>
                  </a:cubicBezTo>
                  <a:cubicBezTo>
                    <a:pt x="134" y="1006"/>
                    <a:pt x="46" y="1111"/>
                    <a:pt x="24" y="1178"/>
                  </a:cubicBezTo>
                  <a:cubicBezTo>
                    <a:pt x="28" y="1256"/>
                    <a:pt x="22" y="1334"/>
                    <a:pt x="35" y="1411"/>
                  </a:cubicBezTo>
                  <a:cubicBezTo>
                    <a:pt x="38" y="1427"/>
                    <a:pt x="60" y="1431"/>
                    <a:pt x="68" y="1445"/>
                  </a:cubicBezTo>
                  <a:cubicBezTo>
                    <a:pt x="95" y="1493"/>
                    <a:pt x="84" y="1540"/>
                    <a:pt x="124" y="1578"/>
                  </a:cubicBezTo>
                  <a:cubicBezTo>
                    <a:pt x="128" y="1589"/>
                    <a:pt x="129" y="1601"/>
                    <a:pt x="135" y="1611"/>
                  </a:cubicBezTo>
                  <a:cubicBezTo>
                    <a:pt x="148" y="1634"/>
                    <a:pt x="179" y="1678"/>
                    <a:pt x="179" y="1678"/>
                  </a:cubicBezTo>
                  <a:cubicBezTo>
                    <a:pt x="185" y="1708"/>
                    <a:pt x="201" y="1736"/>
                    <a:pt x="201" y="1767"/>
                  </a:cubicBezTo>
                  <a:cubicBezTo>
                    <a:pt x="201" y="1846"/>
                    <a:pt x="175" y="1892"/>
                    <a:pt x="124" y="1945"/>
                  </a:cubicBezTo>
                  <a:cubicBezTo>
                    <a:pt x="79" y="2069"/>
                    <a:pt x="112" y="1966"/>
                    <a:pt x="112" y="226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36720" y="3060720"/>
              <a:ext cx="533520" cy="228240"/>
            </a:xfrm>
            <a:prstGeom prst="leftArrow">
              <a:avLst>
                <a:gd name="adj1" fmla="val 50000"/>
                <a:gd name="adj2" fmla="val 58438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89000" y="5346720"/>
              <a:ext cx="533520" cy="228240"/>
            </a:xfrm>
            <a:prstGeom prst="leftArrow">
              <a:avLst>
                <a:gd name="adj1" fmla="val 50000"/>
                <a:gd name="adj2" fmla="val 584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89000" y="6108480"/>
              <a:ext cx="533520" cy="228240"/>
            </a:xfrm>
            <a:prstGeom prst="leftArrow">
              <a:avLst>
                <a:gd name="adj1" fmla="val 50000"/>
                <a:gd name="adj2" fmla="val 5843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507760" y="1993680"/>
              <a:ext cx="304920" cy="152280"/>
              <a:chOff x="2507760" y="1993680"/>
              <a:chExt cx="304920" cy="152280"/>
            </a:xfrm>
          </p:grpSpPr>
          <p:sp>
            <p:nvSpPr>
              <p:cNvPr id="100" name=""/>
              <p:cNvSpPr/>
              <p:nvPr/>
            </p:nvSpPr>
            <p:spPr>
              <a:xfrm flipH="1">
                <a:off x="2507760" y="19936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507760" y="21459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49280" y="1724040"/>
              <a:ext cx="1096200" cy="4525200"/>
              <a:chOff x="449280" y="1724040"/>
              <a:chExt cx="1096200" cy="4525200"/>
            </a:xfrm>
          </p:grpSpPr>
          <p:sp>
            <p:nvSpPr>
              <p:cNvPr id="103" name=""/>
              <p:cNvSpPr/>
              <p:nvPr/>
            </p:nvSpPr>
            <p:spPr>
              <a:xfrm>
                <a:off x="458640" y="3323880"/>
                <a:ext cx="457200" cy="292536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8640" y="3018960"/>
                <a:ext cx="457200" cy="3441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8640" y="2866680"/>
                <a:ext cx="457200" cy="169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49280" y="2883960"/>
                <a:ext cx="466560" cy="25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8640" y="2256840"/>
                <a:ext cx="457200" cy="663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44440" y="2649240"/>
                <a:ext cx="104760" cy="91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06440" y="2598120"/>
                <a:ext cx="165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l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44440" y="3263400"/>
                <a:ext cx="104760" cy="918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06440" y="32126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44440" y="3868200"/>
                <a:ext cx="104760" cy="918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06440" y="381744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44440" y="4482720"/>
                <a:ext cx="104760" cy="9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06440" y="44319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44440" y="5087520"/>
                <a:ext cx="104760" cy="918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07160" y="503676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144440" y="5700240"/>
                <a:ext cx="104760" cy="9324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306440" y="56509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8640" y="1724040"/>
                <a:ext cx="457200" cy="532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136520" y="1917720"/>
              <a:ext cx="537480" cy="198360"/>
              <a:chOff x="1136520" y="1917720"/>
              <a:chExt cx="537480" cy="198360"/>
            </a:xfrm>
          </p:grpSpPr>
          <p:sp>
            <p:nvSpPr>
              <p:cNvPr id="122" name=""/>
              <p:cNvSpPr/>
              <p:nvPr/>
            </p:nvSpPr>
            <p:spPr>
              <a:xfrm>
                <a:off x="1136520" y="1993320"/>
                <a:ext cx="10476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89160" y="1917720"/>
                <a:ext cx="38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000000"/>
                    </a:solidFill>
                    <a:latin typeface="Arial"/>
                  </a:rPr>
                  <a:t>H 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348520" y="6553080"/>
              <a:ext cx="281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B. Fabre 2004, d’après Dufey 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160" y="1112760"/>
              <a:ext cx="120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% C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6440" y="1112760"/>
              <a:ext cx="93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E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370960" y="33336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ification : décal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9:49:31Z</dcterms:created>
  <dc:creator>_</dc:creator>
  <dc:description/>
  <dc:language>en-US</dc:language>
  <cp:lastModifiedBy>_</cp:lastModifiedBy>
  <dcterms:modified xsi:type="dcterms:W3CDTF">2006-04-20T07:04:44Z</dcterms:modified>
  <cp:revision>5</cp:revision>
  <dc:subject/>
  <dc:title>Diapositive 1</dc:title>
</cp:coreProperties>
</file>