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D47-0A09-4F10-AFA5-49490979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873-F166-437F-BF11-209091AA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D8D-A88A-4580-8AD2-4DBF4297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949-77FF-4640-A52C-C6525053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CF5-F9B0-4481-A9F7-F9ABE7B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54A-4DA1-4CD4-A768-D902CDFD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EF8-C0BA-4438-B623-10CECD35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DF8-E8B9-4642-85B3-FD977FA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9D6-26D8-4BC0-AEDC-A9D1830F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CB0-9B13-48D5-8180-58665F11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AF5-34AB-43D2-97B5-EBAC088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15E-8B4E-4C1A-960F-A807A30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DD13-4B05-4166-9C09-BE60D7F8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066680"/>
            <a:ext cx="8610480" cy="5486400"/>
            <a:chOff x="304920" y="1066680"/>
            <a:chExt cx="8610480" cy="5486400"/>
          </a:xfrm>
        </p:grpSpPr>
        <p:sp>
          <p:nvSpPr>
            <p:cNvPr id="42" name=""/>
            <p:cNvSpPr/>
            <p:nvPr/>
          </p:nvSpPr>
          <p:spPr>
            <a:xfrm>
              <a:off x="994320" y="3554280"/>
              <a:ext cx="581400" cy="305280"/>
            </a:xfrm>
            <a:prstGeom prst="rect">
              <a:avLst/>
            </a:prstGeom>
            <a:noFill/>
            <a:ln w="936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4581360"/>
              <a:ext cx="633240" cy="305280"/>
            </a:xfrm>
            <a:prstGeom prst="rect">
              <a:avLst/>
            </a:prstGeom>
            <a:noFill/>
            <a:ln w="936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231920"/>
              <a:ext cx="1523880" cy="1274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4680" y="1306440"/>
              <a:ext cx="14270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ort  d’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mend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i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ciqu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2506680"/>
              <a:ext cx="0" cy="2247840"/>
            </a:xfrm>
            <a:prstGeom prst="line">
              <a:avLst/>
            </a:prstGeom>
            <a:ln w="28440">
              <a:solidFill>
                <a:srgbClr val="2f9f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880" y="3630600"/>
              <a:ext cx="456840" cy="74160"/>
              <a:chOff x="380880" y="3630600"/>
              <a:chExt cx="456840" cy="74160"/>
            </a:xfrm>
          </p:grpSpPr>
          <p:sp>
            <p:nvSpPr>
              <p:cNvPr id="48" name=""/>
              <p:cNvSpPr/>
              <p:nvPr/>
            </p:nvSpPr>
            <p:spPr>
              <a:xfrm>
                <a:off x="380880" y="3657600"/>
                <a:ext cx="456840" cy="18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2f9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95160" y="3630600"/>
                <a:ext cx="142560" cy="7416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64" y="2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2f9f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80880" y="4754520"/>
              <a:ext cx="456840" cy="74160"/>
              <a:chOff x="380880" y="4754520"/>
              <a:chExt cx="456840" cy="7416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4781520"/>
                <a:ext cx="456840" cy="18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2f9f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95160" y="4754520"/>
                <a:ext cx="142560" cy="7416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64" y="2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2f9f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828800" y="1066680"/>
              <a:ext cx="1981080" cy="5275080"/>
              <a:chOff x="1828800" y="1066680"/>
              <a:chExt cx="1981080" cy="5275080"/>
            </a:xfrm>
          </p:grpSpPr>
          <p:sp>
            <p:nvSpPr>
              <p:cNvPr id="54" name=""/>
              <p:cNvSpPr/>
              <p:nvPr/>
            </p:nvSpPr>
            <p:spPr>
              <a:xfrm>
                <a:off x="2210040" y="1066680"/>
                <a:ext cx="1446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ffets direc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13880" y="2878560"/>
                <a:ext cx="627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56680" y="4753080"/>
                <a:ext cx="1575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6000" y="5502240"/>
                <a:ext cx="1151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U SO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28800" y="2430720"/>
                <a:ext cx="1960560" cy="1198440"/>
              </a:xfrm>
              <a:prstGeom prst="ellipse">
                <a:avLst/>
              </a:prstGeom>
              <a:noFill/>
              <a:ln w="79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8800" y="4154040"/>
                <a:ext cx="1981080" cy="2187720"/>
              </a:xfrm>
              <a:prstGeom prst="ellipse">
                <a:avLst/>
              </a:prstGeom>
              <a:noFill/>
              <a:ln w="79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495680" y="1066680"/>
              <a:ext cx="4419720" cy="5486400"/>
              <a:chOff x="4495680" y="1066680"/>
              <a:chExt cx="4419720" cy="54864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4724640" y="1066680"/>
                <a:ext cx="4190760" cy="988560"/>
                <a:chOff x="4724640" y="1066680"/>
                <a:chExt cx="4190760" cy="9885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019920" y="1066680"/>
                  <a:ext cx="1651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ffets indirec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724640" y="1380240"/>
                  <a:ext cx="13708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esures d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priétés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629400" y="1380240"/>
                  <a:ext cx="22860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valuation des états et des comporte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6553080" y="1381680"/>
                  <a:ext cx="68760" cy="673560"/>
                  <a:chOff x="6553080" y="1381680"/>
                  <a:chExt cx="68760" cy="6735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553080" y="1381680"/>
                    <a:ext cx="68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6553080" y="13982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553080" y="141660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553080" y="14367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6553080" y="14547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553080" y="1473120"/>
                    <a:ext cx="68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553080" y="14932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6553080" y="151128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6553080" y="15314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553080" y="1549800"/>
                    <a:ext cx="68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6553080" y="15692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553080" y="158796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553080" y="16077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553080" y="162612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553080" y="164592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553080" y="16646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553080" y="16844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553080" y="17024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6553080" y="172260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6553080" y="17409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553080" y="176112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553080" y="177912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553080" y="17992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553080" y="18176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553080" y="18374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6553080" y="185580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553080" y="187380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553080" y="189396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6553080" y="191232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6553080" y="19324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553080" y="195048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553080" y="19706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553080" y="1989000"/>
                    <a:ext cx="68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553080" y="20091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553080" y="202716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553080" y="2046960"/>
                    <a:ext cx="68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" name=""/>
              <p:cNvSpPr/>
              <p:nvPr/>
            </p:nvSpPr>
            <p:spPr>
              <a:xfrm>
                <a:off x="4572000" y="1981080"/>
                <a:ext cx="4114800" cy="4572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4495680" y="2131920"/>
                <a:ext cx="4114800" cy="1722600"/>
                <a:chOff x="4495680" y="2131920"/>
                <a:chExt cx="4114800" cy="17226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638320" y="2131920"/>
                  <a:ext cx="2324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priétés chimiqu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49760" y="2505960"/>
                  <a:ext cx="1419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ncent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087320" y="2505960"/>
                  <a:ext cx="975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aren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49040" y="2880360"/>
                  <a:ext cx="135720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E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sponibilité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s élé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086600" y="2955600"/>
                  <a:ext cx="90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xicité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086960" y="3255120"/>
                  <a:ext cx="1218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eneurs du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égé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6553080" y="2655720"/>
                  <a:ext cx="68760" cy="976320"/>
                  <a:chOff x="6553080" y="2655720"/>
                  <a:chExt cx="68760" cy="976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6553080" y="265572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553080" y="267948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553080" y="270648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553080" y="273528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553080" y="276156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553080" y="2788560"/>
                    <a:ext cx="68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553080" y="281736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6553080" y="2843640"/>
                    <a:ext cx="68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53080" y="287244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6553080" y="2899440"/>
                    <a:ext cx="68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553080" y="292788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2954520"/>
                    <a:ext cx="68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298368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553080" y="300996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553080" y="303876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553080" y="306576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553080" y="309456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553080" y="312084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553080" y="314964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553080" y="317664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553080" y="320544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53080" y="323172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553080" y="326088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553080" y="328752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553080" y="331596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553080" y="334296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553080" y="3368880"/>
                    <a:ext cx="68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553080" y="339804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553080" y="3424680"/>
                    <a:ext cx="68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553080" y="345384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553080" y="3480120"/>
                    <a:ext cx="68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553080" y="3508920"/>
                    <a:ext cx="68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553080" y="3535920"/>
                    <a:ext cx="68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553080" y="3564720"/>
                    <a:ext cx="687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553080" y="3591000"/>
                    <a:ext cx="68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553080" y="3620160"/>
                    <a:ext cx="68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"/>
                <p:cNvSpPr/>
                <p:nvPr/>
              </p:nvSpPr>
              <p:spPr>
                <a:xfrm>
                  <a:off x="4495680" y="3854520"/>
                  <a:ext cx="4114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725000" y="5029200"/>
                <a:ext cx="3876840" cy="1402560"/>
                <a:chOff x="4725000" y="5029200"/>
                <a:chExt cx="3876840" cy="1402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782680" y="5029200"/>
                  <a:ext cx="2049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ctivité biologiq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25000" y="5334120"/>
                  <a:ext cx="139536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pulation et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iomas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icrobien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aune du so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42760" y="5334120"/>
                  <a:ext cx="1459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zote minéra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sponi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23760" y="5867280"/>
                  <a:ext cx="13449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ésence de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lad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6553080" y="5334120"/>
                  <a:ext cx="73080" cy="1065960"/>
                  <a:chOff x="6553080" y="5334120"/>
                  <a:chExt cx="73080" cy="1065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6553080" y="5334120"/>
                    <a:ext cx="730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553080" y="536004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553080" y="538956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553080" y="542124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553080" y="544968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6553080" y="5479200"/>
                    <a:ext cx="73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6553080" y="551052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553080" y="5539320"/>
                    <a:ext cx="73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553080" y="557100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553080" y="5600160"/>
                    <a:ext cx="73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553080" y="563148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553080" y="5660640"/>
                    <a:ext cx="73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6553080" y="569232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553080" y="572076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553080" y="575244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553080" y="578160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81328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84208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53080" y="587376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553080" y="590292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553080" y="593460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553080" y="596340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553080" y="599508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553080" y="602424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553080" y="605520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553080" y="608436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553080" y="6113160"/>
                    <a:ext cx="73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614484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553080" y="6174000"/>
                    <a:ext cx="73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553080" y="620568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553080" y="6234480"/>
                    <a:ext cx="73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553080" y="6266160"/>
                    <a:ext cx="73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553080" y="6295320"/>
                    <a:ext cx="73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553080" y="6327000"/>
                    <a:ext cx="73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553080" y="6355440"/>
                    <a:ext cx="73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553080" y="6387120"/>
                    <a:ext cx="730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4495680" y="3929040"/>
                <a:ext cx="4114800" cy="1123920"/>
                <a:chOff x="4495680" y="3929040"/>
                <a:chExt cx="4114800" cy="11239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858000" y="4228200"/>
                  <a:ext cx="162720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attance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issu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erméabilité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714640" y="3929040"/>
                  <a:ext cx="2324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priétés physiqu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48680" y="4228200"/>
                  <a:ext cx="10659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tabilité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tructur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6553080" y="4228200"/>
                  <a:ext cx="68760" cy="673920"/>
                  <a:chOff x="6553080" y="4228200"/>
                  <a:chExt cx="68760" cy="6739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553080" y="4228200"/>
                    <a:ext cx="68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3080" y="424476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553080" y="426312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53080" y="42832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553080" y="43012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553080" y="4319640"/>
                    <a:ext cx="68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553080" y="433980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3080" y="435780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553080" y="43779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53080" y="4396320"/>
                    <a:ext cx="68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3080" y="441612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553080" y="443448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553080" y="44546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553080" y="44726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553080" y="449280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553080" y="45111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553080" y="453132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553080" y="454932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553080" y="45694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3080" y="45878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553080" y="460764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553080" y="462600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553080" y="464580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53080" y="466452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553080" y="468396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553080" y="47026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472068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474084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553080" y="475920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553080" y="477936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553080" y="479736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553080" y="4817160"/>
                    <a:ext cx="68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553080" y="4835880"/>
                    <a:ext cx="68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553080" y="4855680"/>
                    <a:ext cx="68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553080" y="4874040"/>
                    <a:ext cx="68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553080" y="4893840"/>
                    <a:ext cx="68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2" y="1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>
                  <a:off x="4495680" y="5052960"/>
                  <a:ext cx="4114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 flipV="1">
              <a:off x="1676520" y="342864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520" y="37339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547640" y="3657240"/>
              <a:ext cx="9669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7640" y="4724280"/>
              <a:ext cx="204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100240" y="2602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différents effets du chau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29:25Z</dcterms:created>
  <dc:creator>_</dc:creator>
  <dc:description/>
  <dc:language>en-US</dc:language>
  <cp:lastModifiedBy>_</cp:lastModifiedBy>
  <dcterms:modified xsi:type="dcterms:W3CDTF">2006-03-13T09:28:41Z</dcterms:modified>
  <cp:revision>3</cp:revision>
  <dc:subject/>
  <dc:title>Diapositive 1</dc:title>
</cp:coreProperties>
</file>