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999-A68F-49C1-8B6C-7A099D7F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EA2-B071-470C-8A8D-DFCBAD68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F25-700C-4218-9AD9-0A84EB08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85D-9468-42CA-80CB-FBBB11B9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CCE-7C5F-4B5C-BE94-EA8B7A77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61B-13D1-4358-BD2D-2F550687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20A-A2B8-4D79-916E-1663835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2D9-1AD8-448B-9080-A49F7BB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860-D7DD-4B8C-90A5-9186ACC0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113-697D-42F1-8C5B-54FB172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D86-13F0-4C44-BC1D-ABBDF15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5F2-DA17-4B31-8825-B5AD0D9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EE7-DC2E-4742-B5F9-B47BEF429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9080"/>
            <a:chOff x="0" y="0"/>
            <a:chExt cx="9144000" cy="68590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45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04000" y="6216480"/>
              <a:ext cx="23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. Reau, comm. Pers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496200" y="784080"/>
            <a:ext cx="264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n pH et indice pathologique de la hernie du cho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07:21Z</dcterms:created>
  <dc:creator>_</dc:creator>
  <dc:description/>
  <dc:language>en-US</dc:language>
  <cp:lastModifiedBy>_</cp:lastModifiedBy>
  <dcterms:modified xsi:type="dcterms:W3CDTF">2006-02-28T14:52:03Z</dcterms:modified>
  <cp:revision>2</cp:revision>
  <dc:subject/>
  <dc:title>Diapositive 1</dc:title>
</cp:coreProperties>
</file>