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B0B-8B6D-4FF8-941B-4B38D5B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752-F7AB-490D-B67B-79D3B008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BBE-0A92-42B4-BDEA-02D67AE8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E1C-88EA-45E2-9C60-120517A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DED-6678-4318-9EFC-0214FDF8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071-5D55-4953-B2E9-9A147DB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26D-3B2D-45D0-B37C-35DB57E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510-7F32-42FE-9731-4517E5A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84D-F05F-42E9-ADA0-199B05D3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937-F990-428B-BE82-DCB644B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96B-055F-4FE9-9D32-6DC58E9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25D-AD78-403B-98B8-B63DAC7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138-0807-474D-B43E-BA20B7196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680" y="654120"/>
            <a:ext cx="8634240" cy="5549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30400" y="1549440"/>
            <a:ext cx="1440" cy="353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4600" y="5087880"/>
            <a:ext cx="10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4600" y="43862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4600" y="3670200"/>
            <a:ext cx="10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4600" y="2968560"/>
            <a:ext cx="10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74600" y="22510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4600" y="15494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30400" y="5087880"/>
            <a:ext cx="6994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3040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0192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5904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3056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60352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97504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3216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70512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7664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44816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0528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7860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54976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2128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8020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65172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02324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394400" y="5046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75332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124840" y="5046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08240" y="2471760"/>
            <a:ext cx="6637320" cy="2189160"/>
          </a:xfrm>
          <a:custGeom>
            <a:avLst/>
            <a:gdLst/>
            <a:ahLst/>
            <a:rect l="l" t="t" r="r" b="b"/>
            <a:pathLst>
              <a:path w="482" h="159">
                <a:moveTo>
                  <a:pt x="0" y="159"/>
                </a:moveTo>
                <a:lnTo>
                  <a:pt x="27" y="144"/>
                </a:lnTo>
                <a:lnTo>
                  <a:pt x="54" y="92"/>
                </a:lnTo>
                <a:lnTo>
                  <a:pt x="81" y="87"/>
                </a:lnTo>
                <a:lnTo>
                  <a:pt x="107" y="56"/>
                </a:lnTo>
                <a:lnTo>
                  <a:pt x="134" y="20"/>
                </a:lnTo>
                <a:lnTo>
                  <a:pt x="161" y="0"/>
                </a:lnTo>
                <a:lnTo>
                  <a:pt x="188" y="31"/>
                </a:lnTo>
                <a:lnTo>
                  <a:pt x="214" y="20"/>
                </a:lnTo>
                <a:lnTo>
                  <a:pt x="241" y="46"/>
                </a:lnTo>
                <a:lnTo>
                  <a:pt x="268" y="92"/>
                </a:lnTo>
                <a:lnTo>
                  <a:pt x="294" y="118"/>
                </a:lnTo>
                <a:lnTo>
                  <a:pt x="321" y="159"/>
                </a:lnTo>
                <a:lnTo>
                  <a:pt x="348" y="154"/>
                </a:lnTo>
                <a:lnTo>
                  <a:pt x="375" y="149"/>
                </a:lnTo>
                <a:lnTo>
                  <a:pt x="401" y="144"/>
                </a:lnTo>
                <a:lnTo>
                  <a:pt x="428" y="139"/>
                </a:lnTo>
                <a:lnTo>
                  <a:pt x="455" y="118"/>
                </a:lnTo>
                <a:lnTo>
                  <a:pt x="482" y="9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8240" y="1687680"/>
            <a:ext cx="6637320" cy="1982520"/>
          </a:xfrm>
          <a:custGeom>
            <a:avLst/>
            <a:gdLst/>
            <a:ahLst/>
            <a:rect l="l" t="t" r="r" b="b"/>
            <a:pathLst>
              <a:path w="482" h="144">
                <a:moveTo>
                  <a:pt x="0" y="144"/>
                </a:moveTo>
                <a:lnTo>
                  <a:pt x="27" y="113"/>
                </a:lnTo>
                <a:lnTo>
                  <a:pt x="54" y="83"/>
                </a:lnTo>
                <a:lnTo>
                  <a:pt x="81" y="0"/>
                </a:lnTo>
                <a:lnTo>
                  <a:pt x="107" y="72"/>
                </a:lnTo>
                <a:lnTo>
                  <a:pt x="134" y="11"/>
                </a:lnTo>
                <a:lnTo>
                  <a:pt x="161" y="21"/>
                </a:lnTo>
                <a:lnTo>
                  <a:pt x="188" y="11"/>
                </a:lnTo>
                <a:lnTo>
                  <a:pt x="214" y="21"/>
                </a:lnTo>
                <a:lnTo>
                  <a:pt x="241" y="83"/>
                </a:lnTo>
                <a:lnTo>
                  <a:pt x="268" y="98"/>
                </a:lnTo>
                <a:lnTo>
                  <a:pt x="294" y="119"/>
                </a:lnTo>
                <a:lnTo>
                  <a:pt x="321" y="129"/>
                </a:lnTo>
                <a:lnTo>
                  <a:pt x="348" y="113"/>
                </a:lnTo>
                <a:lnTo>
                  <a:pt x="375" y="103"/>
                </a:lnTo>
                <a:lnTo>
                  <a:pt x="401" y="93"/>
                </a:lnTo>
                <a:lnTo>
                  <a:pt x="428" y="83"/>
                </a:lnTo>
                <a:lnTo>
                  <a:pt x="455" y="62"/>
                </a:lnTo>
                <a:lnTo>
                  <a:pt x="482" y="4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9840" y="459252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1360" y="43862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2880" y="367020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4400" y="3600360"/>
            <a:ext cx="125280" cy="1256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12960" y="31748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84480" y="26780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56000" y="240336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28960" y="2830680"/>
            <a:ext cx="123840" cy="12348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86080" y="26780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7600" y="303696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29120" y="3670200"/>
            <a:ext cx="1256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88040" y="402732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9560" y="459252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31080" y="4524480"/>
            <a:ext cx="12348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4040" y="44546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1160" y="438624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32680" y="4316400"/>
            <a:ext cx="123840" cy="12528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04200" y="4027320"/>
            <a:ext cx="12528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7160" y="3738600"/>
            <a:ext cx="123840" cy="123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600360"/>
            <a:ext cx="123840" cy="1256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1360" y="317484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2880" y="2760840"/>
            <a:ext cx="123840" cy="12348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4400" y="1619280"/>
            <a:ext cx="12528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12960" y="261000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7012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56000" y="190800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28960" y="177012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6080" y="190800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0" y="2760840"/>
            <a:ext cx="123840" cy="12348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9120" y="2968560"/>
            <a:ext cx="1256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88040" y="325764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9560" y="339408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31080" y="3174840"/>
            <a:ext cx="12348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4040" y="303696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61160" y="289872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32680" y="2760840"/>
            <a:ext cx="123840" cy="12348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04200" y="2471760"/>
            <a:ext cx="12528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77160" y="2182680"/>
            <a:ext cx="123840" cy="123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24840" y="1549440"/>
            <a:ext cx="1440" cy="353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69400" y="154944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69400" y="225108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69400" y="296856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69400" y="367020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69400" y="438624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69400" y="5087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6080" y="2541600"/>
            <a:ext cx="2589480" cy="2119320"/>
          </a:xfrm>
          <a:custGeom>
            <a:avLst/>
            <a:gdLst/>
            <a:ahLst/>
            <a:rect l="l" t="t" r="r" b="b"/>
            <a:pathLst>
              <a:path w="188" h="154">
                <a:moveTo>
                  <a:pt x="0" y="154"/>
                </a:moveTo>
                <a:lnTo>
                  <a:pt x="27" y="149"/>
                </a:lnTo>
                <a:lnTo>
                  <a:pt x="54" y="144"/>
                </a:lnTo>
                <a:lnTo>
                  <a:pt x="81" y="82"/>
                </a:lnTo>
                <a:lnTo>
                  <a:pt x="107" y="103"/>
                </a:lnTo>
                <a:lnTo>
                  <a:pt x="134" y="26"/>
                </a:lnTo>
                <a:lnTo>
                  <a:pt x="161" y="0"/>
                </a:lnTo>
                <a:lnTo>
                  <a:pt x="188" y="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040" y="4592520"/>
            <a:ext cx="13788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3" y="0"/>
                </a:moveTo>
                <a:lnTo>
                  <a:pt x="87" y="87"/>
                </a:lnTo>
                <a:lnTo>
                  <a:pt x="0" y="87"/>
                </a:lnTo>
                <a:lnTo>
                  <a:pt x="43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9560" y="4524480"/>
            <a:ext cx="137880" cy="136440"/>
          </a:xfrm>
          <a:custGeom>
            <a:avLst/>
            <a:gdLst/>
            <a:ahLst/>
            <a:rect l="l" t="t" r="r" b="b"/>
            <a:pathLst>
              <a:path w="87" h="86">
                <a:moveTo>
                  <a:pt x="44" y="0"/>
                </a:moveTo>
                <a:lnTo>
                  <a:pt x="87" y="86"/>
                </a:lnTo>
                <a:lnTo>
                  <a:pt x="0" y="86"/>
                </a:lnTo>
                <a:lnTo>
                  <a:pt x="44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1080" y="4454640"/>
            <a:ext cx="137880" cy="137880"/>
          </a:xfrm>
          <a:custGeom>
            <a:avLst/>
            <a:gdLst/>
            <a:ahLst/>
            <a:rect l="l" t="t" r="r" b="b"/>
            <a:pathLst>
              <a:path w="87" h="87">
                <a:moveTo>
                  <a:pt x="44" y="0"/>
                </a:moveTo>
                <a:lnTo>
                  <a:pt x="87" y="87"/>
                </a:lnTo>
                <a:lnTo>
                  <a:pt x="0" y="87"/>
                </a:lnTo>
                <a:lnTo>
                  <a:pt x="44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4040" y="3600360"/>
            <a:ext cx="136440" cy="138240"/>
          </a:xfrm>
          <a:custGeom>
            <a:avLst/>
            <a:gdLst/>
            <a:ahLst/>
            <a:rect l="l" t="t" r="r" b="b"/>
            <a:pathLst>
              <a:path w="86" h="87">
                <a:moveTo>
                  <a:pt x="43" y="0"/>
                </a:moveTo>
                <a:lnTo>
                  <a:pt x="86" y="87"/>
                </a:lnTo>
                <a:lnTo>
                  <a:pt x="0" y="87"/>
                </a:lnTo>
                <a:lnTo>
                  <a:pt x="43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61160" y="3890880"/>
            <a:ext cx="138240" cy="136440"/>
          </a:xfrm>
          <a:custGeom>
            <a:avLst/>
            <a:gdLst/>
            <a:ahLst/>
            <a:rect l="l" t="t" r="r" b="b"/>
            <a:pathLst>
              <a:path w="87" h="86">
                <a:moveTo>
                  <a:pt x="43" y="0"/>
                </a:moveTo>
                <a:lnTo>
                  <a:pt x="87" y="86"/>
                </a:lnTo>
                <a:lnTo>
                  <a:pt x="0" y="86"/>
                </a:lnTo>
                <a:lnTo>
                  <a:pt x="43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32680" y="2830680"/>
            <a:ext cx="138240" cy="137880"/>
          </a:xfrm>
          <a:custGeom>
            <a:avLst/>
            <a:gdLst/>
            <a:ahLst/>
            <a:rect l="l" t="t" r="r" b="b"/>
            <a:pathLst>
              <a:path w="87" h="87">
                <a:moveTo>
                  <a:pt x="44" y="0"/>
                </a:moveTo>
                <a:lnTo>
                  <a:pt x="87" y="87"/>
                </a:lnTo>
                <a:lnTo>
                  <a:pt x="0" y="87"/>
                </a:lnTo>
                <a:lnTo>
                  <a:pt x="44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04200" y="2471760"/>
            <a:ext cx="13788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4" y="0"/>
                </a:moveTo>
                <a:lnTo>
                  <a:pt x="87" y="87"/>
                </a:lnTo>
                <a:lnTo>
                  <a:pt x="0" y="87"/>
                </a:lnTo>
                <a:lnTo>
                  <a:pt x="44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77160" y="254160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86"/>
                </a:lnTo>
                <a:lnTo>
                  <a:pt x="0" y="86"/>
                </a:lnTo>
                <a:lnTo>
                  <a:pt x="43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4480" y="260280"/>
            <a:ext cx="657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s saisonnières du pH et tempé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440" y="4978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95320" y="4275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7440" y="3559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2857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21416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,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5320" y="1440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4400" y="521172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i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544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14880" y="521172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û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9696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0440" y="52117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52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00760" y="5211720"/>
            <a:ext cx="23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c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5404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0520" y="521172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v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9856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31560" y="52117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8412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61320" y="521172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nv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304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47600" y="5211720"/>
            <a:ext cx="29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év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2896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59440" y="52117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89240" y="541800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-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4320" y="5211720"/>
            <a:ext cx="24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5760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61440" y="521172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2912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21172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i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768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3760" y="521172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i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660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6040" y="521172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û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812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1600" y="52117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368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5211720"/>
            <a:ext cx="23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c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6080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0240" y="521172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v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1972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51280" y="52117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0384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80680" y="521172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nv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2760" y="5418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4600" y="119232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3080" y="1440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3080" y="2141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3080" y="285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3080" y="35593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3080" y="42750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3080" y="49784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0240" y="1219320"/>
            <a:ext cx="24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3120" y="5832360"/>
            <a:ext cx="6913800" cy="330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3560" y="5997600"/>
            <a:ext cx="3855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1440" y="5942160"/>
            <a:ext cx="96840" cy="968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9800" y="587376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 K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0400" y="5997600"/>
            <a:ext cx="3855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5942160"/>
            <a:ext cx="96840" cy="96840"/>
          </a:xfrm>
          <a:prstGeom prst="ellipse">
            <a:avLst/>
          </a:prstGeom>
          <a:solidFill>
            <a:srgbClr val="00ccff"/>
          </a:solidFill>
          <a:ln w="14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5920" y="587376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05680" y="5997600"/>
            <a:ext cx="3855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43920" y="5942160"/>
            <a:ext cx="109440" cy="10944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32640" y="587376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7680" y="654120"/>
            <a:ext cx="8634240" cy="5549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4200" y="632952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 lé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6:27:42Z</dcterms:created>
  <dc:creator>_</dc:creator>
  <dc:description/>
  <dc:language>en-US</dc:language>
  <cp:lastModifiedBy>_</cp:lastModifiedBy>
  <dcterms:modified xsi:type="dcterms:W3CDTF">2006-03-13T09:08:06Z</dcterms:modified>
  <cp:revision>2</cp:revision>
  <dc:subject/>
  <dc:title>Diapositive 1</dc:title>
</cp:coreProperties>
</file>