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055-F66E-4C56-BFBA-CCCBC18D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825-7C5D-4784-8F7B-918A77C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918-3763-4DEA-8A27-897E2A50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13B-3F46-425D-BD87-B536C3E9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82E-0494-4FC7-99F8-335AFFE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656-0A83-43A9-8618-1A1DD35D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C72-51FD-4D11-840E-CED6D31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53D-4726-414D-888E-ED1AFCC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CD7-8B19-455C-824C-5B2BF94D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B90-C983-43AD-B78A-AC093BF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472-5372-4848-8197-4A8B783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406-42F4-4033-AB7A-68F79B7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8E80-0959-4E86-AA9D-CF69FC27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1920" y="942840"/>
            <a:ext cx="8809920" cy="5915160"/>
            <a:chOff x="331920" y="942840"/>
            <a:chExt cx="8809920" cy="5915160"/>
          </a:xfrm>
        </p:grpSpPr>
        <p:grpSp>
          <p:nvGrpSpPr>
            <p:cNvPr id="42" name=""/>
            <p:cNvGrpSpPr/>
            <p:nvPr/>
          </p:nvGrpSpPr>
          <p:grpSpPr>
            <a:xfrm>
              <a:off x="2981160" y="1523880"/>
              <a:ext cx="1600560" cy="1600200"/>
              <a:chOff x="2981160" y="1523880"/>
              <a:chExt cx="1600560" cy="1600200"/>
            </a:xfrm>
          </p:grpSpPr>
          <p:sp>
            <p:nvSpPr>
              <p:cNvPr id="43" name=""/>
              <p:cNvSpPr/>
              <p:nvPr/>
            </p:nvSpPr>
            <p:spPr>
              <a:xfrm>
                <a:off x="4124520" y="1523880"/>
                <a:ext cx="457200" cy="1600200"/>
              </a:xfrm>
              <a:prstGeom prst="cube">
                <a:avLst>
                  <a:gd name="adj" fmla="val 8645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>
                <a:off x="2980800" y="2209680"/>
                <a:ext cx="533160" cy="228600"/>
              </a:xfrm>
              <a:prstGeom prst="leftArrow">
                <a:avLst>
                  <a:gd name="adj1" fmla="val 50000"/>
                  <a:gd name="adj2" fmla="val 58307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19200" y="4572000"/>
              <a:ext cx="457200" cy="1581120"/>
              <a:chOff x="619200" y="4572000"/>
              <a:chExt cx="457200" cy="1581120"/>
            </a:xfrm>
          </p:grpSpPr>
          <p:sp>
            <p:nvSpPr>
              <p:cNvPr id="46" name=""/>
              <p:cNvSpPr/>
              <p:nvPr/>
            </p:nvSpPr>
            <p:spPr>
              <a:xfrm>
                <a:off x="619200" y="4924440"/>
                <a:ext cx="457200" cy="122868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19200" y="4695840"/>
                <a:ext cx="4572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00" y="4591080"/>
                <a:ext cx="457200" cy="104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9200" y="4572000"/>
                <a:ext cx="457200" cy="19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19200" y="3552840"/>
              <a:ext cx="457200" cy="10191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9200" y="1600200"/>
              <a:ext cx="457200" cy="10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305000" y="2209680"/>
              <a:ext cx="340560" cy="213480"/>
              <a:chOff x="1305000" y="2209680"/>
              <a:chExt cx="340560" cy="213480"/>
            </a:xfrm>
          </p:grpSpPr>
          <p:sp>
            <p:nvSpPr>
              <p:cNvPr id="53" name=""/>
              <p:cNvSpPr/>
              <p:nvPr/>
            </p:nvSpPr>
            <p:spPr>
              <a:xfrm>
                <a:off x="1305000" y="2266920"/>
                <a:ext cx="104760" cy="104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66640" y="2209680"/>
                <a:ext cx="17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05000" y="2770200"/>
              <a:ext cx="104760" cy="1047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67000" y="271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05000" y="3456000"/>
              <a:ext cx="104760" cy="10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6640" y="3398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05000" y="4152960"/>
              <a:ext cx="104760" cy="10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67000" y="409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5000" y="4838760"/>
              <a:ext cx="104760" cy="104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6640" y="47815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05000" y="5533920"/>
              <a:ext cx="104760" cy="104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6640" y="54770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4320" y="2637000"/>
              <a:ext cx="457200" cy="3528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46560" y="1523880"/>
              <a:ext cx="609840" cy="1600200"/>
            </a:xfrm>
            <a:prstGeom prst="cube">
              <a:avLst>
                <a:gd name="adj" fmla="val 640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1268280"/>
              <a:ext cx="31932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89400" y="2637000"/>
              <a:ext cx="0" cy="352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45360" y="1676520"/>
              <a:ext cx="1197360" cy="2890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7677360" y="2233440"/>
              <a:ext cx="152280" cy="304920"/>
              <a:chOff x="7677360" y="2233440"/>
              <a:chExt cx="152280" cy="304920"/>
            </a:xfrm>
          </p:grpSpPr>
          <p:sp>
            <p:nvSpPr>
              <p:cNvPr id="71" name=""/>
              <p:cNvSpPr/>
              <p:nvPr/>
            </p:nvSpPr>
            <p:spPr>
              <a:xfrm>
                <a:off x="7677360" y="22334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9640" y="22334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77360" y="3048120"/>
              <a:ext cx="152280" cy="304560"/>
              <a:chOff x="7677360" y="3048120"/>
              <a:chExt cx="152280" cy="304560"/>
            </a:xfrm>
          </p:grpSpPr>
          <p:sp>
            <p:nvSpPr>
              <p:cNvPr id="74" name=""/>
              <p:cNvSpPr/>
              <p:nvPr/>
            </p:nvSpPr>
            <p:spPr>
              <a:xfrm>
                <a:off x="7677360" y="30481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829640" y="30481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677360" y="3733920"/>
              <a:ext cx="152280" cy="304560"/>
              <a:chOff x="7677360" y="3733920"/>
              <a:chExt cx="152280" cy="304560"/>
            </a:xfrm>
          </p:grpSpPr>
          <p:sp>
            <p:nvSpPr>
              <p:cNvPr id="77" name=""/>
              <p:cNvSpPr/>
              <p:nvPr/>
            </p:nvSpPr>
            <p:spPr>
              <a:xfrm>
                <a:off x="7677360" y="373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29640" y="373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734000" y="1523880"/>
              <a:ext cx="2209680" cy="16002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l)-sil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i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arg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3674520" y="2397240"/>
              <a:ext cx="13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xyhydroxy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10480" y="1703520"/>
              <a:ext cx="322560" cy="40579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67920" y="4038480"/>
              <a:ext cx="60948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81520" y="1828800"/>
              <a:ext cx="7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94120" y="25923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94120" y="335772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3760" y="412272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04560" y="488808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04560" y="5653080"/>
              <a:ext cx="8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76240" y="2757600"/>
              <a:ext cx="304920" cy="152280"/>
              <a:chOff x="2676240" y="2757600"/>
              <a:chExt cx="304920" cy="152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676240" y="27576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676240" y="2909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676240" y="3535200"/>
              <a:ext cx="304920" cy="152280"/>
              <a:chOff x="2676240" y="3535200"/>
              <a:chExt cx="304920" cy="15228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2676240" y="3535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676240" y="3687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676240" y="4311720"/>
              <a:ext cx="304920" cy="152280"/>
              <a:chOff x="2676240" y="4311720"/>
              <a:chExt cx="304920" cy="152280"/>
            </a:xfrm>
          </p:grpSpPr>
          <p:sp>
            <p:nvSpPr>
              <p:cNvPr id="96" name=""/>
              <p:cNvSpPr/>
              <p:nvPr/>
            </p:nvSpPr>
            <p:spPr>
              <a:xfrm flipH="1">
                <a:off x="2676240" y="43117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676240" y="44640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676240" y="5089680"/>
              <a:ext cx="304920" cy="152280"/>
              <a:chOff x="2676240" y="5089680"/>
              <a:chExt cx="304920" cy="15228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2676240" y="5089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676240" y="52419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676240" y="5867280"/>
              <a:ext cx="304920" cy="152280"/>
              <a:chOff x="2676240" y="5867280"/>
              <a:chExt cx="304920" cy="15228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67624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676240" y="60195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742920" y="1981080"/>
              <a:ext cx="304920" cy="152280"/>
              <a:chOff x="3742920" y="1981080"/>
              <a:chExt cx="304920" cy="15228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3742920" y="19810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742920" y="2133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95040" y="3272760"/>
              <a:ext cx="1061280" cy="811080"/>
              <a:chOff x="3695040" y="3272760"/>
              <a:chExt cx="1061280" cy="81108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3810240" y="3443400"/>
                <a:ext cx="94608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695040" y="3272760"/>
                <a:ext cx="94572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7629120" y="3886200"/>
              <a:ext cx="381240" cy="53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676240" y="1981080"/>
              <a:ext cx="304920" cy="152280"/>
              <a:chOff x="2676240" y="1981080"/>
              <a:chExt cx="304920" cy="15228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2676240" y="19810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676240" y="2133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437360" y="4449600"/>
              <a:ext cx="171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a(OH)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529000">
              <a:off x="3269880" y="3524040"/>
              <a:ext cx="2239920" cy="309240"/>
            </a:xfrm>
            <a:prstGeom prst="rightArrow">
              <a:avLst>
                <a:gd name="adj1" fmla="val 50000"/>
                <a:gd name="adj2" fmla="val 181083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545200">
              <a:off x="5800320" y="51814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30880" y="5592600"/>
              <a:ext cx="94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80800" y="3048120"/>
              <a:ext cx="533160" cy="228600"/>
            </a:xfrm>
            <a:prstGeom prst="leftArrow">
              <a:avLst>
                <a:gd name="adj1" fmla="val 50000"/>
                <a:gd name="adj2" fmla="val 5830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057480" y="4889160"/>
              <a:ext cx="1850760" cy="1435320"/>
              <a:chOff x="3057480" y="4889160"/>
              <a:chExt cx="1850760" cy="1435320"/>
            </a:xfrm>
          </p:grpSpPr>
          <p:sp>
            <p:nvSpPr>
              <p:cNvPr id="120" name=""/>
              <p:cNvSpPr/>
              <p:nvPr/>
            </p:nvSpPr>
            <p:spPr>
              <a:xfrm rot="19083600">
                <a:off x="3743280" y="5257440"/>
                <a:ext cx="1219320" cy="304920"/>
              </a:xfrm>
              <a:prstGeom prst="leftArrow">
                <a:avLst>
                  <a:gd name="adj1" fmla="val 50000"/>
                  <a:gd name="adj2" fmla="val 99970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7480" y="6095880"/>
                <a:ext cx="533520" cy="228600"/>
              </a:xfrm>
              <a:prstGeom prst="leftArrow">
                <a:avLst>
                  <a:gd name="adj1" fmla="val 50000"/>
                  <a:gd name="adj2" fmla="val 58346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619200" y="2590920"/>
              <a:ext cx="457200" cy="1028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31920" y="942840"/>
              <a:ext cx="8809920" cy="1008000"/>
              <a:chOff x="331920" y="942840"/>
              <a:chExt cx="8809920" cy="1008000"/>
            </a:xfrm>
          </p:grpSpPr>
          <p:sp>
            <p:nvSpPr>
              <p:cNvPr id="124" name=""/>
              <p:cNvSpPr/>
              <p:nvPr/>
            </p:nvSpPr>
            <p:spPr>
              <a:xfrm>
                <a:off x="8555760" y="942840"/>
                <a:ext cx="5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305000" y="1752480"/>
                <a:ext cx="537480" cy="198360"/>
                <a:chOff x="1305000" y="1752480"/>
                <a:chExt cx="537480" cy="198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305000" y="1828440"/>
                  <a:ext cx="104760" cy="92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457640" y="1752480"/>
                  <a:ext cx="384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300" spc="-1" strike="noStrike">
                      <a:solidFill>
                        <a:srgbClr val="000000"/>
                      </a:solidFill>
                      <a:latin typeface="Arial"/>
                    </a:rPr>
                    <a:t>H Co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331920" y="1044720"/>
                <a:ext cx="109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%CE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96200" y="1044720"/>
                <a:ext cx="93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E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6018120" y="6453360"/>
              <a:ext cx="30592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&lt;footer&gt;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Fabre 2004 d’après Dufey 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16720" y="33336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t du chaulage : inactivation de l’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22:58Z</dcterms:created>
  <dc:creator>_</dc:creator>
  <dc:description/>
  <dc:language>en-US</dc:language>
  <cp:lastModifiedBy>_</cp:lastModifiedBy>
  <dcterms:modified xsi:type="dcterms:W3CDTF">2006-04-20T07:08:16Z</dcterms:modified>
  <cp:revision>5</cp:revision>
  <dc:subject/>
  <dc:title>Diapositive 1</dc:title>
</cp:coreProperties>
</file>