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03D6-7205-4DBA-B7EB-854CEB72B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3216-D772-4A86-920D-E461F8E4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AA0A-B614-4A3D-B6E4-8A5CE4F7C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102A-2AD9-4254-8694-35B852B4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0788-0EE5-47DB-A124-DF124D9A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CE8E-B868-419C-B1A7-9F1D6BC5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EE62-8675-47D6-A986-8ED82C79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70FF-BDAC-4B01-9152-3D53D8BB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84E7-1720-4CC0-B384-D4BC1460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3AD4-0A6F-4A29-BB67-33AEDC64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60A1-D2E7-4F10-89B7-483F7D88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6034-4581-4AC8-9985-D3229E00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1180-19FC-43F2-B148-454AB9919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8600" y="0"/>
            <a:ext cx="8915400" cy="6858720"/>
            <a:chOff x="228600" y="0"/>
            <a:chExt cx="8915400" cy="68587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228600" y="765000"/>
              <a:ext cx="4343400" cy="280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572000" y="762120"/>
              <a:ext cx="4343400" cy="28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4572000" y="3581280"/>
              <a:ext cx="434340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049840" y="0"/>
              <a:ext cx="472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État de surface du sol après l’hi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29200" y="990720"/>
              <a:ext cx="1371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as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4"/>
            <a:stretch/>
          </p:blipFill>
          <p:spPr>
            <a:xfrm>
              <a:off x="228600" y="3581280"/>
              <a:ext cx="434340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7448400" y="6490440"/>
              <a:ext cx="169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. Pernes, 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0880" y="914400"/>
              <a:ext cx="1371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H 5,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34320" y="990720"/>
              <a:ext cx="1371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H 8,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520" y="5486400"/>
              <a:ext cx="1371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H 8,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43800" y="5334120"/>
              <a:ext cx="1371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H 5,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885240" y="6400800"/>
            <a:ext cx="44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ositif des 42 parcelles (Inra Versail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0:05:27Z</dcterms:created>
  <dc:creator>_</dc:creator>
  <dc:description/>
  <dc:language>en-US</dc:language>
  <cp:lastModifiedBy>_</cp:lastModifiedBy>
  <dcterms:modified xsi:type="dcterms:W3CDTF">2006-03-13T09:27:59Z</dcterms:modified>
  <cp:revision>3</cp:revision>
  <dc:subject/>
  <dc:title>Diapositive 1</dc:title>
</cp:coreProperties>
</file>