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923-F117-4903-B881-779E0106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E8F-4260-4121-A451-4B057F63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5CC-315D-4A2D-9D21-2EFC3A98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FEF-611E-4DF6-A226-ADE834EA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DF8-3F7B-4B64-BEF4-2037DD68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D07-C06C-4784-92E5-B7E82941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113-157D-484C-86A0-209B855B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1F2-328A-408A-8B85-FB82301B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7C0-64A7-4733-BCEC-301FF0BD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226-6EE4-4096-B514-5F0F892C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0EC-344A-4160-B5F1-A90162D8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F1F-5E40-4DE9-A8A9-68C874CE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8453-CA5A-4242-B216-594D3583C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5080" y="865080"/>
            <a:ext cx="8464320" cy="5123520"/>
            <a:chOff x="325080" y="865080"/>
            <a:chExt cx="8464320" cy="5123520"/>
          </a:xfrm>
        </p:grpSpPr>
        <p:sp>
          <p:nvSpPr>
            <p:cNvPr id="42" name=""/>
            <p:cNvSpPr/>
            <p:nvPr/>
          </p:nvSpPr>
          <p:spPr>
            <a:xfrm>
              <a:off x="1571040" y="2278080"/>
              <a:ext cx="7178760" cy="30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71040" y="4545720"/>
              <a:ext cx="717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71040" y="3785040"/>
              <a:ext cx="7178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71040" y="3039120"/>
              <a:ext cx="7178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71040" y="2278080"/>
              <a:ext cx="7178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71040" y="2278080"/>
              <a:ext cx="7178760" cy="301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71040" y="2278080"/>
              <a:ext cx="1440" cy="30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5560" y="5291640"/>
              <a:ext cx="1051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65560" y="4545720"/>
              <a:ext cx="10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65560" y="3785040"/>
              <a:ext cx="10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65560" y="3039120"/>
              <a:ext cx="10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65560" y="2278080"/>
              <a:ext cx="105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71040" y="5291640"/>
              <a:ext cx="717876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1571040" y="5291640"/>
              <a:ext cx="144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005280" y="5291640"/>
              <a:ext cx="36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441680" y="5291640"/>
              <a:ext cx="36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879520" y="5291640"/>
              <a:ext cx="36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7315560" y="5291640"/>
              <a:ext cx="36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8749800" y="5291640"/>
              <a:ext cx="36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13840" y="5169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4200" y="4423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13840" y="3663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4200" y="29167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13840" y="2155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7160" y="5496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21400" y="5496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59240" y="5496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7440" y="5496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32040" y="5496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562960" y="5496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77200" y="574488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né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5080" y="172980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  du 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67080" y="3126960"/>
              <a:ext cx="4330080" cy="2162880"/>
            </a:xfrm>
            <a:custGeom>
              <a:avLst/>
              <a:gdLst/>
              <a:ahLst/>
              <a:rect l="l" t="t" r="r" b="b"/>
              <a:pathLst>
                <a:path w="1249" h="956">
                  <a:moveTo>
                    <a:pt x="0" y="956"/>
                  </a:moveTo>
                  <a:cubicBezTo>
                    <a:pt x="33" y="829"/>
                    <a:pt x="132" y="353"/>
                    <a:pt x="200" y="196"/>
                  </a:cubicBezTo>
                  <a:cubicBezTo>
                    <a:pt x="268" y="39"/>
                    <a:pt x="255" y="0"/>
                    <a:pt x="408" y="12"/>
                  </a:cubicBezTo>
                  <a:cubicBezTo>
                    <a:pt x="561" y="24"/>
                    <a:pt x="991" y="221"/>
                    <a:pt x="1120" y="268"/>
                  </a:cubicBezTo>
                  <a:cubicBezTo>
                    <a:pt x="1249" y="315"/>
                    <a:pt x="1216" y="303"/>
                    <a:pt x="1184" y="292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54240" y="3110760"/>
              <a:ext cx="2801160" cy="658080"/>
            </a:xfrm>
            <a:custGeom>
              <a:avLst/>
              <a:gdLst/>
              <a:ahLst/>
              <a:rect l="l" t="t" r="r" b="b"/>
              <a:pathLst>
                <a:path w="808" h="291">
                  <a:moveTo>
                    <a:pt x="0" y="291"/>
                  </a:moveTo>
                  <a:cubicBezTo>
                    <a:pt x="36" y="243"/>
                    <a:pt x="81" y="6"/>
                    <a:pt x="216" y="3"/>
                  </a:cubicBezTo>
                  <a:cubicBezTo>
                    <a:pt x="351" y="0"/>
                    <a:pt x="685" y="218"/>
                    <a:pt x="808" y="27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77960" y="1578960"/>
              <a:ext cx="0" cy="57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8280" y="919080"/>
              <a:ext cx="18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HAULAGE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REDRESS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89000" y="1524960"/>
              <a:ext cx="0" cy="57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56840" y="865080"/>
              <a:ext cx="158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HAUL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D ’ENTRETI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849200" y="6381720"/>
            <a:ext cx="39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’après Coppenet (1980) et Bussières (197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9680" y="208080"/>
            <a:ext cx="79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chéma de l’évolution du pH et stratégie de chau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1:25:21Z</dcterms:created>
  <dc:creator>Cécile TESSIER</dc:creator>
  <dc:description/>
  <dc:language>en-US</dc:language>
  <cp:lastModifiedBy>_</cp:lastModifiedBy>
  <dcterms:modified xsi:type="dcterms:W3CDTF">2006-02-28T16:53:11Z</dcterms:modified>
  <cp:revision>3</cp:revision>
  <dc:subject/>
  <dc:title>Diapositive 1</dc:title>
</cp:coreProperties>
</file>